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0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</p:sldMasterIdLst>
  <p:sldIdLst>
    <p:sldId id="256" r:id="rId36"/>
    <p:sldId id="257" r:id="rId37"/>
    <p:sldId id="258" r:id="rId38"/>
    <p:sldId id="25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" Target="slides/slide1.xml"/><Relationship Id="rId37" Type="http://schemas.openxmlformats.org/officeDocument/2006/relationships/slide" Target="slides/slide2.xml"/><Relationship Id="rId38" Type="http://schemas.openxmlformats.org/officeDocument/2006/relationships/slide" Target="slides/slide3.xml"/><Relationship Id="rId39" Type="http://schemas.openxmlformats.org/officeDocument/2006/relationships/slide" Target="slides/slide4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E898-5861-4EDB-BFC0-42D7844F3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2E5E-613A-40F0-9543-7DDE1EBBD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D9DC1B-2BA9-4622-A1A3-0CD23BD2E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72FBD2-5BB4-4924-9C06-CB4D88485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84AD76-6B1E-49A7-BAED-0277A8E36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A7D269-51BE-47EF-AD66-BE1CCA671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1AB91B-FD4F-4886-87BC-9B3C78F3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8324EA-2B68-461C-9C44-9DCCDDCD4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824FEF-7048-4AAA-94DE-067BEF218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EF1471-5971-4FC7-A368-B33AC4BB1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9F3FA7-63B7-4BB4-9522-74AA82F02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5D07A9-7481-4788-98D3-1C52A0FFE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26C8-8EB3-439C-9124-DA85568F8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3EB1C9-1CA5-408E-B8B2-03280C720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9F7D34-5E95-4CB1-9E41-9608BBDC9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171E22-814A-4E6A-A3B2-6FF3421D0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1534D3-4D8C-4439-83BE-5ACBFC289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D0E7B4-9953-4A24-9C70-6825A9D0E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8ED27E-EF6E-485D-ADEA-CFDF8342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D0F1A0-91D1-41F3-A772-6FCD459A1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3D3C98-BD85-458A-B24E-1961334D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D968CE-3D84-4E7C-A71B-68D04EB31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684E8A-C99C-4CBC-8974-408A9EE30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3DA6-F2BC-4832-A81C-946A85C8C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422AA6-C748-41A0-9D8D-7BAD3061D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105AEB-B379-4199-B5C7-D6BF29A8A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9BF8D2-CC13-44E5-B67A-40894B492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96B1F3-1ED7-4D0E-AC30-441BFDDC2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89CA00-A085-4168-858B-EA282BCE0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6F26D5-CD1F-4851-94CC-EE63E1A72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8A8CB8-D45D-4751-B703-FBC8C6247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F8B476-6CBD-4CE5-9987-B682EFC5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9099FA-D139-4868-9E84-672D2E0BA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5914E8-B052-4A53-831C-2C6E2155D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1D0C9-F774-4582-B612-2E89B7FE9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901E53-B735-4AB7-B47D-7069FAEBF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97AB62-C087-4C4C-9A0C-7E091A64B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90D9FC-D84B-44B2-AC74-48B1C5B8C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9252941-EA8D-4F3A-9A19-85A00DAA8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C2D9617-B594-4906-B9E2-8DA5AC32A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CDE707F-DDB3-4AFA-A44B-BD1F11335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60EA9A3-944B-49F3-A99F-9034694FD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A9E638E-A62E-4680-933A-46EB1E2D2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AFADBFF-7A3F-4E13-B59F-B6BB2AAA0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78B0EC1-AFFF-4F8C-909A-8A93CF525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B8EDA-0CFB-4ED2-B8E8-6A8ED03E8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FF4F45F-D9E2-4A5B-960D-58407693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3B36F3E-3EBC-4792-8592-A7D0EDD3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826F978-1537-481E-A9F0-389CBD725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DFC0517-5F12-4AAB-926B-E65BD7FEB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0DBD7CF-336A-455A-A726-D878FD8AF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F26BCF-8677-4666-A053-1E16CF24B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952932-A5D4-43DC-BD6F-DFF71CE06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9AF998-7208-4D6A-86F5-2C9EE59EE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06A308-AED0-4718-AB70-91916A209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84B452-2971-4DAB-8FE8-E302CC80A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F3CD5-5267-442B-B22B-80320106A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A5FD64-38DC-40B4-96B2-2BEF45C72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F4070D-92E5-4FF9-B7EA-CB809CC99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C85B57-477E-4919-B88E-B70493FF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C306EA-57BC-4B58-AD8A-B16699917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6AB313-380D-4929-A8EB-DDC0591D1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E1589E-193F-4C83-89F4-9D5344BA5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65A48F-7BA4-4A68-B81E-D8DC4D646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B5AE979-4184-48F6-B6A5-E80300019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EF49748-87F1-4072-B4D4-AE225DE88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296DCB2-9EF6-4710-AF3B-FE4BD882A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FD47A-A380-4F75-AE97-DE322A35E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DB6E7F4-2722-48B6-A999-6B0E88229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4EC8180-2234-42D6-B3EF-6FF583401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9EF85AE-AFA4-4C8A-BD4F-36EE2C827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EC7ADC7-2AA0-4104-8222-122AA964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9531C5A-A4CD-4852-BE25-B1AF3A2C7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DF38736-817B-4D1B-92C7-45383DD21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E4C5BC0-4EDF-451A-8600-D9816AE52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BEA4B11-D56B-4269-B970-864977849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02A1278-9CB4-4999-9B24-CE07896FD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BA7413F-48C9-4E63-9A6B-50A124109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F13A6-F052-4CDA-A7C7-54FA90E9F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B226909-8D72-44EC-B75D-209D51BA6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2E4AA50-E6D3-4A78-A772-421579C45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F82EC7A-34A2-40C8-8C80-C91ACC628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981E009-209C-4825-853B-48CC82EF2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822FBDE-2686-4A49-8AAC-2574A9963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3B411E7-A20F-49B1-8B2E-DA69A781D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AC79C5C-CD27-4EEA-9FA7-93164641E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4F54E4F-CDE5-4137-A107-80E5E1CBD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7DE2F79-C2AA-487E-AD10-2134714A8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281EBF9-563F-4C51-8310-D724A6A6F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AA781-8BCB-4DD5-8D00-6B6480BDD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57EA710-F3A5-49DD-9F5C-955FEB21E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7F722B0-6FB4-413E-B088-DA66C774B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CC60BD6-6616-491E-A297-91DC8D355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B9B1B04-1C14-4E75-9E05-391440C44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EA061F9-2AED-440E-8FCC-06E512B8E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228E181-51DE-4F8A-A118-A4FDF815F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452D684-E88B-438F-B4C8-3D3C66A7D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59D0A9B-60A4-40B3-8F8A-75F2CF3A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8A12FBA-4F8D-436B-9376-6EE9F4EDA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EB54B95-B6B9-4A61-9B79-7E65597C4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A3A1D-B36F-450E-997D-3CBECC302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3AD63C2-66B0-49DD-B52A-3343E0F52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87A2219-67B6-4181-B3C0-C1090507F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BF9EB26-A432-4971-9DFE-D296C66AA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76A240-3C9B-43C5-AD73-A054C59F3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ABDD3E-E773-4819-BA47-57DC5ACD1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E09D75-5D38-4306-A24A-5D88A1340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CED815-BEBC-47C7-9F1D-1A5F528AB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D8D29F-C6BE-4EF4-B741-746F4E57E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EBF93D-DFFB-46F0-9AE6-A8187F4B2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5D6BD4-305E-48A7-833D-4847E350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4010-0537-43A2-BA27-0312B0B79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A71A6-88AC-4A95-89D4-DBAE5751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4A9449-1332-49EF-960D-689A98AB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B1D9B5-A241-44BE-8A71-83E653805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848EBA-442F-4B14-A670-340953FE6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BB94EE-5B24-40A2-B4F5-69CCE0558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61C95C-C87F-49FD-9265-BAF238CA9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032CBF-A5A5-41F5-8FDB-477F8F10F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F0043E-7040-4B56-8927-C1E737DCB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E3DD7B-C4F8-4A4B-8B51-F538A54F8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45A8A1-C782-40C8-8EED-D48AB9B84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2FFC36-6307-48F0-A1DF-195D252A2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77D36-90C7-4113-906B-67A38C36A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647029-00A5-470B-AA09-B4E3A0934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2BB804-71E9-4FF3-962B-A1FD915A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1924AE-A550-4B5E-98FD-4879CEF8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12B520-6C11-414D-BC8F-6103A19BC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7BC845-E20D-4067-B4C5-8D4C2D9B1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4C9E94-E2A9-4036-908C-754D9AFCF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A80E17-A4AA-4712-A14E-7FC331CEF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813500-E4B3-4778-B71B-98CEE574C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2B6401-A96E-4CEF-9F64-07F07C72E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BF68B0-B221-4C4C-BC5C-96EDB027F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BB4AA-EE50-49F4-AE64-36532829C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DD939D-66E2-483C-A2D7-59F81D635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BA91B3-914D-4247-8117-70CE709FB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3347EE-11E1-4BAE-B58B-9B3ADF2D0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D8A965-8C83-4ED3-B7CF-12E7325B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41565A-554C-41DF-8461-B6D2E901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C394F4-72E9-4A43-B7C4-87A4BC59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B2B761-E40E-4B98-B48A-BB2AE6B90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58236C-E69E-4F7B-B696-8F3D38526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43E32E-4CFB-4B4F-AB4C-4EEBD8507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FB1FA9-4E77-4C84-9BFE-87037C926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84A60-F86F-4CC2-9904-21902C7C4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624B2D-AAFB-4FBF-8E40-63F58566F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B88A55-14E7-4DC4-B249-274AB0735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5F686A-4987-4AF1-ACCD-EF027D47F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3FC593-6F5B-4A30-A237-8494FCBCE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FB043E-E4F7-4AF4-8ACE-4FC2BD8E3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B493A5-2E99-4568-8605-8B391352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083602-29E4-4876-BD79-4BEE9AAF6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9BF365-3F16-459C-82E0-4DCDD2E45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8E2E48-58A3-472F-B2F3-A27C0BAA6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9B83AD-A7A1-4DF9-B7A5-8D7E02A10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BDA80-1D72-4BBD-BACC-7781421BF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863948-B165-4571-97CC-E88CC534C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D66A72-FBD3-49A0-A967-5BD2113E1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39E178-854A-4EA0-AB88-9315541F6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AE1EFF-C2E2-43F7-870C-22CF12095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9C5FD4-5883-4609-BEC2-77B0901CA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2D5853-120D-46A9-BBE9-DBCBCD4F8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AF3569-CA4A-4E80-AC4B-C5095068D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B515A3-3B9D-4411-83C3-0197DD8DA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196D5E-DBC9-4A6F-90A8-16CF4D9FA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92AB85-D126-453D-8331-CD3FB1BB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30002-0C3B-41B5-A391-43AFE415E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1F349B-C8EA-4426-A63D-22E07EFB9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4345EB-F17E-4F91-9D08-55326D594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B4995D-0CCD-4F1A-9B40-EE5D0A46F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F46185A-47B1-48CF-B830-7AAEAD61D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E999F30-F0BD-4494-9E44-8670EB674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8AEF9AD-834A-4AF2-AFA9-5965AEF97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21F6713-5AC0-4884-B7E1-6B813B46B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CB19A0C-64E8-437D-B8DD-AD4C0D91F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68107CA-C016-4C5C-928B-6C3D8072C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D06B7BD-A30C-4570-B499-D68858BA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9E23A-559E-4207-AE3C-1F9DAA336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F66CE67-55FE-4099-933A-838B6836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62B7A6A-300A-4E1E-8CA7-7D34FE437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0D27369-1BED-45E5-99D7-F5FF71EEE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D385B0A-F5FB-400D-A208-705C63C8A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AC25F38-0BE0-46D7-B4F0-5D4BAFF6A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FF13FEC-CBA7-4481-B516-C40A9FBD4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A5DA48A-A037-4150-9F19-19293956D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AA69CAC-3B97-4B26-9F25-546332805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88A7FEE-CE07-47CA-A689-14D6F3180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D458172-1203-4CC0-8CCD-A7672ED80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B779D-D8B7-45FD-AD5E-CFDCE7508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E11024B-62C4-49C8-A169-EF4B10C81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02D7B58-36E7-42EF-9981-F7546A080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80E7C6B-1663-4B67-A03B-1A4B6D6A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D2447C3-A813-4DC1-827F-345917709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4C637BD-C77D-4B28-9AA3-AEE3EDBCE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515B218-73D0-4E35-AF38-98A53BB5B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93C8900-E93B-4A67-BA4D-462DE3209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DD29C395-CC15-4AF2-B675-AA4D2A1BC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763C3E9-6726-4425-B6D2-92B95EBE9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EE09F498-5BC2-4788-9309-F40017886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5CAFA-80FE-4B03-9CFE-366012711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00300EA-D484-44A7-AB2F-D9BD5537F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72C7DDA-5BF4-4565-B1A1-C8443B22C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1111F953-F421-4AA4-A8EA-995B9EF63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73D6F241-53E6-4D95-886E-4AD6469D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BD3FCE3A-435B-46B7-ABA9-CD5925B3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4ADB9980-7DD9-4BD7-9868-6A5C9052A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3FBD0F32-B10D-4951-9856-D82F78BB7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D6EE0DB7-9346-48AC-9CDC-45B7AAC59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A6367FFC-9F16-4E89-9D57-F072B3CAB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BC6DF8E9-4EDD-4E12-A375-28ABD0F62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DCB6E-763E-40FA-89A8-1EE2EB37B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652FAE48-3FA1-4778-BFB5-657FD0B94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C17EE560-A08C-4F05-B766-55B786208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ACAB5977-AA69-43DF-9A27-142A172A5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48FF5C0B-C0EC-4137-8ADF-9AE8F4E2B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8D0F6673-9D81-4F22-A8AE-A5CF028AD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09C48F73-16B8-4686-BF2E-DEF593FCC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61EA1C95-D458-405D-BDD0-F146520B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6BBF4370-08E1-42B4-B5F3-467262F09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403CA9CB-870A-4A20-957C-06D815336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6BCEC975-A4C9-408D-9CC3-1F2F6B14C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F4DA-9DC8-43AF-B213-D329ADE0D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2D8B5-B6E8-410F-9614-51E39DB17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27A8E011-9BCE-48FD-9197-B26443474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2627EBD-DBC0-442F-A6F7-ACACEAE83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8F5D350-0854-451E-9389-FFFF5932F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D44782B-6876-4E6D-80BF-8E5174FBE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216C708-D241-4577-B601-F4C2701E1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AC04237-1235-4B6C-8875-A53A7D00C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516C5B7-D52F-44D1-90E8-7A0A7EC54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2DC19AC-F712-4CF4-AB7A-2C37F008A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49AB362-606F-4F81-8C56-CF468AA8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BD2EC18-4CB9-4EA0-B648-DB3F40BE2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C9CED-1D9D-4920-9CB5-54D9203DE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3DF8077-94F6-41C6-A540-990ABC0E2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42BEBF4-5860-44C6-9EED-9FABEDA78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1F01D71-C21E-4D81-9321-414B95F23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3D9C52FB-C1EA-428F-A798-D32A45FF6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C1A60FE3-C0E6-4CC4-BC9D-53B6ADF3D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7667CD87-E263-4B21-B6AF-A26A8E0C3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E9E9A3C0-4FF3-4696-82D8-AF1289156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C88875E2-BE58-4AF4-AFB0-53EEAF976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9D814A13-4FC2-45B9-8DCF-FAE81C215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CD57457A-65F7-470F-9083-65EB8408B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F467F-9E30-4D11-941C-51502586A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1719C817-E52F-434C-9D9D-21897ABB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DACC0484-0B8D-4BCB-BDA5-2FEABAFDF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0D97752A-4CC3-4821-9C5F-AF958E93D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1B1313B5-EB23-4E64-A530-67A100D3D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31A3AFFD-CBB3-4BD6-817F-7E064A7B4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0210A2A-3DEC-4D60-AEF1-0A893444F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CEB9A71-8477-4F98-9FFC-C8ED02E38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983C4BF-B203-49E4-925B-6D5CCD6D2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12F3F0B-90D4-4804-A491-74B296CC3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5A11240-913B-4C93-A6A0-80D3E35FA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BCF02-41B2-41A2-9634-190D89B84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099AE15-4305-48EA-9AF0-2D719B189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5BFE46E-B3E8-4040-A214-7F290399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30C7F7B-C5B8-4E88-994C-177529218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EB6207C-AC09-4178-8581-17C5D88D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99AFA86-8E5C-4113-85EC-2E43E3BA3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31D89F8-7419-40BA-B2CF-3D15245DA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8335239-BEEC-4835-AEC4-482FCBBB7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E87D3E6-4C42-4234-8483-27B16F4B5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8B3DEBE-9163-453D-9A08-4B9FC7868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BCCD6CB-0471-4235-B1B5-B76C17D97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B0238-84F1-4DD8-B8B0-301397783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3661F3B-5F51-4032-8DD3-EFD0E07F5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1A9F727-1AC9-4C7E-8680-E8F9D6A7D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6B20847-779C-4FE0-8B11-0A122E3A6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AF44CBB-9DC7-40DA-85AE-2FD94A25D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ECD77BE-4911-4E84-A737-80B148FC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3FDDFFF-ADBE-4208-AFFF-B0DA7C62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7968B27-C15E-4E92-B427-381BD2A3A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6B5A3FC-05A8-455F-B281-0F4C3FB64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ED21434-7722-4D95-87AC-0524557D5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6161791-F639-4BB8-A2D0-78EA6F2B8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D7902B-3220-4E62-95A0-7915FF109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2FC99E6-ED8C-4E30-A6D6-9F2E88DDC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1B92635-97E0-409E-BEDD-8D837E25C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CCA96A9-A187-439C-BC2F-87089BCFF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9A25ED4-E4F5-4DC9-88A4-B395D4F65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0CD77D5-D1B2-483B-B949-57E5897F5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971CFEA-B56F-42F7-8ED1-0820A95B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6EBC6BB-1EE6-4228-9A79-757FA877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90C5A07-BCC8-45F5-B2BA-C45095D7B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2D978B0-1148-460A-873A-F20C0C82E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183FCF4-3F2E-461A-8109-ABD2EA146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11F47-D66F-4FCD-8C91-3B232C6DD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1E9AA47-27B9-4707-9E86-0C377304B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C9DABE6-056D-458A-87BE-0E9068F5B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9DBDF2D-0C46-4A97-8883-850B05986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B215C7D-E3B4-4668-98D2-A912B1A8C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80EF4D4-FF68-435D-AC6E-F0A8A7536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83AAB17-706D-4B74-ADC2-FB0AFBC03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2EAF1E5-8DD5-482B-8CBF-50C79FD4B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6CE7460-62AC-4C85-A21B-9F73494A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C7897F9-337D-4B3C-B3C4-A16A46C5F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31F39B8-D46B-417E-BF42-F7E55D8D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F8226-E0EF-46C8-8ECE-F57A0BF19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89269AC-3EF7-47CC-ADFF-DD0583B98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D798BD7-87DA-46DE-B18D-FBE147B6A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D01D2B2-40BD-4CB3-8F70-E4F2131B8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842FA88-C206-4313-A3B7-81C529639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A2DDA78-B03D-44B6-9DE8-AAD2EB3F2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A1C1680-D351-49EF-A62F-C1461BA8F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7C29217-F3CB-4EC3-A796-FD87410C3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851788F-DA8F-4197-9E8B-F4AFFE99D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B80019A-C056-4460-8AF0-5AD9669C1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F8907A7-008D-449C-8826-16D1A358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0B37D6-2BDE-4A0F-A35C-E115779D3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7A37846-AE72-43A6-A462-3C955B66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302D8C7-7638-44E0-953F-0EF1F06C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1B3AA83-168E-46A2-9357-CC1BE6AB4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BE93FB5-0B30-4593-B086-670E3B90E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EA340B7-445C-481A-8855-F94AFFD86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97EDB58-FAEA-44C6-898E-4B1737368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130C94E-3012-4C3E-A5F1-A7577E96B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B3CCD72-CE0B-4616-864B-2AF1E1CC9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1670426-D942-4C93-A6E2-622169CF4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19544C2-31C3-4A03-9C5F-8A7409289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A48ABA-4C00-4C30-9F1F-5034E4075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FE9D894-93D0-438F-8A28-CB35F09F6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C7C595E-B130-480B-B629-95CDC3E7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1CBA91E-AFB9-4163-ACE9-6AE65CD47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26AB9D6-BFE2-4715-8E85-2839EF172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20B31A2-4D61-4B14-8EAB-4867871C8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FA2CC54-7F59-4A6A-892D-CE72EBBDC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DCE2535-A6DB-4419-B4FF-D30D2E490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2886EF4-C578-425F-AB7C-DC4FBD4E5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D5BA2D6-C31D-416B-A1DA-35A835F7E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FB49F5E-1BDF-4B17-9EF1-8AAF55ECC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C1E0-DD52-4C1C-B0C3-7C0B02E65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BDA89-43E0-4DF8-B33A-22C0DF1A7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E072E61-DDC1-4056-8127-B123486DC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5B9CEB2-5DB9-4158-BE56-3B940406A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F501989-2A14-4E7D-900C-CA6F1679E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E65BDB3-5626-45B0-B1A6-85398C4E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32618C8-3B2B-4D8E-9CD2-25D2CDFB9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FAEF2EC-1802-4199-91C9-5C8C7347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8734A20-727C-4314-8CA1-9838DF11E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F0AEC38-9EF9-4589-9B16-D6E59363B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4720DA5-8107-4D19-9A28-0B6EBCF18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9260A-515F-4BD1-BDEC-17BF71B02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184EB-9CD0-4E89-9FC7-8D0B1ED8E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3046F-26B0-46F2-A856-620B09C0F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4A4AC-E69F-4E80-9CBA-381B5C4B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0F0EE-584C-4074-B7FE-B7F131701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2FDAF-FF45-4E8E-BADA-8C06A1EF2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3D6BB-3221-4C8D-9A12-208B4CE6D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DB57E-7FCE-4566-A5FE-F382EC799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EA1AC6-5C39-417D-AB99-25520BF58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B990-A151-498C-848A-F4E449211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99A660-981C-4D1F-BE27-A21AEBFEA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493EA-6A4B-440D-912B-0F09B6194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85E31C-492C-4D22-B5CE-B54A4338B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32651-C8CB-47F9-A408-A9B7ADBAD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CB929B-F47E-4852-8CB4-329B89E82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9FB0C-5AFD-4591-A70A-9E68D11BF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E653C-BDCF-4B75-906D-2CB621FC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FB785-EEEE-4E57-B863-84885A95C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4637D3-94A6-4907-92BE-A264F7D99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F4CC5D-F262-4A0C-8137-BD32731BC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045A-D4D9-4945-8DE2-743EDDB0D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E03A5-7C1F-49CC-BBF5-B9099757B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2C0DD6-06B6-4C16-A4C1-0B221D504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839743-BDC8-4BB8-A6A6-9E41D5F33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C88183-0AE0-4B5C-99EE-7CA67CB4E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03DB7D-150C-41F1-A79F-51FF3E1E5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150C53-F356-4E80-A1BC-6A3098E9F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9B367E-01FF-45BC-9FFA-A7330FB57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529834-BD0E-4771-A2E6-8AB88EDA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234AE4-4D28-4C57-A8EF-6DD80B3AA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D07A78-CF19-48ED-9BAD-B0D013590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B0CA-8316-4F81-B3EA-5B3311BAC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44CA57-A3E6-402C-8D1A-269DC010D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2D4B7F-35E7-4971-BEC9-9F0566178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C2798A-3B3A-46FB-A081-6771D8D2C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3F81C6-355F-4EDB-829A-AEE1F2D30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6E2B1A-4AC7-452B-8802-99E4D3334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BBFE31-2645-4E69-A8D6-03A749043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FBE7C0-D0FC-4115-9374-21EE3854C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23551E-82BE-4E1D-A188-F9C459C40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55A51A-0B4C-499F-B33A-83DC19A8B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F1A296-975E-4A18-A284-B0AAD9FB2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32AF-E930-498F-9078-F474A432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DD0CF2-BB09-4B48-873F-6C4C93835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F0BFCA-AB87-4C5A-913A-C32374D22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05E518-7882-4768-B2E2-CE77D4AE7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366AA9-60D8-4AEC-8023-DC689D9CC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070B87-E6EC-4CF9-B378-0C3937FD7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6E2288-400C-4B17-86D1-8EDEDA136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51FDD1-10DB-44DE-BB2A-5D0DBAE16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BCD278-E60B-4A0D-95BD-5F8A7D53E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F22551-7370-4E88-832D-DB418166B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D27DB9-DD18-4A14-B6E4-E3682DD1F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A942-35B9-43C4-B8E7-92C531170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C5D05B-FD4F-4A23-A1EA-EAF7F6655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F5B470-8685-4839-A4D1-0EB64E89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940100-9ADF-43B8-ACCC-6F2E9F49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4C2EA2-EE48-4122-ADAF-8280B928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2CB73A-B860-4974-8BD5-423A63C3D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5CD41F-AB8E-4730-8ECD-F8D9A6CEF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152D1E-46D8-4B15-B306-F0EFC290A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376067-7876-44D6-A762-9F66E5C1D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FBD853-BCD6-489F-AFC7-BDB1F486E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D85CB3-CAAB-47C7-856A-7E710D5E2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37.xml"/><Relationship Id="rId6" Type="http://schemas.openxmlformats.org/officeDocument/2006/relationships/slideLayout" Target="../slideLayouts/slideLayout338.xml"/><Relationship Id="rId7" Type="http://schemas.openxmlformats.org/officeDocument/2006/relationships/slideLayout" Target="../slideLayouts/slideLayout339.xml"/><Relationship Id="rId8" Type="http://schemas.openxmlformats.org/officeDocument/2006/relationships/slideLayout" Target="../slideLayouts/slideLayout340.xml"/><Relationship Id="rId9" Type="http://schemas.openxmlformats.org/officeDocument/2006/relationships/slideLayout" Target="../slideLayouts/slideLayout341.xml"/><Relationship Id="rId10" Type="http://schemas.openxmlformats.org/officeDocument/2006/relationships/slideLayout" Target="../slideLayouts/slideLayout342.xml"/><Relationship Id="rId11" Type="http://schemas.openxmlformats.org/officeDocument/2006/relationships/slideLayout" Target="../slideLayouts/slideLayout343.xml"/><Relationship Id="rId12" Type="http://schemas.openxmlformats.org/officeDocument/2006/relationships/slideLayout" Target="../slideLayouts/slideLayout344.xml"/><Relationship Id="rId13" Type="http://schemas.openxmlformats.org/officeDocument/2006/relationships/slideLayout" Target="../slideLayouts/slideLayout345.xml"/><Relationship Id="rId14" Type="http://schemas.openxmlformats.org/officeDocument/2006/relationships/slideLayout" Target="../slideLayouts/slideLayout346.xml"/><Relationship Id="rId15" Type="http://schemas.openxmlformats.org/officeDocument/2006/relationships/slideLayout" Target="../slideLayouts/slideLayout347.xml"/><Relationship Id="rId16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49.xml"/><Relationship Id="rId6" Type="http://schemas.openxmlformats.org/officeDocument/2006/relationships/slideLayout" Target="../slideLayouts/slideLayout350.xml"/><Relationship Id="rId7" Type="http://schemas.openxmlformats.org/officeDocument/2006/relationships/slideLayout" Target="../slideLayouts/slideLayout351.xml"/><Relationship Id="rId8" Type="http://schemas.openxmlformats.org/officeDocument/2006/relationships/slideLayout" Target="../slideLayouts/slideLayout352.xml"/><Relationship Id="rId9" Type="http://schemas.openxmlformats.org/officeDocument/2006/relationships/slideLayout" Target="../slideLayouts/slideLayout353.xml"/><Relationship Id="rId10" Type="http://schemas.openxmlformats.org/officeDocument/2006/relationships/slideLayout" Target="../slideLayouts/slideLayout354.xml"/><Relationship Id="rId11" Type="http://schemas.openxmlformats.org/officeDocument/2006/relationships/slideLayout" Target="../slideLayouts/slideLayout355.xml"/><Relationship Id="rId12" Type="http://schemas.openxmlformats.org/officeDocument/2006/relationships/slideLayout" Target="../slideLayouts/slideLayout356.xml"/><Relationship Id="rId13" Type="http://schemas.openxmlformats.org/officeDocument/2006/relationships/slideLayout" Target="../slideLayouts/slideLayout357.xml"/><Relationship Id="rId14" Type="http://schemas.openxmlformats.org/officeDocument/2006/relationships/slideLayout" Target="../slideLayouts/slideLayout358.xml"/><Relationship Id="rId15" Type="http://schemas.openxmlformats.org/officeDocument/2006/relationships/slideLayout" Target="../slideLayouts/slideLayout359.xml"/><Relationship Id="rId16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3.xml"/><Relationship Id="rId6" Type="http://schemas.openxmlformats.org/officeDocument/2006/relationships/slideLayout" Target="../slideLayouts/slideLayout374.xml"/><Relationship Id="rId7" Type="http://schemas.openxmlformats.org/officeDocument/2006/relationships/slideLayout" Target="../slideLayouts/slideLayout375.xml"/><Relationship Id="rId8" Type="http://schemas.openxmlformats.org/officeDocument/2006/relationships/slideLayout" Target="../slideLayouts/slideLayout376.xml"/><Relationship Id="rId9" Type="http://schemas.openxmlformats.org/officeDocument/2006/relationships/slideLayout" Target="../slideLayouts/slideLayout377.xml"/><Relationship Id="rId10" Type="http://schemas.openxmlformats.org/officeDocument/2006/relationships/slideLayout" Target="../slideLayouts/slideLayout378.xml"/><Relationship Id="rId11" Type="http://schemas.openxmlformats.org/officeDocument/2006/relationships/slideLayout" Target="../slideLayouts/slideLayout379.xml"/><Relationship Id="rId12" Type="http://schemas.openxmlformats.org/officeDocument/2006/relationships/slideLayout" Target="../slideLayouts/slideLayout380.xml"/><Relationship Id="rId13" Type="http://schemas.openxmlformats.org/officeDocument/2006/relationships/slideLayout" Target="../slideLayouts/slideLayout381.xml"/><Relationship Id="rId14" Type="http://schemas.openxmlformats.org/officeDocument/2006/relationships/slideLayout" Target="../slideLayouts/slideLayout382.xml"/><Relationship Id="rId15" Type="http://schemas.openxmlformats.org/officeDocument/2006/relationships/slideLayout" Target="../slideLayouts/slideLayout383.xml"/><Relationship Id="rId16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97.xml"/><Relationship Id="rId6" Type="http://schemas.openxmlformats.org/officeDocument/2006/relationships/slideLayout" Target="../slideLayouts/slideLayout398.xml"/><Relationship Id="rId7" Type="http://schemas.openxmlformats.org/officeDocument/2006/relationships/slideLayout" Target="../slideLayouts/slideLayout399.xml"/><Relationship Id="rId8" Type="http://schemas.openxmlformats.org/officeDocument/2006/relationships/slideLayout" Target="../slideLayouts/slideLayout400.xml"/><Relationship Id="rId9" Type="http://schemas.openxmlformats.org/officeDocument/2006/relationships/slideLayout" Target="../slideLayouts/slideLayout401.xml"/><Relationship Id="rId10" Type="http://schemas.openxmlformats.org/officeDocument/2006/relationships/slideLayout" Target="../slideLayouts/slideLayout402.xml"/><Relationship Id="rId11" Type="http://schemas.openxmlformats.org/officeDocument/2006/relationships/slideLayout" Target="../slideLayouts/slideLayout403.xml"/><Relationship Id="rId12" Type="http://schemas.openxmlformats.org/officeDocument/2006/relationships/slideLayout" Target="../slideLayouts/slideLayout404.xml"/><Relationship Id="rId13" Type="http://schemas.openxmlformats.org/officeDocument/2006/relationships/slideLayout" Target="../slideLayouts/slideLayout405.xml"/><Relationship Id="rId14" Type="http://schemas.openxmlformats.org/officeDocument/2006/relationships/slideLayout" Target="../slideLayouts/slideLayout406.xml"/><Relationship Id="rId15" Type="http://schemas.openxmlformats.org/officeDocument/2006/relationships/slideLayout" Target="../slideLayouts/slideLayout407.xml"/><Relationship Id="rId16" Type="http://schemas.openxmlformats.org/officeDocument/2006/relationships/slideLayout" Target="../slideLayouts/slideLayout40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527F5-7405-4DF0-9B9A-AB6A399D129B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8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9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30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5E85E-2E1A-4388-AC8B-97D52038EF57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31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32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33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B7A09-B714-40DD-8B5C-85B667018F59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3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sldNum" idx="35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84D2A-2243-440E-BC81-2E9246CF979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ftr" idx="36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37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38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sldNum" idx="39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EF3FB-D9F2-47FE-86E3-B814D9D05138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 type="dt" idx="4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 type="sldNum" idx="41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7F9DB-68D7-4416-BBF4-DA1093A8A512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 type="ftr" idx="4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4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sldNum" idx="4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49009-0CDD-4D72-9681-3CEEE5DAF56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ftr" idx="4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 type="dt" idx="4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 type="sldNum" idx="4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0F372-42E1-4931-9107-B02191B7B34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 type="ftr" idx="4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dt" idx="4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ftr" idx="5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 type="sldNum" idx="51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F2F4A-918B-4B59-957C-C3BC2A08411C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4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6F479-746A-4004-BD01-01CA15BFC068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 type="ftr" idx="5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 type="dt" idx="5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 type="sldNum" idx="57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01050-D5C2-4A00-B2B2-3860CBC1D271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AC1EF-29BD-43F1-8C0D-46E89DA7650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 type="dt" idx="58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 type="ftr" idx="59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 type="sldNum" idx="60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69D39-C063-451E-859B-5AEA2C639D5C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dt" idx="6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 type="ftr" idx="62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 type="sldNum" idx="63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C23B0-FA8E-4EBA-BE14-1A73D97B55A2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 type="dt" idx="6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 type="ftr" idx="6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 type="sldNum" idx="66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1CF04-40FA-46EB-9590-5A12543E62A9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 type="dt" idx="6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 type="ftr" idx="6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 type="sldNum" idx="69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B3CD5-B4CC-4A28-B67C-C2F38544488B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 type="sldNum" idx="70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9F37A-BD68-4C1F-AC7B-7B15D66CE5FA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 type="dt" idx="7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 type="ftr" idx="72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 type="sldNum" idx="73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75252-D33D-4050-9AAE-905006BDEE71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 type="dt" idx="74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 type="ftr" idx="75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 type="dt" idx="7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 type="ftr" idx="77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PlaceHolder 5"/>
          <p:cNvSpPr>
            <a:spLocks noGrp="1"/>
          </p:cNvSpPr>
          <p:nvPr>
            <p:ph type="sldNum" idx="78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0D5C5-0343-4111-8965-773B9191243A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6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0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 type="sldNum" idx="79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28619-D654-436A-A029-45CD858F004E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 type="dt" idx="80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 type="ftr" idx="81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06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1307" name="Freeform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Freeform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09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1310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1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312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 type="dt" idx="8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 type="ftr" idx="8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 type="sldNum" idx="8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92675-2661-476A-8AF8-8AC6AF8A247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5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56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357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359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360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1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 type="dt" idx="8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 type="ftr" idx="8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 type="sldNum" idx="8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FF3F3-0964-49E8-BB46-F520868A434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5"/>
    <p:sldLayoutId id="2147484014" r:id="rId6"/>
    <p:sldLayoutId id="2147484015" r:id="rId7"/>
    <p:sldLayoutId id="2147484016" r:id="rId8"/>
    <p:sldLayoutId id="2147484017" r:id="rId9"/>
    <p:sldLayoutId id="2147484018" r:id="rId10"/>
    <p:sldLayoutId id="2147484019" r:id="rId11"/>
    <p:sldLayoutId id="2147484020" r:id="rId12"/>
    <p:sldLayoutId id="2147484021" r:id="rId13"/>
    <p:sldLayoutId id="2147484022" r:id="rId14"/>
    <p:sldLayoutId id="2147484023" r:id="rId15"/>
    <p:sldLayoutId id="2147484024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Num" idx="9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99522-38DA-4415-B6FC-90C1B41B5AD9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0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0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40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 type="dt" idx="8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 type="ftr" idx="8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3" name="PlaceHolder 5"/>
          <p:cNvSpPr>
            <a:spLocks noGrp="1"/>
          </p:cNvSpPr>
          <p:nvPr>
            <p:ph type="sldNum" idx="9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E4F63-C31A-4067-B968-5BA53BEACEB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5"/>
    <p:sldLayoutId id="2147484027" r:id="rId6"/>
    <p:sldLayoutId id="2147484028" r:id="rId7"/>
    <p:sldLayoutId id="2147484029" r:id="rId8"/>
    <p:sldLayoutId id="2147484030" r:id="rId9"/>
    <p:sldLayoutId id="2147484031" r:id="rId10"/>
    <p:sldLayoutId id="2147484032" r:id="rId11"/>
    <p:sldLayoutId id="2147484033" r:id="rId12"/>
    <p:sldLayoutId id="2147484034" r:id="rId13"/>
    <p:sldLayoutId id="2147484035" r:id="rId14"/>
    <p:sldLayoutId id="2147484036" r:id="rId15"/>
    <p:sldLayoutId id="2147484037" r:id="rId16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2" name="PlaceHolder 3"/>
          <p:cNvSpPr>
            <a:spLocks noGrp="1"/>
          </p:cNvSpPr>
          <p:nvPr>
            <p:ph type="dt" idx="9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PlaceHolder 4"/>
          <p:cNvSpPr>
            <a:spLocks noGrp="1"/>
          </p:cNvSpPr>
          <p:nvPr>
            <p:ph type="ftr" idx="9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4" name="PlaceHolder 5"/>
          <p:cNvSpPr>
            <a:spLocks noGrp="1"/>
          </p:cNvSpPr>
          <p:nvPr>
            <p:ph type="sldNum" idx="9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FCC60-9904-43F0-B07D-8401C7E0A4B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2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93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94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496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 type="dt" idx="9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 type="ftr" idx="9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1" name="PlaceHolder 5"/>
          <p:cNvSpPr>
            <a:spLocks noGrp="1"/>
          </p:cNvSpPr>
          <p:nvPr>
            <p:ph type="sldNum" idx="9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A7156-9407-4E8D-8E1E-51519AF845E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5"/>
    <p:sldLayoutId id="2147484053" r:id="rId6"/>
    <p:sldLayoutId id="2147484054" r:id="rId7"/>
    <p:sldLayoutId id="2147484055" r:id="rId8"/>
    <p:sldLayoutId id="2147484056" r:id="rId9"/>
    <p:sldLayoutId id="2147484057" r:id="rId10"/>
    <p:sldLayoutId id="2147484058" r:id="rId11"/>
    <p:sldLayoutId id="2147484059" r:id="rId12"/>
    <p:sldLayoutId id="2147484060" r:id="rId13"/>
    <p:sldLayoutId id="2147484061" r:id="rId14"/>
    <p:sldLayoutId id="2147484062" r:id="rId15"/>
    <p:sldLayoutId id="2147484063" r:id="rId16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0" name="PlaceHolder 3"/>
          <p:cNvSpPr>
            <a:spLocks noGrp="1"/>
          </p:cNvSpPr>
          <p:nvPr>
            <p:ph type="dt" idx="9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PlaceHolder 4"/>
          <p:cNvSpPr>
            <a:spLocks noGrp="1"/>
          </p:cNvSpPr>
          <p:nvPr>
            <p:ph type="ftr" idx="9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2" name="PlaceHolder 5"/>
          <p:cNvSpPr>
            <a:spLocks noGrp="1"/>
          </p:cNvSpPr>
          <p:nvPr>
            <p:ph type="sldNum" idx="9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E4D23-7493-4E90-BA6E-9CED9B29373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0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81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582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584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85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6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 type="dt" idx="10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 type="ftr" idx="10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1" name="PlaceHolder 5"/>
          <p:cNvSpPr>
            <a:spLocks noGrp="1"/>
          </p:cNvSpPr>
          <p:nvPr>
            <p:ph type="sldNum" idx="10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97D9D-7035-4C33-A57F-6D53A507479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5"/>
    <p:sldLayoutId id="2147484079" r:id="rId6"/>
    <p:sldLayoutId id="2147484080" r:id="rId7"/>
    <p:sldLayoutId id="2147484081" r:id="rId8"/>
    <p:sldLayoutId id="2147484082" r:id="rId9"/>
    <p:sldLayoutId id="2147484083" r:id="rId10"/>
    <p:sldLayoutId id="2147484084" r:id="rId11"/>
    <p:sldLayoutId id="2147484085" r:id="rId12"/>
    <p:sldLayoutId id="2147484086" r:id="rId13"/>
    <p:sldLayoutId id="2147484087" r:id="rId14"/>
    <p:sldLayoutId id="2147484088" r:id="rId15"/>
    <p:sldLayoutId id="2147484089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3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46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93FB6-D7E7-4519-B1BA-9DDB049B6C1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A801F-3A5D-4C2D-B9A6-20E5F653FC2B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16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7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3AEFE-DC95-43C1-A9CA-4E088467F50C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EE5CE-4C24-48CF-8A91-17A6CACEFD53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17528-5B18-45E6-BC7B-C1A9BC1F67AF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25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26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27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BBE21-4220-4490-82B8-E495F60F9C73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8" name="Title 1" descr=""/>
          <p:cNvPicPr/>
          <p:nvPr/>
        </p:nvPicPr>
        <p:blipFill>
          <a:blip r:embed="rId1"/>
          <a:stretch/>
        </p:blipFill>
        <p:spPr>
          <a:xfrm>
            <a:off x="536400" y="652320"/>
            <a:ext cx="8474400" cy="1597320"/>
          </a:xfrm>
          <a:prstGeom prst="rect">
            <a:avLst/>
          </a:prstGeom>
          <a:ln w="0">
            <a:noFill/>
          </a:ln>
        </p:spPr>
      </p:pic>
      <p:pic>
        <p:nvPicPr>
          <p:cNvPr id="1629" name="Subtitle 2" descr=""/>
          <p:cNvPicPr/>
          <p:nvPr/>
        </p:nvPicPr>
        <p:blipFill>
          <a:blip r:embed="rId2"/>
          <a:stretch/>
        </p:blipFill>
        <p:spPr>
          <a:xfrm>
            <a:off x="536400" y="2170080"/>
            <a:ext cx="8174160" cy="1841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MATHEMATICS AND TECHNOLOGY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entury Schoolbook"/>
              </a:rPr>
              <a:t>The mathematical and technological skills that I learned and applied throughout this project was I formatted excel cells to calculate my work just like a calculator would. For example, to calculate the total amount I spent shopping for my dorm in collage, I type in =SUM(D11:D29) in the bottom cell and it calculated for m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Affective Developmen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3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1898a"/>
                </a:solidFill>
                <a:latin typeface="Georgia"/>
              </a:rPr>
              <a:t>This project has increased my knowledge of self because doing it made me have to think about what collage I wanted to go to and it told me how I felt about the dissentions I had to make.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3171e"/>
                </a:solidFill>
                <a:latin typeface="Lucida Sans Unicode"/>
              </a:rPr>
              <a:t>Some decisions I had to make were I had to decide how to spend my money at the store for food and I had to decide what collage to go to and what to buy for my dorm.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635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20:39:14Z</dcterms:created>
  <dc:creator>ITSUser</dc:creator>
  <dc:description/>
  <dc:language>en-US</dc:language>
  <cp:lastModifiedBy>ITSUser</cp:lastModifiedBy>
  <dcterms:modified xsi:type="dcterms:W3CDTF">2010-02-10T20:58:05Z</dcterms:modified>
  <cp:revision>7</cp:revision>
  <dc:subject/>
  <dc:title>MY COLLEGE PLANING REFLECTION</dc:title>
</cp:coreProperties>
</file>