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sldIdLst>
    <p:sldId id="256" r:id="rId36"/>
    <p:sldId id="257" r:id="rId37"/>
    <p:sldId id="258" r:id="rId38"/>
    <p:sldId id="25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7EB3-EB7F-4644-8380-595015FA9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15F8-82D2-4EB5-9D92-11CFC46F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61A8E-2269-4FD5-9721-5EC30A6F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31781-7B09-422F-996B-446078DD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89118-66D8-4A0B-96D3-ECDA77F2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7CA06E-B10D-49DE-B32F-CB78507D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47D1C-27D5-404B-B5FC-EF61ECF2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709C9E-DFD6-4E4E-A665-C0B4F4C8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672E2-924D-456E-B129-EA2B1595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313BD-D4CE-4FE4-89F8-A1FF775AB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22F96-7DA5-4CD6-BC0B-52FD2345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FB53D0-88BA-4089-95AA-8477B37D3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A84D-A365-4148-9B61-C65BD83C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CFB73C-D2EA-4AEE-B71D-ED622D1A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17085-87CF-4E50-9DC4-891D87E3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CFED9-D9B9-417E-8B31-10BA9CD1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344D44-1166-403E-AE83-3559350C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F3DD67-3435-4B00-B85D-37ADCC9A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071B4-F33F-4034-B565-FE36115C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E4F94D-6D57-4888-A2DB-BC3E2C52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95B2D-031E-4F91-B7E7-9EBD821C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57235-FC30-4E0B-98EB-73A6638A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47600A-0A7E-4DAC-9965-3B8EB5762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222E-A93C-469A-9517-9AC3484B0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A3673-931D-4567-8C32-2A0FB775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AD9E6-3FBF-442C-9EEC-ADCB88EA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913BB-6476-4324-B439-DB1E892A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899A2-1872-402E-A151-E0CF0188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7FAF6-4034-40A8-A311-1109C1E3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EF3D4-A985-461A-A71B-2556A65B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9641D-EA29-40B6-843C-2A1137CE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52B9D-5DDB-44F4-9C6C-24C45E8B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218E3-8ED7-4904-A30B-9553A620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2BEEC-7D82-4CFA-801A-EA738E0F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BBB7-B847-4A0A-B9BA-FE5301156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9F0D9-4903-4A01-BFA1-C32295CD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879E8-51C3-4CAB-A1C1-AA1AD1637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AE94E-9A9C-4DD5-8E8C-A8CCC0446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EE64B60-E80D-4972-9599-0EDBEE398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4944DE4-FCE3-468B-A3B6-8AE10D1C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90D380-AD1D-4B94-A54F-8152E5F5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E2BFC4-3710-4604-B8E4-8D0AC531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F33423F-CEE9-4CB5-93FA-3EDAB2E3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4359DC6-1CAF-4BBC-946D-2C1CD534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F600942-626D-430C-B6D9-F71479B3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9DA4-66D3-47BE-9EFD-B20AF67C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5595F43-6892-426A-861F-AAB109CF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6F917A-6400-48BD-9F6F-4929780C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7EEF81-0017-4CE7-819A-44697495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5AD396E-F159-4B0D-B2B9-F163B77FE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4E8221E-DFE7-4A7D-8E8C-416C56291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612246-446E-4FA3-8943-8E9861A9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5823F4-F8DA-4910-BA90-9EEB9591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59A052-968A-4A23-8EFA-21D9F111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BF7AAA-3549-4394-8BF9-BC7CD8F1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39B127-7C3D-4289-9395-F881CB8B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A61C-FECB-40BC-908C-B1EE520E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625936-0375-4FDA-8C51-C00DF3D5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63B00F-EB6A-4DB0-B0A4-A6C14F9B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E83406-0F98-410D-B3CE-AF3C6E79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F0CDE1-A704-4DCE-8FE4-9B4E5DD1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B53EBE-06F4-4869-BA08-8F39D522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510EB5-49DA-4CF5-8AE9-984046E35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A555A5-2E32-4E78-B7A8-820647C2C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4030B5C-A1C1-488B-8D83-F50830510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1A0F491-9935-4131-A295-8215FD2A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ABA8C7A-34D0-44EB-92CC-389A2726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B96D-12E0-4F91-B306-AC7BCD3A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B7BF0AB-EA97-4E06-959A-B23B5507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C34CBA1-A338-4582-97F5-F01B4B54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B7880C1-8ADC-4DC1-9C6F-F59EFFA8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703FB1B-8840-4A2E-9520-EF5B7B92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7337E35-57CA-47F6-A4C1-1ACB979E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3ACB373-F1F0-47D0-9CB7-FEA79B9B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1866D09-38A5-493A-8D59-B4E0161B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D45182F-62B8-46F8-98ED-E63E00931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846EB46-71A7-48E1-BD06-D0DB97CD2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3A29283-9396-4339-8ADD-B8619B1E6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4DDC-C0EA-4F72-99E3-1F59F294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2A57DC3-D6C3-447F-BA1A-AFA995A0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26902C2-A440-40C7-A28C-FA4A8DD6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4D63A49-5480-4948-AE16-27F28FC7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B25A983-B7BA-47D8-9598-0A113AE7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8028BB9-BAEC-4C01-8C9F-ABA1B48C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177B1BB-A94E-4EBE-B20F-3F9624F0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B7A2DF4-D811-4E3A-9C65-C46CACE5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E38E820-E865-4A77-8BA9-61E78788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F300A3D-B838-485F-8ED3-44F566AD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EA00A70-7318-4A11-911B-45E20FB9C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B24C-2164-4835-B692-0E109DA2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334E1A0-1526-4F74-B936-D0E973179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1861284-AF0F-4E88-BD15-322EFE28F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39C5591-2FBA-4867-BCF1-AB87EA15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48597F5-BAA3-4F3E-A9F4-0E0015AF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B175498-4B6A-460A-85DF-430B1037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8AAA252-C571-42C6-A0D5-251EDCD5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87FB7E4-64F7-4E99-AC03-01281DF4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8A7948E-E479-4147-B9C7-9D354C01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8632F70-30CB-46C0-BC25-716997DF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D70FE19-4E3C-4462-AC5B-50A0BF39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9DDB-75AE-4A54-9A16-086F631B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FABC9BD-EE10-493E-B742-76342D1A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8A97F32-0E4A-4184-AE00-964947D34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6B660CD-D4D6-4413-B14E-48D5A17A5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7BBF6B-5679-41D7-A844-736F4FE36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85DC04-DD27-4342-8850-A56C6275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6586E8-5BE1-449E-8CB2-B6F5BB1E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F429A9-344D-4D78-865D-52ABE65E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CA42D0-1B94-4B50-AE44-DE710FD3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444F9E-100F-499B-8027-EB8AF62F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4C52F6-1723-4EB3-9204-1806152F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332D-0552-450A-B7E6-FB44D828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AA5F-7DAC-4257-B1BC-984305A8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205C86-7280-468D-950B-B66C4F1C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AD33F0-9AB9-4E40-BF8F-021B135A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4680E8-FD9E-49CF-BE18-3AE983BF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D2EF62-4E58-4E72-AC74-038220FA3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B51352-7BCF-4500-851B-B6CD2E1FF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D3DB34-398A-4C9A-9E05-CB6597EE8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3BA403-06A0-44E5-89D3-1449D084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99201A-4B20-499C-9676-9F98A98E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4EE532-9290-4739-BECF-F1FFDB9E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F6D766-CC4E-4BBD-9541-311EA8C3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E1A0-8080-488A-93ED-623EB32D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55C43A-F531-4E9F-B8E2-E3F36208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1BC201-B4FF-486E-9FD0-E1179986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9D99B3-78BD-4C2C-BE27-BBDC5B00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680010-02C4-4B9C-A087-25F4D6E6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D09A28-DF39-4BFA-9E03-5EF00E26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06D93F-B47B-41FB-86BD-61EC756AB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B41366-1345-4000-9E1B-B103C20CE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D04373-BE97-48C0-ACE6-C2DB7D98E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D1379C-E891-4589-8949-064C4D1B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E2A1E6-3199-4340-86B9-19FC9211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F6CE-CA96-4BC9-80FC-C0D3AF3F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3B1DF1-B9B3-42C3-B0D6-8DD618AE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AAED18-DF9C-4C5B-A492-34A62970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42417A-54F5-4A65-9F26-83EB08A1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49C8AF-7AA5-42DC-9868-9E46CB48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A6E357-DC1F-43DB-A28B-39A3460A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84D923-75EB-4AF6-B53A-8CE9EC55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7D5F89-AA55-42BC-85ED-EA25B57F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E8D6DD-DFE7-4328-B107-A67BA1780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348803-9195-4871-ADA3-F17333551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C6FF9E-DA26-4A04-A748-4920D6C4B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0B97-98DC-439A-91A3-34A911574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ED4ECB-0D4C-47A0-AA68-1A6EA4D7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1C644C-D52E-4198-B228-213967D8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CF0ABC-8132-40A5-B020-0F5D2A5E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91E523-DB96-4C66-B041-E9B7FC91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6DB6A9-20AA-4B8B-8F07-D5A1701F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C72838-D987-43FD-8176-B104BABE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1AEC4F-2A8C-4360-B70E-00B29D40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9B1841-17F2-4B35-867C-47C6CF9E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CAF8C3-A1A9-451E-9119-456FAE97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DDED6F-7FC0-4D85-A5B5-A6778047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202A-5CA2-4FD8-AB33-5EF1DC2D5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1C6FDF-D5F1-481F-B207-74F0A7CD4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6C337F-FA27-4380-B6FC-2653D58B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BD463F-C441-4F29-9074-B37D1511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E31BA5-BC6B-48A2-994C-E048B98E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AF9514-CF0F-4396-A48F-2F0C8233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0119E8-BA72-48B6-89EB-5C8C873E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D29A84-4A01-45EC-8988-79AD9623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76461F-C5F1-4DA1-9D42-A0738341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7DF1BA-CEF3-4ECD-97B3-C97A13CC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BD9BDD-4A82-4B98-BE51-C84E0843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DE3EB-6B4C-44A0-AAE7-123182C67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2D955F-EAB7-4724-84EA-F49E8020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DD0D7A-672F-4DE4-8D27-48883B063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3E74E2-A189-4379-AFAC-4D046EEE6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AC18D5-B6D1-4976-A3D2-985984D22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D9DFEE-5B2D-48E7-8EE4-87A42383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E5CC1B-1EE0-4BF5-9554-9E2BA8C3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4A0DE5-CCC3-4FF9-B120-B9FDD5AC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659400-4BDF-4291-AFA5-26DAC88C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B0AA48-3AA6-40A3-B673-D0B7587F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AB4C26-74F1-416D-AC79-610BB6E7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54A0C-42AC-4DC8-BCFC-F3108B7D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BEAF1D-12BF-4836-8636-AE8A5E01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55CE60-C7DC-4DEC-9D0F-B0D9BB26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AD994F-54C8-4D8F-90FB-1BB98707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897DD9-85FC-4671-B7A9-D97662B16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437959-81F1-4965-9E0F-9A569C012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0B45B1-F32B-4636-9DA4-EA02ACFD6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D7D88C-B923-4D6F-A5D7-8F50910C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B56D1B-5D31-4A80-A02D-93CA7157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8233E6-A8DE-4087-AD40-716CBF5C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323C47-B017-477D-98AB-7DD42A1A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55046-00FB-4D8F-A709-C7D247B1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A1C633-339D-4AA9-8C88-A94C9BF1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EA5781-C0FA-43A6-8FA2-373F5EEF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27E74C-5C05-441D-A333-71432413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E22546-C8DA-446C-B403-E0F2514C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822CA4-1975-4BD9-BFB2-6E6B3D0A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209C50-6851-4F94-B13C-7D6D8EC4D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EEA425-1118-4804-BA7B-4CEE5039A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DE368AA-432F-4C0D-8CE1-E58EA01CF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E1688C3-F548-4567-9C7A-FCAF802A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970E2A9-1B07-4289-9CBD-D26A1229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EEF96-7FE9-4F9C-8C4B-D190F70D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E4A951F-2E4F-4BAE-9A30-A82ADD16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19301D2-BC8F-4155-A7F4-D8450753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97B3E52-ADE4-4D27-BC48-A2FBF4F2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D4D10D2-13B2-464A-B182-7280FA2A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80DD8D0-65D3-499D-BF95-FD31000C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C999B6A-4CD4-403F-8CD5-3783E8AA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8CBF36E-8BC0-4084-B27D-2C670C45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C60E066-89B9-450E-AE2A-730C7296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6C9276A-1378-4FB7-B302-D40E08247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C9B5862-E1DF-4F26-90A8-37F80F12C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4AC9D-90EA-4CBB-9927-586E7A8D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ED19A53-CE23-45B3-887B-A3079088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EC9EF14-4F63-4FD3-B001-35E59A83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895F14D-C701-44F1-B1D5-6CB77B43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08E6FFA-A8D6-4A1F-8D8E-5E73BD90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8FCDFD5-09A1-4F18-B8A9-D0340714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99AC18F-3D98-43E7-81EE-3B9D7EB6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13C7487-448C-43F1-B683-21CB65BE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B5EFFE5-F0E4-4BF9-AC43-9751C0EA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6FB6251-E96B-48F9-9B40-D31E4B88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2623935-E516-4433-B2B7-D2CC8C6F3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D5E9-4FD7-4EFB-9328-627A5266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DA195-8CEF-4565-8C5E-184A35E0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CC470A2-2A07-44AD-A776-E8B973D5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79E48B-5CD8-4E0D-938D-7EB8595E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8ADE900-1761-4B0D-9D08-F2014652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62BD82-C068-4256-8274-A52D6F78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53BB4AB-5C93-4A97-ADCD-4B898F42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BFE7D47-573E-40D6-BD66-A5B4FE60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A00AF9-0514-429F-98D9-6155F36D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D3208D-92C9-4C03-92CF-4E07A269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A7FD03-63E0-4EC0-A08B-5123AA58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783972C-F2F1-4A0B-9FE6-75042C1D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83B16-8F89-47E8-9D21-09D9CAF2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376B2E8-880E-41D1-A53D-1D82EE8C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88E105-7B56-4077-A69A-58508AE94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11C9FBA-F8E7-4B4C-827C-6584BC6B7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4458C45-58BE-4A4B-AB34-E17399FCE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A3B6257-D389-446E-8DDE-9E97E2AC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4289C70-7F40-406B-B06C-E9DE4C4B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003D6D6-B09C-4A61-9735-1280ED7C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D468521-0D02-4656-969B-DFDFF54D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B84A2DC-AD86-47CB-BE8E-D05B1C5B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B330D97-765A-49B6-A4B6-B0237D5C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EC7D7-07DE-49CA-BFA7-94E76DE1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291505D-10E0-4746-AC93-2D3BB500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6BE5D99-712A-4E1C-8D2B-9C183506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9B365CA-E57C-4CE8-9614-CF73FDF3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3A46D4C-51B4-40E5-9CC8-BF208CD1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8E92DA4-41FB-4A0B-BF4D-7588ADCFD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6575FF6-1F84-4C78-8AA6-E69CF6C66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7A0627E-C057-4467-81B6-F04A5827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1F85657-AB61-40C5-9C7C-493B8837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6861DD1-6611-4A2C-A461-266FB555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67FAFB-C960-4697-B69F-AACDA775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77890-C890-4B41-A712-DACAD181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CCE1301-3C1F-40C8-96C5-AB14537E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81D850D-9E08-4792-A978-32D1605E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F4E91A5-21AE-4FB4-BE5E-6BB6BA6B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0FDD83-E452-43E9-A868-71AA6553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F40F40-3EAD-4916-9CBF-1313DAD0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9FEA845-5461-4F25-83EB-A9A3D63C6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CE5F388-6328-4819-94DC-677EAC886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B8D6116-D69A-4182-912B-C1E199C41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ED93DA6-088B-4576-BB65-81A9404E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D50A5A-1606-4850-AA91-07C9C7E1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32872-6DA2-4F38-80C5-D90D0069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A67F791-7AC9-4006-A811-C2C36CDB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05B00B4-0B46-41BF-B81B-5FB3ADDF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3B46575-E1C2-4530-8783-A8B00629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C617427-4339-4427-BCD9-CDF5C5BE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BA6AD9B-E822-4216-9608-3F316B14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7A98255-06FF-47ED-9AD6-CE683E02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80A64CE-61A4-44B9-B32C-9DE21EB8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DF3C75F-4A5A-4883-BD79-4827B1BD3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5E76691-FB2D-46BD-ACB5-35B054CBF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A43CC30-7355-4509-82F6-B8E8DD829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6908B-F144-4E67-8E94-85AE438B0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CBB4BFD-AE88-42A6-9459-CB665B8A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50B993A-9A30-464A-8A14-806B676E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8952DFD-5F20-49F3-83A7-4D6A5300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16848D3-C38E-4B47-A89E-204098B8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3193FF3-F120-44F4-838C-26152338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BF44D2C-AEA8-4C4B-82F7-9034F458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E03173A-AF7E-4C13-9433-086F131A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612259A-10D2-4CCA-AB19-D8382B2E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B6DF0E1-7508-4E1A-A675-720A8D45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FDF2930-8B1A-4A2C-AD6B-857E0010A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12D96-A8C1-40F9-AE39-AF97E6F99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1B84A80-C9D5-4B6D-89AD-BDD7AD3BB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CAF6F34-5776-4CAB-99E8-8109B2659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42E2DE8-D95F-4C21-8898-9C57D990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06F0ED9-F3B5-43C4-AF90-4776813D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7678C91-A4FE-45A8-86DE-7A8B9D9D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7650DD3-43D7-4655-A057-9E73100A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AD5F0DE-9E3A-4294-8E13-ACCC97E4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9DB5EC9-DFB9-47F0-B6CF-0B452A63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96AC23D-B227-4E62-93DA-FCCAD4CD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6F7128C-A071-4C78-998B-013111DA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C4E1D-9335-43A9-9DDB-849C34D03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41FB9B6-009A-423F-AAC7-C975E915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4DA9A00-2061-4132-BCE5-43EE5CBCA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9882941-72E4-4823-8925-E3A25CD3C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2D7C67E-6EE6-44DB-806E-72716124C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0C5FECB-C87C-456B-BFE5-BDACA945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0DE289D-E7D3-4FD9-AFFB-D333A53A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369313F-7C6B-41CA-9D97-08048CD3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1AE9425-C893-42CE-9B0E-61601697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31391E1-C3F0-454C-BEF9-1E33D85A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980F117-D651-4A2C-B411-DCE8B557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D535B-429F-4C26-8D1C-17DC73DB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4181714-C44C-4BB4-988A-AC9F0B4E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7DD53FB-CF40-44AB-9984-D26A65FD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EEF9CCF-0433-4B2D-8C31-6AE05725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E8B5881-0D56-43FF-8656-85FE5F14D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8316994-6474-4A88-BDBA-C2902ED26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A19151C-F5CE-42B3-B810-32719EFF9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186BBB0-3710-4DFB-AB17-A2926B7C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06C3F41-F354-46ED-9AC3-D397B707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53023A7-64AD-4D9C-8BD6-848EFE5C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D4F706F-C398-48D1-B1A9-725C4911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E0FE6-CD33-4717-BCEC-36B39F02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6248B7C-5861-4D3D-B84D-6660E6E5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3926F84-E7B7-4FF0-A94B-AADEF560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0BCA54E-E1A8-4D7A-B822-9D8BEEC1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CB3B871-89CA-4B76-846C-642135B7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2AD77FF-0AE6-4E66-B93D-376B7A4D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17E2B86-34B3-478B-88A3-C0FA662FE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9D5B16C-1FDA-4786-B69B-D8FFD44B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AD2855D-0106-4982-9F68-87A1BF3C7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BEC0FBA-7BDB-4BD5-92EA-0B517F5D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37544EC-927D-4674-97E4-EA7AA5B4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B106-FB1B-4FC6-BA1F-F3EAC488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9C7D5-BC81-4901-B25B-B8EB308C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73A3BB4-5649-4A47-A96E-5D9DD11C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20FE134-2980-4892-8448-F7C62417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2978DB5-9DDF-4163-8F94-12F76181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69D1896-8404-4808-8756-B3F25E6E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1AD3993-2ADD-43B8-8109-2B94F0DD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561B344-A36D-4F26-AFAD-CFE00F3B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95D7FEF-05D2-43B0-9F31-F3DCD7C1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0C24B6D-59F8-4490-9480-F7D3E179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D8065C6-B771-4FDB-8E2D-E8F45396B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0BDBB-CFEC-4C53-8CC0-1F143266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67737-121B-414F-8295-6068BCEF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EB1F0-D75D-4F37-B389-4D7CD7EA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4C656-EF4F-4AC6-94F5-86990000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FB480-BFDB-439A-9D7D-F66EA1CA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485D7-D2A8-458A-8D45-DEC0CE09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D90FA-1255-4C2C-AD14-D3EB71B56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9541E-906B-4383-9321-1430953F6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B677F-1DC0-4C63-B852-5A3FEBF95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18A1-6E67-40C7-9377-5E750C31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00A40-F7D9-4DC7-9081-1CED9754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CA283-D8DD-4ECD-96A5-2B9A9C9A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78E52-181C-4AA2-BC9E-66B2D8DF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819C7-F44C-49FD-961A-9D3B9DBF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F3D0F-0133-492D-84D0-8344E982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DF3A7-AF6A-4A53-9022-4A57755C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58469-3FAF-4EEA-A8BD-11074499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0CAB0-53DD-4456-9465-65DEC5EF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51B46-2195-4240-869F-0C66E15A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EFA18-30ED-4A3E-82F1-540ED34B3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183C-D342-4F1E-9D2E-17E928F9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918C1-9EB4-4680-AF99-EFD2842AB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326C7-F8D4-4C2D-A608-833A930E8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5D5CD-52A8-43DC-84D5-273FB315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99088-4777-459C-976F-727A720B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2A599-6C30-4AE2-AE71-54A3BFAE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424D5-A69A-47CD-9B18-E214ED7A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08459-3130-486A-AE01-BEC9AADA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E5687-B498-45EA-AC07-79D403BE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C04A8-E72E-4DAB-B5E3-52ACB94A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65925-6832-4EA1-AA42-F831C1D5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9BC3-6632-4B4F-95C3-D3D9070E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A3C78-FC91-4CDD-9FF5-F8BBDBA7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5A9A6-7F90-4656-B504-AECBCDEA6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C4C54-C406-4448-8B2D-4200240B3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042BB-AD99-42A7-9631-F2D69BE37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C0F63-6FE9-4BC6-93CE-0594A66C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B5989-2767-4953-942B-A71A8E5B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384EC-7BC2-4B01-8159-42787903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3AB28-0017-43EB-A1E7-ECFDBF49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38638-5B94-4DAB-BED2-77D9C485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1E75E-0D84-4A9F-B9D3-F26A5DD2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1A57-0854-410C-9C43-D22C6AC2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CB2C8-92B0-4945-B33F-55012A03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A2577-431D-41E8-8CED-92D371E4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7D54F-8835-47D3-B975-C172ECE9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4F306-8FCA-4CB2-B079-4A7EB04A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5942B-AEBE-44E2-BE18-B285AA8B8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00E89-7786-418A-80D7-470D29E54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1FE74-3386-4AC5-9BD7-565AA6DE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B516D-95FB-4A6D-A531-204D9B26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94101-5B28-4B12-8FFD-DA65E330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85383-2610-4360-B50E-342A5763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9817-2416-4255-995F-88008EDB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FC7AD-3436-4237-8F97-D217A3B9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10BD7-0C4A-408D-A490-F188782F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8A406-C645-47E9-8734-126CF813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2CD7C-7A40-43FE-AF5D-ED78C4D1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9092F-AF3E-404A-B1C8-81F10318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5AEF9-A3A0-47C3-9AB7-238701B31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084BD-BD96-4634-BF9C-A7A07E46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19FE5-36E8-4228-9898-321CC704E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AEA3E-5E37-4E4A-B9BB-2125353D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7E5A3-287A-40E0-B4D3-B2319C20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97.xml"/><Relationship Id="rId6" Type="http://schemas.openxmlformats.org/officeDocument/2006/relationships/slideLayout" Target="../slideLayouts/slideLayout398.xml"/><Relationship Id="rId7" Type="http://schemas.openxmlformats.org/officeDocument/2006/relationships/slideLayout" Target="../slideLayouts/slideLayout399.xml"/><Relationship Id="rId8" Type="http://schemas.openxmlformats.org/officeDocument/2006/relationships/slideLayout" Target="../slideLayouts/slideLayout400.xml"/><Relationship Id="rId9" Type="http://schemas.openxmlformats.org/officeDocument/2006/relationships/slideLayout" Target="../slideLayouts/slideLayout401.xml"/><Relationship Id="rId10" Type="http://schemas.openxmlformats.org/officeDocument/2006/relationships/slideLayout" Target="../slideLayouts/slideLayout402.xml"/><Relationship Id="rId11" Type="http://schemas.openxmlformats.org/officeDocument/2006/relationships/slideLayout" Target="../slideLayouts/slideLayout403.xml"/><Relationship Id="rId12" Type="http://schemas.openxmlformats.org/officeDocument/2006/relationships/slideLayout" Target="../slideLayouts/slideLayout404.xml"/><Relationship Id="rId13" Type="http://schemas.openxmlformats.org/officeDocument/2006/relationships/slideLayout" Target="../slideLayouts/slideLayout405.xml"/><Relationship Id="rId14" Type="http://schemas.openxmlformats.org/officeDocument/2006/relationships/slideLayout" Target="../slideLayouts/slideLayout406.xml"/><Relationship Id="rId15" Type="http://schemas.openxmlformats.org/officeDocument/2006/relationships/slideLayout" Target="../slideLayouts/slideLayout407.xml"/><Relationship Id="rId16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974A-F5F5-4DB0-AA71-C3EF5813BF0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FC0A-470A-4C8A-AE1E-AB75864438FA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1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2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3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0B20-F9B9-47D9-A73E-8C484940A16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sldNum" idx="3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2431-0BBF-424C-A2D4-14588F652AF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ftr" idx="3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5929-85A6-4E13-A7B1-87989B835AA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4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sldNum" idx="4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8C56-8F7C-4D4A-BBD3-60C610E2E59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ftr" idx="4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4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sldNum" idx="4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CFC4-CECC-4BFF-9C18-B12D84D0868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ftr" idx="4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4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sldNum" idx="4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5DC3-9563-4A34-8F19-D9D82436199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ftr" idx="4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4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5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51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606C-1CEF-4654-978D-5AB360461F4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5026-AC29-405C-87C7-BD579D348B7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 type="ftr" idx="5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 type="dt" idx="5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 type="sldNum" idx="57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CD32-8779-4078-8601-DD241F173D0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9210-F83B-408D-ABF0-4B5E5B6AEB6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8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5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60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D829-4A94-4B2A-89C7-422D4792AA0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6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62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63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C24F-967F-4066-B6BF-4A425A53C47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 type="dt" idx="6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 type="ftr" idx="6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 type="sldNum" idx="66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2792-F7A0-416D-93CB-4A3EA95B893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 type="dt" idx="6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 type="ftr" idx="6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 type="sldNum" idx="69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BE73-8CF4-4D10-9CF7-8F7467E2D015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 type="sldNum" idx="70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0061-F7FC-4061-9194-D2926D5F6F5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 type="dt" idx="7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 type="ftr" idx="72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 type="sldNum" idx="73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7D35-17F1-44F4-9527-3E909BD95F9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 type="dt" idx="74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 type="ftr" idx="75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 type="dt" idx="7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 type="ftr" idx="7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 type="sldNum" idx="78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296A-96A6-4FDB-9DB2-4F3BB6BE90E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 type="sldNum" idx="79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33A7-5953-4B65-B5EB-9C9C487E4C7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 type="dt" idx="8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 type="ftr" idx="8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6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307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9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1310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1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312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 type="dt" idx="8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 type="ftr" idx="8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 type="sldNum" idx="8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BEA2-DAE0-4236-BCC1-24484CCBB1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6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357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59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360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 type="dt" idx="8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 type="ftr" idx="8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 type="sldNum" idx="8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03A7-E7FA-42D5-B74B-5B789386BA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Num" idx="9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9904-E5FB-452E-AC24-A544EFE2AC8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0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0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 type="dt" idx="8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 type="ftr" idx="8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 type="sldNum" idx="9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BBD5-8DDB-4332-9541-FB2F7A578C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 type="dt" idx="9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 type="ftr" idx="9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PlaceHolder 5"/>
          <p:cNvSpPr>
            <a:spLocks noGrp="1"/>
          </p:cNvSpPr>
          <p:nvPr>
            <p:ph type="sldNum" idx="9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79A9-0A66-425A-8E21-7F8B6DA42B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94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96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 type="dt" idx="9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 type="ftr" idx="9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 type="sldNum" idx="9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2A6D-4B69-4030-9840-428FE96324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 type="dt" idx="9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 type="ftr" idx="9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PlaceHolder 5"/>
          <p:cNvSpPr>
            <a:spLocks noGrp="1"/>
          </p:cNvSpPr>
          <p:nvPr>
            <p:ph type="sldNum" idx="9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B6ED-61DA-477E-9D2A-9581F74936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1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82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84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85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 type="dt" idx="10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 type="ftr" idx="10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 type="sldNum" idx="10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B9E7-6C92-4296-8D5A-8CD5FD0593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5"/>
    <p:sldLayoutId id="2147484079" r:id="rId6"/>
    <p:sldLayoutId id="2147484080" r:id="rId7"/>
    <p:sldLayoutId id="2147484081" r:id="rId8"/>
    <p:sldLayoutId id="2147484082" r:id="rId9"/>
    <p:sldLayoutId id="2147484083" r:id="rId10"/>
    <p:sldLayoutId id="2147484084" r:id="rId11"/>
    <p:sldLayoutId id="2147484085" r:id="rId12"/>
    <p:sldLayoutId id="2147484086" r:id="rId13"/>
    <p:sldLayoutId id="2147484087" r:id="rId14"/>
    <p:sldLayoutId id="2147484088" r:id="rId15"/>
    <p:sldLayoutId id="2147484089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34DC-A706-44EB-928B-B1B42E04A5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6CA6-2768-417E-9026-1D397A126C5A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418D-4510-418C-836A-6BA9F70A679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C967-3D06-4C3C-9968-260831C2655E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1D6D-41A5-4761-B0A8-BC2F6B65998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79F5-9695-453A-BB6C-01D23C725B02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8" name="Title 1" descr=""/>
          <p:cNvPicPr/>
          <p:nvPr/>
        </p:nvPicPr>
        <p:blipFill>
          <a:blip r:embed="rId1"/>
          <a:stretch/>
        </p:blipFill>
        <p:spPr>
          <a:xfrm>
            <a:off x="536400" y="652320"/>
            <a:ext cx="8474400" cy="1597320"/>
          </a:xfrm>
          <a:prstGeom prst="rect">
            <a:avLst/>
          </a:prstGeom>
          <a:ln w="0">
            <a:noFill/>
          </a:ln>
        </p:spPr>
      </p:pic>
      <p:pic>
        <p:nvPicPr>
          <p:cNvPr id="1629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ATHEMATICS AND TECHNOLOG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The mathematical and technological skills that I learned and applied throughout this project was I formatted excel cells to calculate my work just like a calculator would. For example, to calculate the total amount I spent shopping for my dorm in collage, I type in =SUM(D11:D29) in the bottom cell and it calculated for m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ffective Developmen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1898a"/>
                </a:solidFill>
                <a:latin typeface="Georgia"/>
              </a:rPr>
              <a:t>This project has increased my knowledge of self because doing it made me have to think about what collage I wanted to go to and it told me how I felt about the dissentions I had to make.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3171e"/>
                </a:solidFill>
                <a:latin typeface="Lucida Sans Unicode"/>
              </a:rPr>
              <a:t>Some decisions I had to make were I had to decide how to spend my money at the store for food and I had to decide what collage to go to and what to buy for my dorm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63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39:14Z</dcterms:created>
  <dc:creator>ITSUser</dc:creator>
  <dc:description/>
  <dc:language>en-US</dc:language>
  <cp:lastModifiedBy>ITSUser</cp:lastModifiedBy>
  <dcterms:modified xsi:type="dcterms:W3CDTF">2010-02-10T20:58:05Z</dcterms:modified>
  <cp:revision>7</cp:revision>
  <dc:subject/>
  <dc:title>MY COLLEGE PLANING REFLECTION</dc:title>
</cp:coreProperties>
</file>