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DDCB-7574-45E3-ACFD-225B65F0C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12E5-6E4C-4D1D-AD15-8C2FC61A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8E6C1-A34D-4C59-AD1C-324BC180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F45EEA-AEB7-4CE3-9562-22CF03A1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8C245E-DE44-4BB3-8BFB-25C3EA4E1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214F9-421D-4443-B50A-461C51964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31A2A8-3448-41A8-AE62-A4AC6CC5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967B6-66CE-43CE-88D9-249F35C06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2E825-3B0C-42E7-82AB-60868AF62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3B95E-854B-439E-A754-557AE8D6C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08DEC1-FEFA-45AF-AD64-181FFD45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B633A0-9A71-4040-A753-048411686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E7EE-1415-44A0-BA9A-9BC8D700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C7EEE-FFD8-4AEC-89C6-6ABAD20BF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D423BA-BB8B-4A75-BEFF-813E4234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939CF-4EA9-4F22-80A0-2B35495C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26CC5-A135-4A4F-937E-58AFD87D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E8FA2E-08F4-4104-83F1-C6F51F56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727CD-3D14-4CF9-BA5D-857181F0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3A988-794A-4D61-A580-1EE35461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D11DB-90FF-4FFF-9637-F23282A0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88DEA6-AA14-48ED-A6DB-6B2115CA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04C68E-A999-4364-A724-9FF14966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2C7-6BF5-4341-AAA3-321A5A410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B9439-D18F-4BDF-B243-3B0158DA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31EB7-F75B-4DFB-9F60-7BA2578C3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5DBF2-CBFA-440C-8B27-F227006B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BF5B3E-6A58-4DF1-8CB5-7587D004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61845B-32FA-4F64-A2A8-022FA3AA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F1F63-B6A4-49C3-8EB2-6867F81B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E41EC-38EC-45B4-B6FD-14E5AA74B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26C98-7531-4EE8-A2CD-4D2988B0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15823-5DA3-430B-AD97-4B6BDAB5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551B4-CD2E-4F27-9CFF-012A2D43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6D40-A39B-49A2-97D6-D6ACFC1C9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41612-AFDE-46DB-8776-7EE9BBB0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AED7A-AD5C-4675-8C05-85A39376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AD918-8FFA-4AB2-BF2D-A517AF0E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75B646E-473C-4BE0-84E6-37A776335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42D2247-2B78-4F3B-8FAE-735F07D4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989A9A-4FE8-424C-BBD0-7E59FF32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B8DECF9-4FBA-47BE-AF8B-3E032D01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200022B-9272-4484-972B-7241C67B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D17F4F-D44B-41C0-ABE4-CD4DCDFE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5405C7-D6F0-4D67-8CF3-D026D5B9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F1B6-9F2F-4518-A706-E4CF195BE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95C2CF-C517-49CD-97B0-6D3FBF7D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893A515-39B3-414B-A67D-D7D28AF7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87C5CCF-AF2C-4ED6-9EAA-A346360A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3DD046-2FEE-437E-A739-10721BAD3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4B9450-803B-4611-BFD0-24B137B7A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3F5158-9001-4804-911B-D65197F3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24E52F-1C32-4612-A91A-DD0A1C5C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29C14-6D18-4ED6-A641-4693B0413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079130-2A16-4A7F-8C24-33514B61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594E2B-B2B5-4018-A402-E4A4EB57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DB15-D557-4EC1-A54E-D7B67456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F23CE-E81E-4B82-B031-569229F8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E905A-9B4C-4994-AD10-60CA4DD5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CE68F-8D1A-4232-B5FD-238A16A3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AD6D67-0E75-4340-A0D5-094395A5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13A84-BB40-40EF-ABD4-50D288A5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C468D-9495-447B-B6F1-2B7BBD76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BDCAD-DDEF-4713-B1B1-068A8B7C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A6059C6-C154-4C6A-90C7-BFF05B7EE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E2C5AE-0441-418F-9D09-17EE87DD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69E266-42D1-4EA3-99E6-DBD49616E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0CFBF-3323-460E-98C8-F3BBC121F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C513A6F-A5D7-4866-A89D-A9371F537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B709E9-1AF3-422A-B095-E514D44AC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6082CB7-70AB-4E15-8D1C-13AB113E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FD7AA1C-7663-4B50-BCF5-99B8B95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E2CF96A-FA7E-4E6B-8A23-CAB04129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D213E2D-0579-4FA3-90F4-B0C3EF0A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D167C0-C5ED-4916-81CE-7A60296D7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22E90D8-AADA-4A94-A381-7C191BB5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ABCAC0-BBB8-464A-951F-E604ADA4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B7DBC3-3AD2-4B13-8E1C-70A707936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D0BD-7DFB-47B2-8C7E-90159AC5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2688EE0-E11A-462C-8637-B7475F35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7E4976-DAE5-49D5-9492-94EA00F3A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7A7118D-FF11-427F-A003-B1536489D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4C85E8F-CC0E-4BC8-814A-45E7631B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CD41CB6-8B03-4854-94C5-4E6DDC01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71D97F1-8780-42E0-A13E-0B0F9CBC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2AF8B99-DC8B-4172-BB75-082A823B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CDE210-E59E-4050-95F0-2E625E1B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F5C1A00-08A3-4BDB-8F75-26981809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8FD459-C42B-4A3E-ADBC-3502A4B4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EF3D-99D2-456B-BFDE-99E2C95A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B5ACEB8-D38F-494F-B0E1-B3A613020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1CAF81-6D24-4F4C-803A-566329BF1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066EAE0-1924-4AC5-9EC6-5C902B7B0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733F44-8DD7-4C6E-92A4-759310B55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65AB02-8277-40AF-BB24-C69CA21C3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7FEB112-D2A2-405F-A732-9762CDE7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6AD7B78-04B0-486C-AF68-1651632F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D17AE13-08E6-4927-A0FA-BCBE06BE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07814F-7231-405A-972E-4BB142A3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9CED346-A601-4A63-AD07-81BC9856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5168-958A-46DF-9596-D6CF94D4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C7CFE07-BEAC-4706-B18D-4C7DD071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FF6F3B3-AB5E-4111-A15E-B452CB0A7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CA4178-07B0-4E9A-A3F3-1D7291C6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3F7A43-48F4-4ECE-B3F2-3B2EDDF1F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6B941E-1042-4980-B84C-36C51281F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011C16-A8BF-4ABA-8080-E419C963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97D87A-65B0-4EAF-B923-DB3D2826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FCB19E-E12D-432C-8BBA-E5ECA79A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763DD-73B0-417A-91D5-2D23A6675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7A9850-9709-49E1-BBAA-991CEEF2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9D8-1F88-40E4-810D-8B816869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4DDB-5368-49E8-894F-5185B973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B97B6B-09DE-483E-8941-92F1245F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82B57-2633-4018-BEB5-A33F2000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DD1909-94C6-4943-95DB-0C6F5204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8DBD80-C8AF-4212-8AE9-311915AF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E1189C-E6F0-4F90-87D8-5250A438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FD5A3-D251-41DC-B638-C0C092C38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32ADC-C193-4C12-A112-24A2D2CF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1A944C-1BF2-4BD1-B0B1-DF8578B6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D6D4AA-3013-4DE2-88E4-8186D3F2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6E4AE-5E3A-4790-AC44-F68D40036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09B5-C345-46C2-8375-17B2D64D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142743-00FC-492F-9CF9-648F226C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A40772-C3DA-48B3-931F-D8A3D56C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E2127B-5144-4892-AEAC-A5B44BDF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C0B03-F822-43F0-9145-3438E033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D856F3-CF97-43F9-B4E9-A8B9D5F2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0C0A1F-02B3-4292-A00D-62EB95547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8FEDFF-0392-4FCF-84E6-0D1487BBB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8F4AF2-E57A-43D5-A192-687E6F14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A4E5E1-9E9F-4C87-A084-9B3D1D36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7D3DAD-69D7-4A3E-B5A6-5A93D3516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E526-EF50-4B6C-A8F6-BC8AD7F9E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D71D39-06E6-47DC-9CD9-BD2DAF63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DEC809F-8183-4B6F-9829-05D4003C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CAE092-57DE-43E9-B8A4-7F71098C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2D267C-5655-4AAD-B750-F9E7C601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1DF4DD-E4D4-4AB9-BADF-DEC5D297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EBC00C-066A-416D-B035-BDC10FAC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9CAED3-12A5-42D7-B10E-3BA787D1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A01A1-F879-4C86-835A-8DBE2B4D7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E69F84-BE24-42C0-BA96-514A32E5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AE9A87-E1A3-4143-B015-40B56BA5B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CA4F-8CDE-45A0-8263-4771F2F7A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0B67C1-2B23-4F10-A3B3-FF23AFA3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B69886-8BE4-48CB-A37E-1EFCA37A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CB27E4-6C82-42EB-9814-89171A4B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4AAF0F-5479-4836-B29C-F480450C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701D51-9493-485F-921E-A58D23177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C9437-79DB-42C8-AC0A-7188C0BE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5ADE7-FABA-41EC-BF9A-BFF976D4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7857D4-9AA6-4114-875E-5F3D76DA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895F94-937B-4D4D-B4CC-F5D76F94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D66058-2C18-4520-BEC5-E6634460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5B43-9112-49B6-AB91-C44DFFAA2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2C01D7-5ECD-414D-BE25-E5EC0163E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A94369-54EE-44C9-9CB0-EBD0E62F5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1AA1E6-08B3-46D3-8810-3F5702D7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712981-FCC5-40C1-B824-AE760235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6224E7-991F-4982-A2C6-84A477018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35F25-D57F-4E49-B05C-69ED44D68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D6ED60-B488-4452-A401-B350AD43E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FDF0AB-6DF6-4D56-85E8-33B32F2C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DA5CE8C-3421-43FF-B7CA-8ADBC2C1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6724DF-C5F9-46EE-A826-47269D52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70C44-3DD0-4E18-8FAA-AC96E837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A8A802-922F-46D9-9212-FD9D14784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EF4904-A809-442C-8981-B344729F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BA426F-6B7C-47FC-8AC0-D3824217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42966A-F1E3-4ECD-9EC9-F696AEDA5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FDF810-A252-4967-AB76-8D532E04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4AB553-6C97-4EBD-9090-73F1B800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9C42C4-9423-4AA2-88A1-051AA37D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7D358A9-7F0E-48F4-98D7-DF7A00D5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D8A67C-0A1E-4DBF-8EE7-425B5B46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EE663D-80EF-4E58-9F9A-2186BE4B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7787F-DBF6-44AB-86C5-B8BE6B30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2201CD5-5B53-4434-B75E-BC027759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EAA399-C5B3-463C-93F1-BCB84EE1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292A0C-ACC9-402E-9FF5-26C9BDA06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BA37AE-0FAA-4E21-974D-0840CD78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9E74FD-304D-4EE8-B6E8-B8FF7097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FD6538-7FB0-412F-8E38-E739F2A5F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4AC80E-2C15-43C0-9032-01A17FCC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B1DDCF-F5CD-4C61-9394-5C119F72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89AF06-EE88-4D90-9621-C13FA5FEB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7EA727-ED91-4A24-B6EF-BE8072FD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5997A-8CD4-4220-A3EF-E160C1B5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EB5C25-4367-4578-884B-6050343F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2070454-2241-4F40-B041-2B97607B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AD5A5B-880E-4FC8-9352-51368D9D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1B6035-C33E-4F46-A6A8-28D7E315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DDA399-B816-4AA7-8BDC-60930B3D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09C7CD-D262-44BE-8977-649ACB3A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212572-1B42-4A46-9A71-B00EFFAA9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4C84707-DE17-4C5A-8609-1F844958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E34B8F2-977F-4972-9EB2-3017239F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A530C7C-1E58-45A0-952A-7D6543047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1C02-1E1B-40CB-BED3-719D6A83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E420CB2-9F5C-477F-B87E-042324FE2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24B6860-5C9A-4319-8865-3444B0C72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9F88E3E-DF09-48D8-9885-DD32B4F1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3F23E59-7A59-4A1A-A9F9-E4BD89D7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3C8CEC9-B571-4543-9831-45C7DF34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D944202-F046-4B9D-9902-D08F1362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FEBCD3F-C7D0-4C35-9E1C-F2E49149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5111CFA-257F-4B4D-A2F5-8BDC1CF2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0165F43-A13F-4EE4-862B-E79E73BA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C71AFDC-3164-4E92-90E2-8D954896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E3F52-9253-4A4D-8094-D7506B37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D4577CB-1332-4AC8-9242-7E48680E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47130BD-810D-4F10-887A-2B3FF2B3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3F32176-6A6F-491C-83E8-A343F2A3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4ACB941-82A4-4CC3-A74C-067D5F0E7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E773CBC-C0AA-4A84-BE7C-7435B7A13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A138CEE-45AE-4E7E-B7FE-E236807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5168828-752B-45B3-94BC-9B0900F6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E27A147-5764-40D1-8B42-2864FC62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3639C88-E28E-4A36-87A3-8831AF6B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42453F7-6D29-48BE-8CF6-F766C1639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58AE-4F61-4A17-8223-BCF42523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1B06B-3A5F-406A-B44B-6CDF0D76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46937A1-4585-4E6B-B734-9684358AA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0FCBD7-7475-4CBD-B0A6-30275D7B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8626C5-7488-4966-A822-34712769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D9AA0D-D18E-4814-B895-5DD4B97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ADDDDE-9D61-4052-AAC1-62D7CA34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EB032A-7B97-4AB8-A073-44996E06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7C89E3-B4AD-4F19-9E84-829CD877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8287C72-19FD-49F8-ACE1-726E55BD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7D06BE-B695-4E27-A019-5B2DEB2A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CDE3F5D-94E5-45BB-AE47-425860A8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4AA4-135F-4B55-B4A3-8CC46900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A1C07B-77CE-4D46-8D6F-CE1C1EC2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7EB098-06B3-458D-83A4-60CC09935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F11CFD-52DA-42E1-9978-D834BDA64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820751B-465B-4FDB-BC9C-C24E9877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6B64D82-4809-43F2-B497-60371A50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E0CFB44-E90F-4EC9-8085-585853E8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0C79F9B-A4DF-4CBF-832C-1D236FF8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46C9DD3-C5C7-4F93-9DAC-03F377DF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F8C775F-089B-4183-AC0B-7345976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2D74967-DA44-40EE-A6B5-0250471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C9361-C126-40E2-B8D0-C11E1093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0B01616-70FF-4B3F-91DD-1E8384D6B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968B8BE-F7D8-44D6-ACC2-A6CC2BE3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CCF9752-828B-48DC-8CE2-CED059183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8346E235-37D2-4F5A-94E9-1BA960187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B1F9E25-DA68-4FF5-93FB-B8CC9BFED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57AF635-A9C2-4519-BACC-628D8C779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E581F1B-E260-444F-BACD-D7DA323C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D1989B-571E-4B82-938D-D5531A4F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80ADE4-9010-4723-861C-958B388AF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C4E32D5-C0D3-4EEE-AA0F-0FA64A02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59CE7-0C1B-4C0E-B79E-F6B1D163E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D22BF9-3E49-41C6-BDF2-2119A6CC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4A4B15-DF71-4D85-A1AA-C9F25157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6FDDCA-8EB4-41D2-899E-C9DBA154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D70958-3180-4205-B373-E859A9FC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7DF30AF-32E8-4AF9-948B-BA16686F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F30FC47-AD9B-4EDD-8E16-62D9069A5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02CB87D-DCEF-4AAF-A9F7-D0D9065A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8747DF-8100-4E73-9B19-C988CAC1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643BA7-0963-48B7-9B06-CB7D7A1B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0FF45A-C42C-4E1A-9D4F-84B75FE03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1570-D617-40E9-AE2C-FE1230FB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308FB4-AEE2-4272-A9E9-49151AFFB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644ED76-5D8B-45ED-AA76-09609653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8927600-7D93-4A38-BC25-9B47B5BAE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81362E-11EE-4133-941B-F8294306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5703C3B-0833-4B31-9412-8BD3BE2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20F7A1-0E11-471E-A5AF-0DEE2ADE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7B045CB-CFD8-4D96-B106-3621F1B8B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603D05-0B4D-4CE1-BB92-191496D4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9153D29-0C54-4CA4-9124-FA949CA5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31B1B5-B595-4E24-842D-05156068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A2500-7629-46CF-BA24-2DF38B7FF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09D7679-BF25-44E9-8324-E814ACFEB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D5C27B4-0B5F-46C7-BE4C-DD2B2BDF6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E64363-3570-4857-A870-C4A17D713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78402C-DA21-4CCD-AE07-9C07EBBE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C830D7-A1E4-40A2-A0EB-346738AD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0E759B-7A4E-4A0F-80E0-108525F2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0437B5A-FB2A-4AAD-BB30-948E55AF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EAE38A-A274-4B8B-82C3-A9608F61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2872E4E-7858-4F0A-93DB-506580A1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FA88300-2FB6-4CAA-B931-CD65BB6E5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E52B6-7517-411E-BF6E-69D3D5A7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AC37089-F72A-4D00-8DF6-C7B621879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C1F5A2A-8095-4AA5-BD66-6EDA4676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2D4DA99-365C-4371-B650-C2391A85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44436F-A792-4833-A71A-D21DE915E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E0C0F9-A106-4813-BF44-B7C8F7F66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65DCCE-0AA5-4736-900A-E9172CDF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41615F-C28D-48BB-A09D-C1748EAB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3AE22B-588F-400E-949C-58C143AD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5B9BA2-0B26-4BD2-8CF2-D49F81268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D4743B-AC61-4755-A4FF-802DFAF35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3145F-A5E5-4D6C-B98F-099F070D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60CA76B-2C85-4123-8062-2AB2264F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FAC6C8F-16ED-4B1F-84BE-75360A32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EC9771-3C5E-4ACE-9AE8-DE5CFE04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4CB2D8F-1639-42D2-842C-13750E7DB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C35B28-74AF-4606-81FC-F385C1BD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5C7583-5D52-4B5E-ACED-516E06C4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0EC59C-7579-4B67-820C-66161B7F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3CA993-FAF8-4FFD-A86D-2FB52E3D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649F00-C6BA-455D-ADE0-0EF37B1A8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9392641-E7D6-459E-B986-DB6CA29D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C51DB-2804-4D04-87CA-41981FF63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B904DF-453A-4993-8DD2-77965204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132A80-5B0D-40EA-A18C-A40C13EF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9A33F3-5B44-4A69-B2F8-44CDE675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18EEDA-DE34-429D-97EC-57016B390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521B458-F4CA-49C5-BA96-E6E0F97B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0E20AB-264A-466D-9CB6-F1523058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ECF38A-1A04-4997-BB2B-4F93A001B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56D07DD-5129-4537-8DA3-7952D64C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449D7D-3207-402C-94EE-C0431BEE5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B8B4CE-E2D1-455F-98A0-8767A0A82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5CE42-ABC5-4A9E-9C40-CE07810C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D94E9E-E933-47E8-833A-7DEE88BD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841B12-A1EE-4CE2-94F7-34B1CC66A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FEE9AE6-CF63-412A-B531-E272B6F7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4B4A789-8F05-4FCB-A32B-B90326A9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70E5BB-6320-42D5-8057-A54DBB7A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1085B4D-A709-491B-B9E5-0626D500B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940B88C-F9D4-4D72-8054-5E833964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437BC9-CA5A-494F-B44B-991FF9AE5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841978-AC0D-4AE0-B197-D007FA69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3CAC2D3-9952-454B-A60C-CF9653C31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421-A59E-442D-9F5F-D1BA9E7D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B7F21-59F6-4302-AA39-BF561AD1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6DE368-CBEB-4F27-A748-C249028B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3E86AFC-C3CD-4E9E-ADF4-C93941E99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EE41D2-0E3A-44AC-BA33-6C2B044E7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FEF69AD-A098-475D-9425-861427E1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2B71C4-03BC-473D-AA90-566E0401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32FD9B-7255-493D-90FC-0833747E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18C9E5C-84CB-46DB-A54C-168C391B2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072181-49DC-4679-ABC7-7C978486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28C63C-6B33-40D9-B8F0-63B9376D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31D85-479D-4313-8195-3E6E0138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17214-EA5E-4CBF-AA94-9C96E47C3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6EC9CF-CA14-46C3-8178-C958DC1B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CCFDE-0758-40BC-91DE-A951DCE2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A7158-F025-4D3C-86DD-A039DF15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9086-FB9D-4802-9452-1297DEC7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FCB2D-56CE-4A8F-94DB-D1EFC8E25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C64C5-1E5F-4352-AC33-D0ED7D3E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FCDA1-2BEF-4FCE-99AD-C31F5D7D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5660-53E3-4483-B597-2336F55C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262E7-66D5-4D0E-8527-5B97C170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ABDE9-1040-4FE4-B3F8-2DDAFC48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7FBD2D-E8DE-43D4-A7D7-89797A4F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8C241-CBB0-4908-BF65-AE09A30E5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EC8BB9-3355-4014-A015-B63A6B2B2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27568-54E4-47F9-9F69-F5FDBB49A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163E1-A800-4D3E-9FB3-6F6ADBD8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5093F-80E7-4D6E-9EA9-404174C7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C157A-0C73-4240-92D8-6BCC990C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6956A-040E-40D7-ACAB-32A1E000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B154-9BF2-4CE4-BE50-9B496891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B1374-2A2C-4A49-87E6-E57DBF60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45A319-C6C0-444B-ABC1-D884254D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703C4-C45D-4425-91DA-0762A9CF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39C87-10DD-4A10-8772-E9EAA4D0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A5156E-9CC8-472A-A995-B0C1EF52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AF086-E0EC-4925-804D-79D715D3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4333B-DABE-4F8F-A167-FF4CD9F8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3C4B4-8087-478D-9E1D-5931A036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3C732-8A7D-42CF-BA17-37B3DE09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C3655-BC90-443F-919A-325ACCB8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A26-519B-4446-B8F4-D6B218EB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43108-3702-48E8-A70F-DE7FCC626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0BF97-EC5C-4177-8F98-40DDD64E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5AE81-3915-42AD-8B50-2ED3F56F8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B144E-6AE4-49D9-AA28-71B4491AF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79834-D829-407E-BDF5-F9A438641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6CF37-8253-4BB7-A107-617DE5DC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C4060-C322-4EAE-ABAE-4DDCAE765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36178-8426-4F57-BC81-C29CD22A9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0C570-113B-46D8-9C62-D19EECF5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D34936-9281-425F-A37D-A1F16C0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547-8F2D-4B58-9CC4-6B7E4183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5E46-D3F6-41D5-93E9-D9034092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69B20C-65AD-4960-841A-39085D76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603D2-8CFC-42CE-B756-D4412A37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30EA9-D6A7-4AE7-A85E-2755A8AAF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325BF0-5D50-4A9C-A628-F6DDA3EB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1CE9F-E715-43B7-8A97-E6178DA0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1AC31-0A98-4978-A132-356C358E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C44E8-4736-4480-A5AD-9BD4B09D6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1C4B26-E3CC-45A6-83C0-72E93C1F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DA742C-DC01-4D30-B142-6C8EF9A7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A62D-0197-475F-9BF5-79BA4EEA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ADC66-1CD3-493D-B5D1-8856397C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E9EE1-4083-4B83-83A4-117ED07E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AEB1CC-AF24-4D71-B75B-82257763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D5C75-43A4-460B-865D-8E8B3328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5B343-1F83-4B8C-8C51-5CF4CD543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83CC9-9AA6-4F63-ABC5-D90D51BCC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29887B-ED16-4437-8A9D-0E5DDBC12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C58E9-602B-4660-AAE1-F7B9E3AF6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FA597-B6DF-4560-9337-5E355260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ADC38-3A7B-47C4-87C6-3456FAB3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679F-6FBA-40DB-8F24-022450238A4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BDC5-0DD2-40BE-8D62-249D4DA2EB1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6BCF-D522-43D8-B384-ABD8B8AD316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EE4B-6E45-473C-97D1-9353B42567F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2789-B957-471E-81BD-2C0CF644234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51F7-5518-4687-A94B-3241EA00EC7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D926-57A5-4AE5-B0F6-BD2C0D72F21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3B233-E210-4713-ABC1-1C49462DD4C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044D-657B-4BE5-88E0-E2F164893BE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609E-ABCA-4B07-BDE9-466C0BFBA6A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5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dt" idx="5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2398-B124-4995-B7E6-C31A337543D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EDFF-235F-40E3-875D-CA64DD07A62D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ACA5-B20C-4098-9178-2322F1EA5C3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2177-440C-4357-8C26-91C4BC70DB1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4223A-5F54-4582-A6DD-18DB542BF67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6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4B2C-A8DB-407C-BC4E-7716F6E56F26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7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6DDB-0F82-4FEA-8166-F586D36044E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dt" idx="7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7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9B5B3-17AA-4E10-8BF7-40B96417E58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dt" idx="7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ftr" idx="7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7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9DE4-A7DB-485D-AB4C-B590F6A4BA6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sldNum" idx="7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85C7-BF95-4357-BCA2-4D4D64AC2C8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dt" idx="8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ftr" idx="8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07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1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1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39799-797F-484D-8CCC-178C731ACF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5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6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57FB-0548-4736-9DFA-FB2DA354B5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675E9-5FD3-46A3-ACF9-72BDD95224F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D68C-E1C3-432E-A139-8F55BDF7550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45F6-24F5-483D-8F88-5310C47BF8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09AD-069E-4AD1-B68D-DA61275EA3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C416B-5CAB-47DC-8FDE-23A737B85C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8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2E1A-97BD-4F46-85E4-7C292054F6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39B3D-BF34-4AF6-B2BE-4AF7A6E059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680A-7F47-49B6-9675-C6CB38D7BDCA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FB51-464B-4DEA-8FDA-4E11A168D720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D77D-527E-4162-9611-7E4A2279FBD5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5F2E-3226-496E-8EDE-4EDB4EE0C7C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68CD-7F22-4A1C-B411-DEA3EE85A512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162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THEMATICS AND TECHN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The mathematical and technological skills that I learned and applied throughout this project was I formatted excel cells to calculate my work just like a calculator would. For example, to calculate the total amount I spent shopping for my dorm in collage, I type in =SUM(D11:D29) in the bottom cell and it calculated for 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ffective Develop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1898a"/>
                </a:solidFill>
                <a:latin typeface="Georgia"/>
              </a:rPr>
              <a:t>This project has increased my knowledge of self because doing it made me have to think about what collage I wanted to go to and it told me how I felt about the dissentions I had to make.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Some decisions I had to make were I had to decide how to spend my money at the store for food and I had to decide what collage to go to and what to buy for my dorm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39:14Z</dcterms:created>
  <dc:creator>ITSUser</dc:creator>
  <dc:description/>
  <dc:language>en-US</dc:language>
  <cp:lastModifiedBy>ITSUser</cp:lastModifiedBy>
  <dcterms:modified xsi:type="dcterms:W3CDTF">2010-02-10T20:58:05Z</dcterms:modified>
  <cp:revision>7</cp:revision>
  <dc:subject/>
  <dc:title>MY COLLEGE PLANING REFLECTION</dc:title>
</cp:coreProperties>
</file>