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589-FB00-4420-A6F7-4C51E2B1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F480-2B40-4867-9BC7-0D23AB6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D049A-5CF8-456E-AED3-C8517D9E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7E166-E72D-4FFD-87FD-FF55273A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AF6C5-31F3-4742-9A78-ED9C8229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6BC8F-B3D9-4E60-B5D0-BEC6F715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4A1FCF-D439-4AA5-865E-74435DB3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9C49DD-1F4F-4D94-B6F7-D83EBEDA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846B6-9557-4335-BBA6-F22A71D5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F68B1-6976-407C-99AF-3D1F9CB6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C2F8F-6ABE-443B-867D-5C4410EC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DE8AE-8E5C-4A21-88B0-86800E4A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ADFB-F50C-4394-97E3-A355A4AEC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0457A5-B7C5-4ED0-99B9-784F9205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08252-12D9-4B6A-A8A5-949F3371E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DCC0F-55B9-4B3B-BE63-05C961A68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821839-80C8-4242-86BA-0EF91C10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740B5-30F5-496D-8532-66E5A784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32056-A5A1-4A71-B0E7-4F3CAC81D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794761-6731-4AD9-A45B-ABCBB06A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18D216-36D1-4188-98D7-F013686B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0D121-D129-4727-BD90-F3B2AC78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79987E-349B-462B-A17F-6541DE94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90BF-7CE9-43EE-B467-EFF2BD6B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776DF0-F709-4828-90B0-2A456E570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EF7A57-B099-41DA-B534-91E3B0138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7DB36D-5164-4BB3-BF8E-CAD83121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9A8B34-5646-4205-A884-DC39B2F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86687-DD0E-4D82-AD26-D8E0F52F3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2D4B-875D-4A6A-B33E-C4E6AAA5F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0AC04-5883-465B-A0C4-5570B12F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9C6A0D-80E7-4A0C-BE5B-B20C016F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A80C90-8E60-4516-A978-EFFB3007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9015E-5651-4B3F-A768-88E79107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51BB-57CA-4BEA-AC88-DC57D1DEF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42A904-1A43-4227-8432-0BE7A751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B0AF8A-2ADF-41C5-9F8D-DB94CE212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38D1A-1C9C-4811-A0FF-98633E80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1148F7-BC63-4824-B15F-8E3841B3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6B2FAF3-55FC-46BA-A415-2CE0F12C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FDC0AB5-89D8-4F56-A970-1111A922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03D7435-8126-4957-BED1-3E8887DB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FE1968-EEEB-4407-AC0F-7ADAC126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0448FC7-68B2-401C-B36F-CE198483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66EF529-7A9F-4ED8-A4B1-12759F93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1260-99B1-44D5-B311-62E7B4E1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F3B4DF-C50D-4F79-8771-FF581E02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7257BD-D7DA-4518-8579-BA619DFC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3554F23-36ED-451D-8F2E-E965E7234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D1A42D0-02E4-4447-B057-68346DC9D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F35770E-1B8B-4E41-A9FE-E94B9E062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9D76BF-AF9E-44BC-B37A-3D363E06D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C850AE-49B9-4C5B-859C-C529CAF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C9B496-2E5F-444C-B77A-D65423BBB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181A8-CA36-4F55-B2B4-28F937D3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0DD7AC-C138-40F6-97D0-367D1EB9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24CED-4750-468A-AC5A-5500C9D7A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0214CB-97D7-4ABE-8F18-FBD1E2859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3151EA-6BCB-4058-9968-DA6FA409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7BAFE1-BEC9-4D93-8069-54CC41EC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6A55E-1023-4D3C-88EE-0659D8B3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7DD09B-5F16-4F98-89D4-F579A6FC5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26337D-6CF9-4A25-8270-74120740E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D871D7-309F-497B-A0FE-CEFFB424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01CACD1-AEE9-4F70-BAFA-644FC173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53A98B-66B8-432E-9B4F-CABDB39D3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2AF5639-713B-46C1-9B64-6BB3C76F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1B4F-945C-4525-8CE4-BD29F17F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BBDCD72-BB77-4F47-9696-B8358BBC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3F16B4-4BAA-4F81-BE3F-A748D5F0D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737908F-5AA1-4A5D-AE7D-E0CF5DE57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BB9C1CC-1D1A-45CE-BF1C-E68664F8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DB42FEB-80B2-4E3C-B990-C5FDE037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5917A9A-E8D5-4A72-A74E-5E5C07162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C0C0DD4-E0B2-4D82-9175-4170FD5EB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89B0B40-98F0-477C-B015-ACD5FA6C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61E3C8E-E8B9-4F36-B4E9-0E18CF9F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72EE7A-7688-43E8-ABAC-98D87E4E3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413C1-B1EB-4B68-AE08-1713D7D1A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349F67A-9895-4D4E-8FD3-894A0B5A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A17B73-5755-480C-95D4-2528DA79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8C670F-49AF-4A9B-942B-1E1823EA9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2825D3E-D9CE-4101-A586-E4E99B52E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526BF32-0361-4D99-9930-C763EF30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865AE9D-7166-49B0-BFD0-552D1832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1B4E25E-9886-44CE-9AF0-42C94B84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DDAA6A3-5F10-4CD4-81AB-024FC18C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842F180-4750-4990-8ED3-0A6567E9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01E1A0A-179D-4AB7-9750-B4247321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972E7-179E-4CDE-9BD5-0BF6F1B8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6811CA-AF25-4A8E-AFA9-F192B4F84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600FF10-618E-4E28-9F9D-C196DFC3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2F8891-9072-470A-84A3-F2927346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2E8FB94-B6EF-4ACE-AE20-4897C23D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A554335-B9BB-46B9-BB8D-E6AF8ABC3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7FBADEF-086E-4864-B7DF-41462B087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31ED5B2-56D0-4E09-816D-8002EDFF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FE2F4E4-2803-4162-8D4B-C1B723F0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08158C-DD14-4C73-B97F-C7F1A5C6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F90F58E-E122-4D47-B63B-5B05B72F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8EAF-931E-466F-B0F3-6E2D2D33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142C8D0-6FA8-435B-BB64-BB954AE4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FEB402-0319-475A-A2AB-A17B7ECF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6ED8959-BAB7-4A39-BA1B-EB03D3872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6DF81-52CC-4CD7-8AF1-BC04806B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EA3FFC-AA2F-47C5-BCCB-CF6A3499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9FFC67-D9EC-4534-9303-12EDF6E9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83B0A-A755-4CC1-8878-E0263FC3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18EB7D-F720-4C7C-AA05-468B13F9F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2E8C5D-05EA-4A2C-A2B1-A62563E3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B6C2CA-C496-44B6-B909-73961498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E16C-3D86-45A5-BF0A-711613B6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0166-D8AA-4B8C-9CC7-36AAF189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42EC95-5E6A-4C92-920C-D39FBB26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5A736F-8853-4A8E-B5B5-0CB8E0FD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E18CE6-4C55-4900-B767-1C52CBDB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84C08D-51A9-441A-84DF-9DFDEBDA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386C4B-D8B4-452D-9609-C6622633D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D3275B-D188-4276-A235-75C6E276C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12C62F-9DBC-4326-8590-6C6101FD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2B8E62-EB47-4083-8FA0-C99D3A8F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31F8B6-CDBA-4680-B70D-10750078B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7A50B8-B0C8-476F-9D07-8010A2BA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5846-2355-4D19-8C8D-B2CD4E75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11A9E-CCB0-498F-A637-4DBEE77F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6FA6E-DC3B-4C24-B63B-535B1F80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080A3BF-372D-4B17-A8DF-775350405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33A2B6-D895-409A-A32A-189AE308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7789B1-0BD9-415E-AA0A-DC04AF3BD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3D2FBD-A8BE-4F9F-B24A-A2C24679F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74220-1C3D-4EAB-80A0-528B8DD96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41E36D-C692-4DE9-926E-4BFBC7A18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1043E3-2215-4695-AC48-A65A83CF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17D02F-C800-44A2-9EEB-AE31ED6FB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705E-D5FF-477A-AE4D-54DDC9F1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8EA15B-4115-4776-A584-C0A3F21E0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4CFEC-F975-4CF5-8C7B-C6511A81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5B249B-5059-4AE0-9270-63D00025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2C11C3-D323-459D-A4E3-DE2FFC14D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BDC03-2CF9-4381-932F-8178CC9A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44212-122E-4D2C-ACAC-996146EA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907B6C-964B-4973-BCEB-B1FD74DC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9F9DBF-68DF-4B7E-AB9F-1937A39C5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D2A3D6-86DF-4A1F-B96B-4CF7C48C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2C8C6-E739-4A18-A973-49CCDB07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B3AD-AF8D-48D4-A822-A1C7C83F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7B7F6-05CF-46AA-8BF1-1787787B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13B26B-CFAD-42C9-80B5-2D69A4F3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C9D4C-A592-468B-B7ED-A6EB29D11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2721B-63C4-4908-8B15-8ECCE88B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66D58-813D-4C0E-8699-DDDDA1F3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B9D685-2B2B-4F1A-B0E9-A39BA8F9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95E68-5DB0-49A5-A5C8-AB2E0E42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A54A20-C3BE-4209-B224-F64E8097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273A98-D782-49C5-BC1B-1F9AE53F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41087F-229C-4945-80C1-D3CB8E6A0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6BE9-5B67-4F55-BE39-8A690FFB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A3DFD7-6F2B-4220-AF6E-6F572F9C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CBD63-C20F-4C98-9F1C-79C4E28D8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88E820-8FBB-4547-8883-F4B9966B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FDEF6-6AEF-44F8-85FE-80E0BAE0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D7CC3E-4895-4177-88B8-4596010F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E5215-A3EF-46D7-A56C-9FD6890E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685A64-C840-4350-A62A-04527C5FA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AD6F4C-1A12-4A33-B4C1-F13D546B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5FA2A2-3704-4952-9143-7E1CBBCE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168703-4F0B-41B8-B11F-EE675178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2E971-EB30-4118-91BA-C23E7CB8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BC12C7-0A25-4D62-AE98-F8FB8F17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52C071-FCDE-4107-B212-122327D75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4107CB-FAF2-45F9-ADE7-D288D332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4939D4-4DA8-4404-B7E6-733CEDDC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11524D-3E5A-48C6-864C-9D55D045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00702A-0820-4A02-8B79-7C305462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D72632-3CE1-49AF-BAC5-58415115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CC2F46-91B3-4306-8A9E-BB55879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538EBF-7240-4C23-BF78-4131D9FF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F80155-63BD-4F23-B273-2F9C717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CB32D-7717-482E-A5E1-884CC614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80CFEF-E967-48CE-BBD4-FB8CCE54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B920F3-E184-4078-BD7C-1FA4F2A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4EF527-CF7E-4E34-982D-7FCBB8CA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A95962-BB8B-4EA1-AA8C-AFF8C3E0C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2E0E29A-B8B4-4B0E-80D0-3EAA3AE2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04A7B-D93C-4E32-9AC1-3D1C4C30E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322BF9-C1EA-4006-9807-4769653AB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AAD4B6-0D0E-45E9-A0DF-AD2480B5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082119-FBEB-46C8-99DF-403FD164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3E7291-4578-478F-BD13-DA5A9E47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0A9E-5454-4B85-B0E8-36809E9E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187096-5A88-49C0-874A-6A787596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57A52B-B5E6-4AD2-B9AA-C640B7A2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62B3BC-B008-4423-97D5-D696A91AC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B82435-37F3-4670-9FAB-14C9A1FB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6F99BE-3D2C-4909-B29E-EA5EC93E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D9FCD2-BE22-4148-BD13-FC1EF705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2DC244B-DBCD-4A0A-B307-8F8F5E0C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6E567C6-E201-4C4B-BC1F-269E1595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B802AB-8613-4F54-89DA-9CACF8AF8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637F9B8-AC3A-4CE7-AF95-32922BD5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0A53-5777-4841-B36E-0B0B9CACD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7617DB8-9964-4AA3-AA8C-E4F9DD152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2FB1925-4B9F-405E-A038-204EC0957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7C22139D-FFBC-481C-8EE6-9D68D9EB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590426F-7B39-4822-A43B-F6CA3596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A4660C-6E8D-44E3-823F-630BF3C6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50B65CA-2591-440B-A6C9-457C393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E9E560B-DD4E-429B-9EF5-6D27ED88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4ED4569-D51A-476B-AA47-9C112BA3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5654AF04-6419-4E2E-9850-3990A419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4522B1F-34D3-4541-A2B1-FB8FCC78A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8C4C7-30D2-43DB-BD28-34D90285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3604C8A-8A11-4CBB-A1CD-6FE68A00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91CF9B4-4FE6-455F-A2EC-F6A675FF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2F39F6A-16B0-45C3-9D10-74B81715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50612A6-5464-4453-9271-105A6ADD2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1D60B86-1DC5-4E50-A933-58328C37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458EF53B-E423-4B6B-B809-F83546635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FEBC24-5791-4F78-9CF3-9083D796B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CBCB27FF-4289-4F7B-87F3-8EAC7EAA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FF8B143-0EE3-4DAC-9A2A-3B97607A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36D3179-C488-46CF-A376-DFBAE011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9D96-F5BA-4243-A0B7-3E0BE8E7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01420-2A40-4999-8DBB-08B53733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9C3B90C-D30D-49DD-9A8F-CB0C5A3D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8F31EA-2E3F-404D-B9BF-CA9694C07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3AB402-983F-45CD-89C4-FDAC98C3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F3331F-9630-4E7B-A01E-DF94A9BD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55FEDF-32DE-4AC1-B5AF-77B580173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E3D9B8-C7E5-4BB1-ADD7-47B25246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A22251-9802-4F14-A4E9-3D855B977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D5C44A-E833-4503-8F5F-C61D656B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AD8445-9F8E-4D6B-8311-4AE45B31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93C6E5A-7CC1-4D35-944D-8718934D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AA337-8092-43FC-AFBC-F18EF01E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2C6256-28E1-4438-B9A7-2005F34E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05C15D-86C7-4731-A68B-4E3B39ABB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E23AE3-DE8E-4A11-B4DD-A2F97541A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9D3FAE2-7406-467C-A9B3-2B4A0951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1E20189-5C01-4069-B3E5-953B53DF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D28AE02-4FA6-4CC1-B4DD-8C74EEA3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A4DC3DEA-18A9-4E21-B947-E08F1936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46CD725-F466-42A8-8784-60581E34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88E2707-5427-4753-BE91-7E15138E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F3839C6-0F05-4301-AE16-5CB7D4C3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4A72-DF73-4F36-ADD5-9EE4B7A14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2A303DA-BD9A-43FB-9E6D-3A3AA045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FBBF4B5-B726-45E7-9878-07AA087A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7C56304-605D-4195-835D-0BE55AAA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66D90EC-CF43-4163-A302-D3763700A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AC9D363-A3D4-466C-912F-312E9A314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F8A0AE-8EDC-462D-AAF7-2EA2CAF3D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11EE38-7B96-49A5-A9E6-9F2D3C3F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1809AA-626D-472D-9979-794FA60E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FD41738-C7D2-4DC5-8954-D7852F562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F99EF8-CA73-4B6E-A0AD-E683D007B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1FEAC-59B9-47AD-9AA8-3849CF594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DE31782-E1F5-4741-AFB6-5E81A229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CE10486-E236-491D-86DA-7193FFA2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77114D5-772E-479B-B774-013C2BD7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BB5C82-4FEE-455E-B414-5BF8286B9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E0E112-90F9-4233-82E1-0F20E849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DDB0ACF-F3B7-441C-A105-B541102A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F81360-1644-4C69-A45E-1C6ACEFF6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BAB5F9-623D-41E0-B705-8D4058C6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1AA410-A9FD-4F80-81B8-4C9A3DB3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25C8C6-CA1E-4F4A-BCFB-87AB6E46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44EFA-1203-4704-98FF-1747C3D3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803EB84-C424-4581-8D16-E52F892E6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874EA1-C27E-4924-AA8D-D24FF5CA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540689-34D3-4851-AF67-FA7B8284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75FEFE-C411-47AC-B260-1188CCDD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4AEF68-B7DE-461D-BC69-7E2232CA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FD6E72-3A0B-4E58-80AD-7C41637A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D9BDBC-E5DD-4106-A3F0-3E4BA35D5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9A8FC3-5183-4A05-871B-337B6F28F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DD94E2-56C1-4E31-B7BE-B1BE838B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A3F162-9A1E-40BA-8304-63AF89D0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B00C1-6763-4689-9C29-7637FE8E5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24AF11E-A3CC-4586-ADDB-2FF8167B8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35259F-1108-4FCA-91D7-ACF7536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F7FC52-9EE9-4B92-B2BB-D4BE3914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C77054-3A8B-445C-9098-AD4FD4A7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F1766C-97C6-4A7A-8298-558162BD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50B26E-7103-45B8-8C8B-4BF42685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6CBDDC-685E-4ACF-9AB7-3D6AB0288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531C3D-6274-40F2-AA70-853EECF8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DB2EA5-6059-49DD-8A7E-16A56317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760494-4388-4F63-81D9-FDD60DDB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C8B7C-CD13-40AA-A605-83376574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3BE0A6-17FD-4296-9E0C-6CAEEECB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8788658-CB71-4C5F-9F79-84B15B57E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379732-2870-47BD-BC13-619A5EC6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D33D0C-F02F-4038-A678-9BB83C84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709BE0-2E9A-4C62-B664-BCF75E7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5FEFC1E-9FDE-4914-A91C-AC1FE8BC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33978E-4025-4742-B816-B0402CA8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544DF-A6A4-43E6-8586-60EF9894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A31B3A-8B17-40F9-940A-640251ED5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F959686-5C2D-4333-B311-58FBF3BA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40486-E3B8-4922-87F5-FE5337B0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393311-E2A5-4999-A875-8F7D3939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7852D2-9070-4D4D-B420-6E8A82FE8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DF83D0-61AA-4285-AF25-FD43DDB4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E48562-C772-410B-ADA8-161789C3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7AA163-E17A-4E14-B9AC-3E3FC1A31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628BADD-4529-4D8C-81BA-144EA3B8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7A1E71-8E92-4CF1-8E41-BA2AF1C3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E5835F-77A9-4D0A-A1A8-F9908B52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DDE3EFE-25CB-4539-81E9-8784630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8A3708-161C-48AC-A54D-E820B12C7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73117-6AF5-4F43-8291-A23B4A58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52DEFC-AAEC-4B80-A2F1-2D690838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73546D9-4904-42C3-B65D-35F49CE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28F4735-8E71-4535-9564-057A1CCA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125D7A-6249-45F6-B5A1-C59AD040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06A4EA3-A585-4FDD-BC17-FB6B44183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69CD8E-93F8-4C05-9765-A67E3407A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F30197-0601-454F-817A-C72C65D7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7D3980E-DD68-46A9-BED3-9D43721A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5D87CE9-E23C-4D57-8409-049F6B5D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4F5C4FD-2436-481E-A995-DF4B81B3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6F344-F34B-47E9-A922-3A62991D2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85D2E75-CFA6-40C7-B896-242B22EF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9A8C1B3-61E0-4486-BFD3-3704E35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FC35F38-E21B-4ED5-A235-B8D85C6F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8E13498-206D-4446-A3B3-F1E995B1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263DABC-D44B-4B30-9BA8-D077F004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3C5A8E4-81DB-4D9C-84E7-DC56FE51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7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77C9FA-8903-4164-9F60-C83D454E5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3D25965-F0E1-47E7-8550-81092940D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B92963F-22F7-423B-826A-CD54F590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8330728-8082-483F-BE47-060E9CCA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635-2236-41C1-A951-A6D13C93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238A3-DC78-4C90-9675-17E4EB7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41F723-7695-4490-A895-7B4AC58B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97D68E-2A20-4298-ABA0-0D84C919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6AF8EE-1A48-4555-9B9B-C0B2AB32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2E8EE0-8FBB-4722-8B23-5569D7C9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3DF52CA-DE0F-4581-904C-88564408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6DCFE8-5F31-47BC-809C-ED99C43E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4E90D8-6AAD-45BA-88BE-BF55F592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2B4012-E8F4-4E1B-AD3D-E53643537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F3ECAB-83F8-421D-A3C9-FCBC3E63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3D3F5-F733-42A1-A5EF-96F4FD87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EFB1E-BC6C-4FC6-9BCE-E2260B84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9F8CF-9ED1-48C5-BBB8-9EF72344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80B0-EA70-44A7-B853-DFD97D66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926CC-644D-454D-A56B-5FEDA57A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712CE-C806-47DC-BD6C-722FECE9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0A7C4-1D18-4A0C-87DC-5A9FA0322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7B7B0-6407-4B09-AAD3-4E1D87E9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ED30C-4437-406C-BEA1-E1879AAEC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004D-FF32-4A95-A31E-9E1F55C2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2DBB7-7892-46F9-96CF-347A82843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E1BC2-1CEB-4574-8974-411C665D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1120B-7B6A-49C4-92E8-AB02A2184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50C0-89B6-45B8-8E96-A1A33FDF8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7F20C-3AE3-45C6-A68D-18FAE6DFE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F4421-249D-4F15-9EE8-36A3D11C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51D8D-45C7-4377-B736-0CFEE673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11542-1974-41D6-8493-8C693516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B0CDF-6171-425B-BA50-0AC60278C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28857-FB43-4C69-8C5E-3D3BC493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A68B-D22A-4B6C-8A44-559507838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02FE8-5DF2-4355-8BD7-06B7E85EE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5ED38-F681-418F-BEC9-B8CE3CF7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2B868-EBD5-4EC7-9111-860E0B62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7EE37-7CA1-430E-9807-F32588FB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D4C06-9A4A-4A8C-A8EB-50D067A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F6FCC-21EB-4A7F-9EF4-F52E5D30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A3DC5-9286-4DDD-9DA8-B82CC1D5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9B670-F3A3-4B4D-88B0-185D02D1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FBB88-61E4-4F63-86FE-66BFB3BB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2A752-7997-4907-96E0-4BB8F8DF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C5C1-92AD-486E-8FCE-05D62B17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E3A2B-8138-40CC-A68A-0F8A8A5E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0BEC-3EAF-4F0E-8491-CC3ED3FA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EAC0C-2E71-481A-94B9-8665DF80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7139F-DAF3-4B62-A23B-D6A38EDC7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72428-6521-49BB-A4B7-8F2DA087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BF53F-4F63-4318-B3EA-6085241A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6BF78F-8EB5-4F3E-8799-A0CB1CF1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EA94C-1E92-432A-B03F-381B1CB2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03E8B-D59B-4BE7-A979-4B2533F9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3A23C-1033-4B31-9996-3AC1C14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72EA-E0F6-4C35-BF39-45E66C53C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3FB91-F144-4643-AAD2-18A342A3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428C1-8FF2-43E0-BBDD-361E253F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5BF03-C8A5-4467-B19A-42E0ED90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10F10-1253-4B27-ABA8-1121E9B1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4710F-0585-4AF6-BCEC-3045B56C9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595840-DEF8-4980-9279-8ED6A095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743B2-1E7F-4F26-913F-A1FB152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E9CDC-04E3-4DE9-BC8A-0D9DB0DD2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0C8C2-C67C-438D-A2BC-9553D075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0B37-5D26-4465-AE0C-1EB8AA64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09E5-831F-4DF8-805B-58663252D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D60A0-6265-4994-80E1-033F6E5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8AFBF-A7C4-4FC1-9685-2B0276E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B66546-1609-419A-8AB6-8DD4EEF6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CC13D-F405-4550-AAA8-4D03C3CA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A6D4A-287A-4F02-935E-A4D1EE7E2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13CB9C-ACDB-4982-9616-73E5A62E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650EB-36C3-4672-8775-9F954B5BC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C807A-19E7-4113-A862-FF9E266CA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859C8-D7FA-4ADF-AD22-92D7701A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CFB2C-936B-40D7-95DC-7FCD462F6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97.xml"/><Relationship Id="rId6" Type="http://schemas.openxmlformats.org/officeDocument/2006/relationships/slideLayout" Target="../slideLayouts/slideLayout398.xml"/><Relationship Id="rId7" Type="http://schemas.openxmlformats.org/officeDocument/2006/relationships/slideLayout" Target="../slideLayouts/slideLayout399.xml"/><Relationship Id="rId8" Type="http://schemas.openxmlformats.org/officeDocument/2006/relationships/slideLayout" Target="../slideLayouts/slideLayout400.xml"/><Relationship Id="rId9" Type="http://schemas.openxmlformats.org/officeDocument/2006/relationships/slideLayout" Target="../slideLayouts/slideLayout401.xml"/><Relationship Id="rId10" Type="http://schemas.openxmlformats.org/officeDocument/2006/relationships/slideLayout" Target="../slideLayouts/slideLayout402.xml"/><Relationship Id="rId11" Type="http://schemas.openxmlformats.org/officeDocument/2006/relationships/slideLayout" Target="../slideLayouts/slideLayout403.xml"/><Relationship Id="rId12" Type="http://schemas.openxmlformats.org/officeDocument/2006/relationships/slideLayout" Target="../slideLayouts/slideLayout404.xml"/><Relationship Id="rId13" Type="http://schemas.openxmlformats.org/officeDocument/2006/relationships/slideLayout" Target="../slideLayouts/slideLayout405.xml"/><Relationship Id="rId14" Type="http://schemas.openxmlformats.org/officeDocument/2006/relationships/slideLayout" Target="../slideLayouts/slideLayout406.xml"/><Relationship Id="rId15" Type="http://schemas.openxmlformats.org/officeDocument/2006/relationships/slideLayout" Target="../slideLayouts/slideLayout407.xml"/><Relationship Id="rId16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B8F2-38D1-4874-A0E8-A5EB382C4C5D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27FF-FBD3-476A-A042-3586EB096C70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921F-6DEC-484E-870D-2989B4C8EA71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3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2774-9045-445D-BCC1-F4A72E2EF36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3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7B74-5800-4895-8A46-6FCE71B0E8A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 type="dt" idx="40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 type="sldNum" idx="41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9089C-1303-4E00-9D78-DD3E22CA41D4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 type="ftr" idx="4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 type="dt" idx="4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 type="sldNum" idx="4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1F31-E938-4A19-B163-342B158BE385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 type="ftr" idx="4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sldNum" idx="4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AB4F4-A2E8-4743-9E93-1B7C48D0B56B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ftr" idx="4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4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1935-D044-40BA-9D30-3F5C8BF94AA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850B-F7CE-47FF-BDA1-9A55588B94A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 type="ftr" idx="5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 type="dt" idx="5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 type="sldNum" idx="5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D986-3C9C-448F-A56A-957776251DA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EADC-D24F-4247-B7C5-18B048B00A5A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8B082-A4FD-412C-8384-282DA096767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 type="dt" idx="6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 type="ftr" idx="6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 type="sldNum" idx="6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CFA-0A66-43A9-AC36-17C593A7924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dt" idx="6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 type="ftr" idx="6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 type="sldNum" idx="6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3E41-6002-4E47-9A6A-6F8E73970CF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dt" idx="6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ftr" idx="6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sldNum" idx="6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E65A-17CC-453D-80F5-0196D16F6942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 type="sldNum" idx="7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92F7-E652-4A13-B9E9-DF1BEBF818F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 type="dt" idx="7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 type="ftr" idx="7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 type="sldNum" idx="7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2D23A-80A1-4101-B85D-EA9D2DEC437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 type="dt" idx="7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 type="ftr" idx="7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 type="dt" idx="7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 type="ftr" idx="7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 type="sldNum" idx="7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040D-1B09-488F-8BF7-A6A147048A7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 type="sldNum" idx="7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CB7F-6EC3-4FF2-8804-F2E773022BB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 type="dt" idx="8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 type="ftr" idx="8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6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1307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9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1310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312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 type="dt" idx="8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 type="ftr" idx="8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 type="sldNum" idx="8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A426-5D53-4C41-B8B2-D32E907E349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357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359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360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 type="dt" idx="8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 type="ftr" idx="8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 type="sldNum" idx="8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2CE6-C76D-4BC5-8AA5-50A918BC8B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Num" idx="9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18CC-4BE7-49E5-A105-04BF62F952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0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0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8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8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F08A-A06E-4935-970D-29B96155B3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 type="dt" idx="9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 type="ftr" idx="9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 type="sldNum" idx="9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9502-8EE0-4726-9096-2CB8C749873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94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96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99" name="PlaceHolder 3"/>
          <p:cNvSpPr>
            <a:spLocks noGrp="1"/>
          </p:cNvSpPr>
          <p:nvPr>
            <p:ph type="dt" idx="9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PlaceHolder 4"/>
          <p:cNvSpPr>
            <a:spLocks noGrp="1"/>
          </p:cNvSpPr>
          <p:nvPr>
            <p:ph type="ftr" idx="9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5"/>
          <p:cNvSpPr>
            <a:spLocks noGrp="1"/>
          </p:cNvSpPr>
          <p:nvPr>
            <p:ph type="sldNum" idx="9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D11-053E-42AE-9B55-38159DC10C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 type="dt" idx="9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 type="ftr" idx="9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2" name="PlaceHolder 5"/>
          <p:cNvSpPr>
            <a:spLocks noGrp="1"/>
          </p:cNvSpPr>
          <p:nvPr>
            <p:ph type="sldNum" idx="9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6CBE-1950-40B2-8B64-8F83249A3FA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81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582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84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85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 type="dt" idx="10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 type="ftr" idx="10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 type="sldNum" idx="10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A601-64D4-44C3-B394-316013BF1A1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5"/>
    <p:sldLayoutId id="2147484079" r:id="rId6"/>
    <p:sldLayoutId id="2147484080" r:id="rId7"/>
    <p:sldLayoutId id="2147484081" r:id="rId8"/>
    <p:sldLayoutId id="2147484082" r:id="rId9"/>
    <p:sldLayoutId id="2147484083" r:id="rId10"/>
    <p:sldLayoutId id="2147484084" r:id="rId11"/>
    <p:sldLayoutId id="2147484085" r:id="rId12"/>
    <p:sldLayoutId id="2147484086" r:id="rId13"/>
    <p:sldLayoutId id="2147484087" r:id="rId14"/>
    <p:sldLayoutId id="2147484088" r:id="rId15"/>
    <p:sldLayoutId id="2147484089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4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9059-102C-4293-A117-A234EC4BD3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65DE-0FB1-412F-B6B9-356AD5A5B999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16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17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12C90-5669-480B-B654-4BC3AD80A06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9595-6F99-4F82-88CE-6EFD41F30D1E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5BE2-386C-4559-94C5-3A394BE10236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5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6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7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89BAF-AD0E-447E-898A-3A835E49A7F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8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74400" cy="1597320"/>
          </a:xfrm>
          <a:prstGeom prst="rect">
            <a:avLst/>
          </a:prstGeom>
          <a:ln w="0">
            <a:noFill/>
          </a:ln>
        </p:spPr>
      </p:pic>
      <p:pic>
        <p:nvPicPr>
          <p:cNvPr id="1629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MATHEMATICS AND TECHNOLOG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entury Schoolbook"/>
              </a:rPr>
              <a:t>The mathematical and technological skills that I learned and applied throughout this project was I formatted excel cells to calculate my work just like a calculator would. For example, to calculate the total amount I spent shopping for my dorm in collage, I type in =SUM(D11:D29) in the bottom cell and it calculated for m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Affective Developmen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61898a"/>
                </a:solidFill>
                <a:latin typeface="Georgia"/>
              </a:rPr>
              <a:t>This project has increased my knowledge of self because doing it made me have to think about what collage I wanted to go to and it told me how I felt about the dissentions I had to make.  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3171e"/>
                </a:solidFill>
                <a:latin typeface="Lucida Sans Unicode"/>
              </a:rPr>
              <a:t>Some decisions I had to make were I had to decide how to spend my money at the store for food and I had to decide what collage to go to and what to buy for my dorm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6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39:14Z</dcterms:created>
  <dc:creator>ITSUser</dc:creator>
  <dc:description/>
  <dc:language>en-US</dc:language>
  <cp:lastModifiedBy>ITSUser</cp:lastModifiedBy>
  <dcterms:modified xsi:type="dcterms:W3CDTF">2010-02-10T20:58:05Z</dcterms:modified>
  <cp:revision>7</cp:revision>
  <dc:subject/>
  <dc:title>MY COLLEGE PLANING REFLECTION</dc:title>
</cp:coreProperties>
</file>