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DC6-C574-4BE6-912B-641A5A47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7C0E-A089-49A8-8829-E59589AB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BC23-9D8C-4A00-ADA0-177E554A8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375-DAD4-4808-9B69-A9427794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46FC9-1E45-4C0D-9817-EFD4F123A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F29-37BB-4E59-A180-F35F5DA7A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298B-4C13-485E-B152-63AA6211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4C6-16F1-480B-92F5-3E66847B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3DED2-3044-4CD6-BF5A-01FB9070C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58C8E-84F0-4C1D-88D0-67A1819D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5754-17EB-40BD-BEF3-14A1800B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05B9-076B-40B4-BD15-F17ED981F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F2FC-EAB6-480D-AE47-9CE8EF8D1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8D566-24BF-4CB6-B024-2FEB831E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EBCA-0E07-47C4-8BD6-5E8B02BB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9822-E593-4125-86AF-E5A82F8A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C2EC-A59D-4CD4-A9B6-57F823495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1AAA20-74B0-4288-80AB-4FEDAB99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5CA7B9-E13B-4EC9-9C40-4390C3B9A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4BBBBE-FE79-437E-B891-66498AC7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A0E82-E682-4487-A010-22F4231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CE86F-BAEF-4500-8203-08D99924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0FE0-1E9E-4476-BCD9-081779CF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235124-38AC-4518-89A0-0D575285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946C26-A933-4F4C-95F5-74A54064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B320C-8BE0-4224-BF03-3A71D783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40A255-72A3-4A27-B867-AB9CBAC8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3DC89-57DE-47E6-BE5B-D3AD6D80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07A699-C2EE-4EC5-9E9F-B87E71C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4A104-C62E-4D3C-8E9A-3079DCFD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23463-F5DC-4222-A4A1-E5788111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39FB-C838-4C0F-9AD4-F5C2339B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CACA7-57F6-4805-99CD-67BFF896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E174-EB7D-48B6-B4A7-4144C89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010F2-26A1-4618-AD4B-3BBA645B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873A6-8290-4849-9FFF-D83F5ACC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71AB1-81BB-4036-93B3-16F8F9D2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B6639-358F-4358-9BFA-6FCDDA72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64112-3520-4A17-891A-9AAFAD25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A8F3E-FC63-4D91-9963-49BD03D9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D8AE-C5D8-4581-97FA-C2CFE1A1C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202CA-5AB6-4A32-BC65-7C061ABB4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39ED3-9F66-4368-95ED-937EB2860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AD2EC-0D93-49CA-A133-330A042E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51A7-4680-47E2-9B2C-8AB868F83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A3077A-B69D-41C7-8653-B6ECCC72D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710134-7E14-4089-A4B5-1D8388B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539166-916C-4E5C-8A70-C49FC4A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A65E30-3299-4796-984F-69969C29C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F3A676-C9DE-459C-9D4F-49BA49C6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E74414-3994-402E-83FA-EA8E1E04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811774-AD69-4DB1-BEF5-B466A036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AF79AC-84F5-42E9-BC9C-1C5EA38B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6B8A66-1A28-4BC3-A1A7-B9CE850A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7F9A5-C78C-409C-BB56-2541C1100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F95B-14D3-4B1A-A8D8-0DC38C0A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44F046-8EFF-4A1F-BFB6-1D5A7E2E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89F11-291A-4F84-900A-EF76215C4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1AEC1D-3AC9-4739-B468-42EA9CB3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C7655C-61C7-4F43-B6BB-99EF4520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8ACC17-AC2B-4DE6-BEA8-3AD70C29C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84E294-71B4-42C5-8BD8-21FA4CA1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E579F-E262-4181-9F11-C75748C56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61A25A-E0CC-4C82-8566-A1B638A5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23502-70F3-41C6-B726-B9639BDF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39A2BE-D6C2-4EF3-A9CD-F7608260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668-3E50-4FE3-8120-ACF5B4B0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4CD0FA-887B-4A65-9783-ADBA7C205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76FEA6-BF5E-4C4A-933D-A88CE9907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A683A3-5668-4B85-BFE9-6E3DBDAE8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BC59BE-1A20-46A0-AF1E-20F2489F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3A2624-1096-43B6-9125-A3BDB914C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1E817-11D4-4F3A-904E-D1142AD8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A4D1D3-7E88-4743-9590-F138C679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EEE893-F241-4A48-AC7B-0BA4834F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7ED18-6423-406F-B0C6-BBDE810F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E27DF5-E3AC-4144-9C10-5F1266DB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F2B8-7996-42A0-A8D2-0DEAA045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81824-F89E-442B-AA21-965DB52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6A8EBC-D57A-4AFC-AA79-ABB09374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4295A5-12B5-4476-8B0F-6359E045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4D9D1D-CA73-480B-AE20-81A3DE138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91759-7F26-42E5-9DE0-B7EFEA52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CF1-5E4D-434C-BDAB-1A4A205F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E877-9B82-4AEE-B107-E1467A2BDA03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1A7C-8401-41E8-968A-5A9A79D41B7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92B2-7338-4E24-B82C-08D445FE2C7A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4843-440E-41AB-A794-E119277058A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C00E5-81DA-4A47-94CA-F561ED017F21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D6AA-C9CD-48A0-B8C0-0E160950EE7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3CB1-DD6D-4B1F-A7F8-B2E44315A880}" type="datetime">
              <a:rPr b="0" lang="en-US" sz="1200" spc="-1" strike="noStrike">
                <a:solidFill>
                  <a:srgbClr val="fff39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2B9C-65C5-4DDB-A2AD-7C4D856A857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606B-8228-4071-A395-AC50EE1871F8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5705-D4BD-46CB-B182-774D6C7AFB2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134A-C52D-4B5A-BE1B-F7E29E9AFA1E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FD7B-9ECA-4C8F-B9D5-AC297F3ACBB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3C37-6687-45F2-B3FA-59713B9D5492}" type="datetime">
              <a:rPr b="0" lang="en-US" sz="1200" spc="-1" strike="noStrike">
                <a:solidFill>
                  <a:srgbClr val="575f6d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7F1-829C-439D-8E68-397C4EA758F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2" descr="http://www.aboriginalartnews.com.au/photos/colleen_wallace_nungari_dreamtime_sisters_imag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pic>
        <p:nvPicPr>
          <p:cNvPr id="352" name="TextBox 4" descr=""/>
          <p:cNvPicPr/>
          <p:nvPr/>
        </p:nvPicPr>
        <p:blipFill>
          <a:blip r:embed="rId2"/>
          <a:stretch/>
        </p:blipFill>
        <p:spPr>
          <a:xfrm>
            <a:off x="2004840" y="2859120"/>
            <a:ext cx="5170680" cy="217656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D4EE-E7FE-48BA-988E-87C81FBC3310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Box 1"/>
          <p:cNvSpPr/>
          <p:nvPr/>
        </p:nvSpPr>
        <p:spPr>
          <a:xfrm>
            <a:off x="304920" y="380880"/>
            <a:ext cx="51051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 chose sisters for my collected anthology. For me, sisters are so big, they help you so much. So I decided to make a tribute to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2" descr="C:\Documents and Settings\TwLab\Local Settings\Temporary Internet Files\Content.IE5\9BD1XLZZ\MPj01785250000[1].jpg"/>
          <p:cNvPicPr/>
          <p:nvPr/>
        </p:nvPicPr>
        <p:blipFill>
          <a:blip r:embed="rId1"/>
          <a:stretch/>
        </p:blipFill>
        <p:spPr>
          <a:xfrm>
            <a:off x="4800600" y="4952880"/>
            <a:ext cx="2857680" cy="19051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C:\Documents and Settings\TwLab\Local Settings\Temporary Internet Files\Content.IE5\ZCI6PB8U\MPj01850660000[1].jpg"/>
          <p:cNvPicPr/>
          <p:nvPr/>
        </p:nvPicPr>
        <p:blipFill>
          <a:blip r:embed="rId2"/>
          <a:stretch/>
        </p:blipFill>
        <p:spPr>
          <a:xfrm>
            <a:off x="6724800" y="129528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5" descr="C:\Documents and Settings\TwLab\Local Settings\Temporary Internet Files\Content.IE5\9BD1XLZZ\MCPE02273_0000[1].wmf"/>
          <p:cNvPicPr/>
          <p:nvPr/>
        </p:nvPicPr>
        <p:blipFill>
          <a:blip r:embed="rId3"/>
          <a:stretch/>
        </p:blipFill>
        <p:spPr>
          <a:xfrm>
            <a:off x="5257800" y="0"/>
            <a:ext cx="1812960" cy="1828800"/>
          </a:xfrm>
          <a:prstGeom prst="rect">
            <a:avLst/>
          </a:prstGeom>
          <a:ln w="0">
            <a:noFill/>
          </a:ln>
        </p:spPr>
      </p:pic>
      <p:sp>
        <p:nvSpPr>
          <p:cNvPr id="358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BF81-0A79-4C1C-8795-1BC14BA7522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Box 2"/>
          <p:cNvSpPr/>
          <p:nvPr/>
        </p:nvSpPr>
        <p:spPr>
          <a:xfrm>
            <a:off x="2506680" y="0"/>
            <a:ext cx="459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99cf7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3"/>
          <p:cNvSpPr/>
          <p:nvPr/>
        </p:nvSpPr>
        <p:spPr>
          <a:xfrm>
            <a:off x="43560" y="1676520"/>
            <a:ext cx="9048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1: Int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2: Why I chose sis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3:Table of 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4: MY SISTER by Carniz Fatim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5: Sisters Forev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 6:A Sister by Sara Hammour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age7: Thank 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4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9FDF-D9DB-4F6F-86B4-26A0B61AFD1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2" name=""/>
          <p:cNvGraphicFramePr/>
          <p:nvPr/>
        </p:nvGraphicFramePr>
        <p:xfrm>
          <a:off x="3048120" y="274680"/>
          <a:ext cx="4370400" cy="6583320"/>
        </p:xfrm>
        <a:graphic>
          <a:graphicData uri="http://schemas.openxmlformats.org/drawingml/2006/table">
            <a:tbl>
              <a:tblPr/>
              <a:tblGrid>
                <a:gridCol w="4370400"/>
              </a:tblGrid>
              <a:tr h="65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olds me tigh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isses me goodnight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when I’m m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elps me when I’m sa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so sm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y heart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loves me l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ties the knot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here to st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have until this very day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 wish you w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yes I can tell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asked if I lied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knows if I’ve cried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has moved away 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My sister is in my heart to and will always stay </a:t>
                      </a:r>
                      <a:br>
                        <a:rPr sz="1800"/>
                      </a:b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Carniz Fatima</a:t>
                      </a: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800"/>
                      </a:br>
                      <a:br>
                        <a:rPr sz="1800"/>
                      </a:b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3" name="Picture 6" descr="http://www.raisingthearts.com/images/Sisters%20Journey%20big.jpg"/>
          <p:cNvPicPr/>
          <p:nvPr/>
        </p:nvPicPr>
        <p:blipFill>
          <a:blip r:embed="rId1"/>
          <a:stretch/>
        </p:blipFill>
        <p:spPr>
          <a:xfrm>
            <a:off x="52560" y="2133720"/>
            <a:ext cx="2322360" cy="3216240"/>
          </a:xfrm>
          <a:prstGeom prst="rect">
            <a:avLst/>
          </a:prstGeom>
          <a:ln w="0">
            <a:noFill/>
          </a:ln>
        </p:spPr>
      </p:pic>
      <p:sp>
        <p:nvSpPr>
          <p:cNvPr id="36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548-27BA-403F-BD66-BD8FB928E26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3048120" y="380880"/>
          <a:ext cx="2792160" cy="6442200"/>
        </p:xfrm>
        <a:graphic>
          <a:graphicData uri="http://schemas.openxmlformats.org/drawingml/2006/table">
            <a:tbl>
              <a:tblPr/>
              <a:tblGrid>
                <a:gridCol w="398520"/>
                <a:gridCol w="2393640"/>
              </a:tblGrid>
              <a:tr h="6442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700"/>
                      </a:b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41760" rIns="41760" tIns="20880" bIns="20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ev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verything you did or still do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 matter what happen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o me or to you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make it through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t's Now or n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you will always know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at 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AND ALL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hough you may th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d your heart may sink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ut sister always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 LOVE YOU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use I’m you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 FOREV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o don't cry or w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Not even when you sleep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Just dream happy drea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Because life's not always what it seems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irl remember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We will always be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STERS FOR EVER </a:t>
                      </a:r>
                      <a:br>
                        <a:rPr sz="1400"/>
                      </a:b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760" marR="41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6" name="Picture 1" descr="C:\Documents and Settings\TwLab\Local Settings\Temporary Internet Files\Content.IE5\PDS1BFZB\MCj00894680000[1].wmf"/>
          <p:cNvPicPr/>
          <p:nvPr/>
        </p:nvPicPr>
        <p:blipFill>
          <a:blip r:embed="rId1"/>
          <a:stretch/>
        </p:blipFill>
        <p:spPr>
          <a:xfrm>
            <a:off x="838080" y="2362320"/>
            <a:ext cx="1779840" cy="1217520"/>
          </a:xfrm>
          <a:prstGeom prst="rect">
            <a:avLst/>
          </a:prstGeom>
          <a:ln w="0">
            <a:noFill/>
          </a:ln>
        </p:spPr>
      </p:pic>
      <p:sp>
        <p:nvSpPr>
          <p:cNvPr id="36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1109B-F9EF-4783-90AA-F5F2950196E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8" name=""/>
          <p:cNvGraphicFramePr/>
          <p:nvPr/>
        </p:nvGraphicFramePr>
        <p:xfrm>
          <a:off x="2895480" y="228600"/>
          <a:ext cx="3429000" cy="6878520"/>
        </p:xfrm>
        <a:graphic>
          <a:graphicData uri="http://schemas.openxmlformats.org/drawingml/2006/table">
            <a:tbl>
              <a:tblPr/>
              <a:tblGrid>
                <a:gridCol w="266760"/>
                <a:gridCol w="3162240"/>
              </a:tblGrid>
              <a:tr h="243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51480" rIns="51480" tIns="25560" bIns="255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eads you when you are having a problem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laugh and cry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likes to fight with you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the one who stands with you in all your ups and down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makes you remember who you really are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sometimes makes you cry when they are very sa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who is always there for you through all the laughter and tears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real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never will pretend.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A sister is someone like you whom I treasure everyday in my heart. </a:t>
                      </a:r>
                      <a:br>
                        <a:rPr sz="1600"/>
                      </a:b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ara Hammouri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br>
                        <a:rPr sz="1600"/>
                      </a:b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865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668c4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369" name="Picture 1" descr="C:\Documents and Settings\TwLab\Local Settings\Temporary Internet Files\Content.IE5\XSF37IBG\MCj01160460000[1].wmf"/>
          <p:cNvPicPr/>
          <p:nvPr/>
        </p:nvPicPr>
        <p:blipFill>
          <a:blip r:embed="rId1"/>
          <a:stretch/>
        </p:blipFill>
        <p:spPr>
          <a:xfrm>
            <a:off x="380880" y="1143000"/>
            <a:ext cx="2743200" cy="4075200"/>
          </a:xfrm>
          <a:prstGeom prst="rect">
            <a:avLst/>
          </a:prstGeom>
          <a:ln w="0">
            <a:noFill/>
          </a:ln>
        </p:spPr>
      </p:pic>
      <p:sp>
        <p:nvSpPr>
          <p:cNvPr id="3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D6B2-5514-411F-8124-BC3F7ED882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BE40-4D7F-4977-AD71-1B44D48DB47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"/>
          <p:cNvSpPr/>
          <p:nvPr/>
        </p:nvSpPr>
        <p:spPr>
          <a:xfrm>
            <a:off x="1371600" y="1295280"/>
            <a:ext cx="5638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poems were chosen because they all related to my theme, and I thought they would be good for a tribute to sisters. I learned a l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Rectangle 1" descr=""/>
          <p:cNvPicPr/>
          <p:nvPr/>
        </p:nvPicPr>
        <p:blipFill>
          <a:blip r:embed="rId1"/>
          <a:stretch/>
        </p:blipFill>
        <p:spPr>
          <a:xfrm>
            <a:off x="920880" y="658800"/>
            <a:ext cx="7729560" cy="4827600"/>
          </a:xfrm>
          <a:prstGeom prst="rect">
            <a:avLst/>
          </a:prstGeom>
          <a:ln w="0">
            <a:noFill/>
          </a:ln>
        </p:spPr>
      </p:pic>
      <p:sp>
        <p:nvSpPr>
          <p:cNvPr id="374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597A-5A68-4F15-BBE9-F05BB197665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2T21:03:27Z</dcterms:created>
  <dc:creator>ITSUser</dc:creator>
  <dc:description/>
  <dc:language>en-US</dc:language>
  <cp:lastModifiedBy>ITSUser</cp:lastModifiedBy>
  <dcterms:modified xsi:type="dcterms:W3CDTF">2009-05-13T21:26:48Z</dcterms:modified>
  <cp:revision>8</cp:revision>
  <dc:subject/>
  <dc:title>Slide 1</dc:title>
</cp:coreProperties>
</file>