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30DD-38B4-46B9-BAE0-42C575404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4E54-814B-45C8-8C57-3862BBB6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5900-E646-45D4-8AB8-757E5CBE7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B57E-CCC1-45D0-AAD0-9037A507D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DDBA-91CB-4CC1-9D55-698C44258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5BB6-A3DE-441E-96C4-A5E380A5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046D-208A-4150-B096-F7C22EA8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C36D-33BC-4BBB-8FAE-DE5D768D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39BB-F575-481A-A32F-7B8CBA13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4981-ACFC-46E5-9F10-062F1DDD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7D367-26B6-493B-A1AF-3910ED5B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A1A1-E6E3-495F-9006-FF911F80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8D54-35FC-446C-BB35-85B0BCC9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CA0F7-70F4-41A8-92E2-CAC550D8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94F2-C952-41F3-ABF8-C85CDEA8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5C8F-E35A-46D3-B1CB-637E30DE9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0D8E-BA05-40D6-B602-6E56960F2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6188C9-533B-4FD5-84E5-FCEF59BB6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387856-DE1F-4979-96ED-12996CF9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7685F9-5517-4829-A935-6F6D7A3F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0ADBA8-7E44-4DA0-B98B-B45EE360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5CC0D6-E35F-4124-A1D1-49D048DC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9DB6-CEA8-40DC-A21A-2C240DDB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C818DF-8F99-4CD2-B99B-33238556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B215CD-BDC1-41AF-806B-2728DC4E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D7E396-085E-4141-B12D-A1858AEF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1A1FB5-532A-40E3-90CD-8F456CF7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C29715-37F1-47A7-86E8-C1B789B1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691B65-8219-4847-82BB-C7AB9D8CF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89EFEE-289C-427F-9AE0-570D323BE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22610-7401-47B2-89D2-F3CA19586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E68B6-69EA-4CA3-AB0F-17063BE7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97258-79EE-40AA-AB58-7434C2D3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2E91-81B7-46F4-8386-5B0BE548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7013A-D296-467A-AB53-CCE49B4D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47FCD-9951-4012-8C58-90772C98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A3CFA-11BC-48B5-B082-534942C5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24080-A8BA-4760-BA09-89618247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502CF-2CF3-4A45-9D19-8EC8DFE8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D3FE4-60B4-4D05-8070-187B3C21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F70FD-D103-44AC-88CC-B5E1D83B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350FB-F2CD-4692-80A5-FA1CA38DF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DF9A6-318A-4EBA-81A3-CC1C84F03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E2CC3A-A544-4523-BA65-429C49B20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638B-E72E-4273-932E-2B2D9C4B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6434BA-D477-4BF7-ACD2-41C3B510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B5B692-54B5-495D-9E09-36629AED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7EC66B-D7A7-4198-AAFD-B8CDAE47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6113AC-025F-4439-B474-90F016AA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05B09B-842D-4567-BDCE-C6A5EC3B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7BEF40-EEB0-46AA-BA1E-F249FC27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AB5870-5B05-495D-80B3-0CF76773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EF7496-034A-4E64-B806-BC7AFD47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865FA3-9238-4AE3-881D-3B85C25E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9FB035-B05D-4297-85D2-B71D36285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0740-A256-49EC-A33D-3C6C18EB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CD5A0A-FF99-412B-BE3F-EAB916E73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697587-1B0D-44BE-9D07-EF8C5984F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A394A5-D599-46E5-BC8D-7CCDFCD6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3A14D5-51AC-4A9E-A567-7E5A37A0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92B96E-E6CD-4CD2-BFE4-F6DBF2B1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DEAAB9-AD1C-4FC9-8597-8A999853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D81B55-068A-40A2-ABAF-BE0AFA71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3CB250-2E0A-4A39-968B-EEC4C782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A345ED-8622-44CE-A75A-432C8BEB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E60EDA-A2D1-42E7-8AEF-6FBCB6EB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C43F-FBB7-4EEE-BB7F-AD015A1C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E6AF7C-8FDC-4C31-82E1-70657FAD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D696BB-92A0-46DA-B59A-828434120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EE3DEE-5A50-49CC-8E88-9AE376867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67C7F4-8B3E-4836-8B58-7FE502392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24E961-A8A9-44C3-9B21-1984E597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4D403E-B015-4658-A23C-1F16C428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13DFE6-05AF-4FA2-89A0-4CFBD617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E882BD-03D2-439F-BFC7-1C4733D2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E704ED-D285-461B-B462-D6794E8C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D518C9-644A-428A-B977-AE0ABA24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AC2C-709B-4C90-A29E-9C6DF1AF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7D32D6-4744-4C31-97CF-8BA9B2B9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EF9210-EA76-413B-8960-2CDAB392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716A05-B9A3-4525-ABBC-26AADB76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DA16D5-4F5F-4A20-A284-9A8ACE6FA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40C17C-D0AD-469B-ABB2-A9A945A90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8F9C-1185-4F6E-92E8-E0D7DCA5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F72C-FCA7-4DBD-93DA-FA4D47E376E3}" type="datetime">
              <a:rPr b="0" lang="en-US" sz="1200" spc="-1" strike="noStrike">
                <a:solidFill>
                  <a:srgbClr val="575f6d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0DE6-FE02-4B0F-BC43-192F9BE11EF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756A-E28D-452C-8253-E92D58A6F406}" type="datetime">
              <a:rPr b="0" lang="en-US" sz="1200" spc="-1" strike="noStrike">
                <a:solidFill>
                  <a:srgbClr val="575f6d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409D-5155-4E13-B722-6CC7239DDF7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B924-71D1-4E18-A610-8AFC27D6D44A}" type="datetime">
              <a:rPr b="0" lang="en-US" sz="1200" spc="-1" strike="noStrike">
                <a:solidFill>
                  <a:srgbClr val="575f6d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C6AF-D9CE-4816-88CD-8AAE3587BC2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A83C-4E6B-4676-BEC0-34A3764454E0}" type="datetime">
              <a:rPr b="0" lang="en-US" sz="1200" spc="-1" strike="noStrike">
                <a:solidFill>
                  <a:srgbClr val="fff39d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ECD5-8F0A-402E-8343-C9DC6969F91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7FBC-6372-466B-B75C-4552F75D8085}" type="datetime">
              <a:rPr b="0" lang="en-US" sz="1200" spc="-1" strike="noStrike">
                <a:solidFill>
                  <a:srgbClr val="575f6d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AC81-C022-4A33-A10F-6F3BE235FBA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ABB6-1C6B-4C46-A73F-9CE09722A19C}" type="datetime">
              <a:rPr b="0" lang="en-US" sz="1200" spc="-1" strike="noStrike">
                <a:solidFill>
                  <a:srgbClr val="575f6d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482D-89A7-47A2-8F66-CF682FE4B67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0385-6340-443F-970F-209220098415}" type="datetime">
              <a:rPr b="0" lang="en-US" sz="1200" spc="-1" strike="noStrike">
                <a:solidFill>
                  <a:srgbClr val="575f6d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36CA-6615-4C25-85FA-B0372E3216E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http://www.aboriginalartnews.com.au/photos/colleen_wallace_nungari_dreamtime_sisters_imag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pic>
        <p:nvPicPr>
          <p:cNvPr id="352" name="TextBox 4" descr=""/>
          <p:cNvPicPr/>
          <p:nvPr/>
        </p:nvPicPr>
        <p:blipFill>
          <a:blip r:embed="rId2"/>
          <a:stretch/>
        </p:blipFill>
        <p:spPr>
          <a:xfrm>
            <a:off x="2004840" y="2859120"/>
            <a:ext cx="5170680" cy="2176560"/>
          </a:xfrm>
          <a:prstGeom prst="rect">
            <a:avLst/>
          </a:prstGeom>
          <a:ln w="0">
            <a:noFill/>
          </a:ln>
        </p:spPr>
      </p:pic>
      <p:sp>
        <p:nvSpPr>
          <p:cNvPr id="35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2330-F62C-4264-AF1C-C3C4B6F902A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Box 1"/>
          <p:cNvSpPr/>
          <p:nvPr/>
        </p:nvSpPr>
        <p:spPr>
          <a:xfrm>
            <a:off x="304920" y="380880"/>
            <a:ext cx="51051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 chose sisters for my collected anthology. For me, sisters are so big, they help you so much. So I decided to make a tribute to the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2" descr="C:\Documents and Settings\TwLab\Local Settings\Temporary Internet Files\Content.IE5\9BD1XLZZ\MPj01785250000[1].jpg"/>
          <p:cNvPicPr/>
          <p:nvPr/>
        </p:nvPicPr>
        <p:blipFill>
          <a:blip r:embed="rId1"/>
          <a:stretch/>
        </p:blipFill>
        <p:spPr>
          <a:xfrm>
            <a:off x="4800600" y="495288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C:\Documents and Settings\TwLab\Local Settings\Temporary Internet Files\Content.IE5\ZCI6PB8U\MPj01850660000[1].jpg"/>
          <p:cNvPicPr/>
          <p:nvPr/>
        </p:nvPicPr>
        <p:blipFill>
          <a:blip r:embed="rId2"/>
          <a:stretch/>
        </p:blipFill>
        <p:spPr>
          <a:xfrm>
            <a:off x="6724800" y="1295280"/>
            <a:ext cx="2419200" cy="36576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" descr="C:\Documents and Settings\TwLab\Local Settings\Temporary Internet Files\Content.IE5\9BD1XLZZ\MCPE02273_0000[1].wmf"/>
          <p:cNvPicPr/>
          <p:nvPr/>
        </p:nvPicPr>
        <p:blipFill>
          <a:blip r:embed="rId3"/>
          <a:stretch/>
        </p:blipFill>
        <p:spPr>
          <a:xfrm>
            <a:off x="5257800" y="0"/>
            <a:ext cx="1812960" cy="1828800"/>
          </a:xfrm>
          <a:prstGeom prst="rect">
            <a:avLst/>
          </a:prstGeom>
          <a:ln w="0">
            <a:noFill/>
          </a:ln>
        </p:spPr>
      </p:pic>
      <p:sp>
        <p:nvSpPr>
          <p:cNvPr id="358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7540-640A-4168-A6C5-59F902A728E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Box 2"/>
          <p:cNvSpPr/>
          <p:nvPr/>
        </p:nvSpPr>
        <p:spPr>
          <a:xfrm>
            <a:off x="2506680" y="0"/>
            <a:ext cx="459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9cf7"/>
                </a:solidFill>
                <a:latin typeface="Arial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3"/>
          <p:cNvSpPr/>
          <p:nvPr/>
        </p:nvSpPr>
        <p:spPr>
          <a:xfrm>
            <a:off x="43560" y="1676520"/>
            <a:ext cx="9048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age 1: Int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age 2: Why I chose si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age 3:Table of 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age 4: MY SISTER by Carniz Fatim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age 5: Sisters Forever by Sara Hammour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age 6:A Sister by Sara Hammour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age7: Thank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1EA5-5A88-4616-84EE-816A6EA3050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3048120" y="274680"/>
          <a:ext cx="4370400" cy="6583320"/>
        </p:xfrm>
        <a:graphic>
          <a:graphicData uri="http://schemas.openxmlformats.org/drawingml/2006/table">
            <a:tbl>
              <a:tblPr/>
              <a:tblGrid>
                <a:gridCol w="4370400"/>
              </a:tblGrid>
              <a:tr h="6584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holds me tight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kisses me goodnight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knows when I’m mad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helps me when I’m sad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is so smart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has my heart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loves me lot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ties the knot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is here to stay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I have until this very day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I wish you well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yes I can tell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asked if I lied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knows if I’ve cried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has moved away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is in my heart to and will always stay 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Carniz Fatima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 </a:t>
                      </a: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3" name="Picture 6" descr="http://www.raisingthearts.com/images/Sisters%20Journey%20big.jpg"/>
          <p:cNvPicPr/>
          <p:nvPr/>
        </p:nvPicPr>
        <p:blipFill>
          <a:blip r:embed="rId1"/>
          <a:stretch/>
        </p:blipFill>
        <p:spPr>
          <a:xfrm>
            <a:off x="52560" y="2133720"/>
            <a:ext cx="2322360" cy="321624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180C-0A56-4395-A66A-7E1EA6765FA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5" name=""/>
          <p:cNvGraphicFramePr/>
          <p:nvPr/>
        </p:nvGraphicFramePr>
        <p:xfrm>
          <a:off x="3048120" y="380880"/>
          <a:ext cx="2792160" cy="6442200"/>
        </p:xfrm>
        <a:graphic>
          <a:graphicData uri="http://schemas.openxmlformats.org/drawingml/2006/table">
            <a:tbl>
              <a:tblPr/>
              <a:tblGrid>
                <a:gridCol w="398520"/>
                <a:gridCol w="2393640"/>
              </a:tblGrid>
              <a:tr h="6442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700"/>
                      </a:b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760" rIns="41760" tIns="20880" bIns="20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sters fore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verything you did or still do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o matter what happens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me or to you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We will always make it through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t's Now or never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use you will always know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at we will always be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STERS AND ALL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ough you may think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nd your heart may sink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But sister always remember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 LOVE YOU forever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use I’m your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STER FOREVER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o don't cry or weep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ot even when you sleep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Just dream happy dreams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Because life's not always what it seems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Girl remember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We will always be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STERS FOR EVER 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ara Hammour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6" name="Picture 1" descr="C:\Documents and Settings\TwLab\Local Settings\Temporary Internet Files\Content.IE5\PDS1BFZB\MCj00894680000[1].wmf"/>
          <p:cNvPicPr/>
          <p:nvPr/>
        </p:nvPicPr>
        <p:blipFill>
          <a:blip r:embed="rId1"/>
          <a:stretch/>
        </p:blipFill>
        <p:spPr>
          <a:xfrm>
            <a:off x="838080" y="2362320"/>
            <a:ext cx="1779840" cy="1217520"/>
          </a:xfrm>
          <a:prstGeom prst="rect">
            <a:avLst/>
          </a:prstGeom>
          <a:ln w="0">
            <a:noFill/>
          </a:ln>
        </p:spPr>
      </p:pic>
      <p:sp>
        <p:nvSpPr>
          <p:cNvPr id="367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3D88-D694-4E88-9B14-8CD02534753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2895480" y="228600"/>
          <a:ext cx="3429000" cy="6878520"/>
        </p:xfrm>
        <a:graphic>
          <a:graphicData uri="http://schemas.openxmlformats.org/drawingml/2006/table">
            <a:tbl>
              <a:tblPr/>
              <a:tblGrid>
                <a:gridCol w="266760"/>
                <a:gridCol w="3162240"/>
              </a:tblGrid>
              <a:tr h="243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1480" rIns="51480" tIns="25560" bIns="25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 is someone who leads you when you are having a problem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 makes you laugh and cry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 is someone who likes to fight with you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 is the one who stands with you in all your ups and downs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 makes you remember who you really are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 sometimes makes you cry when they are very sad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 is someone who is always there for you through all the laughter and tears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 is real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 never will pretend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 is someone like you whom I treasure everyday in my heart.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ara Hammour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br>
                        <a:rPr sz="1600"/>
                      </a:b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865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369" name="Picture 1" descr="C:\Documents and Settings\TwLab\Local Settings\Temporary Internet Files\Content.IE5\XSF37IBG\MCj01160460000[1].wmf"/>
          <p:cNvPicPr/>
          <p:nvPr/>
        </p:nvPicPr>
        <p:blipFill>
          <a:blip r:embed="rId1"/>
          <a:stretch/>
        </p:blipFill>
        <p:spPr>
          <a:xfrm>
            <a:off x="380880" y="1143000"/>
            <a:ext cx="2743200" cy="4075200"/>
          </a:xfrm>
          <a:prstGeom prst="rect">
            <a:avLst/>
          </a:prstGeom>
          <a:ln w="0">
            <a:noFill/>
          </a:ln>
        </p:spPr>
      </p:pic>
      <p:sp>
        <p:nvSpPr>
          <p:cNvPr id="370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3D9E-B4AE-47A2-BD3B-434A6264D7D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C020-71B6-41FD-AE3E-69C7374FD6B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"/>
          <p:cNvSpPr/>
          <p:nvPr/>
        </p:nvSpPr>
        <p:spPr>
          <a:xfrm>
            <a:off x="1371600" y="1295280"/>
            <a:ext cx="5638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se poems were chosen because they all related to my theme, and I thought they would be good for a tribute to sisters. I learned a l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Rectangle 1" descr=""/>
          <p:cNvPicPr/>
          <p:nvPr/>
        </p:nvPicPr>
        <p:blipFill>
          <a:blip r:embed="rId1"/>
          <a:stretch/>
        </p:blipFill>
        <p:spPr>
          <a:xfrm>
            <a:off x="920880" y="658800"/>
            <a:ext cx="7729560" cy="4827600"/>
          </a:xfrm>
          <a:prstGeom prst="rect">
            <a:avLst/>
          </a:prstGeom>
          <a:ln w="0">
            <a:noFill/>
          </a:ln>
        </p:spPr>
      </p:pic>
      <p:sp>
        <p:nvSpPr>
          <p:cNvPr id="374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6DF1-7619-4A39-90DE-F7F228F920B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21:03:27Z</dcterms:created>
  <dc:creator>ITSUser</dc:creator>
  <dc:description/>
  <dc:language>en-US</dc:language>
  <cp:lastModifiedBy>ITSUser</cp:lastModifiedBy>
  <dcterms:modified xsi:type="dcterms:W3CDTF">2009-05-13T21:26:48Z</dcterms:modified>
  <cp:revision>8</cp:revision>
  <dc:subject/>
  <dc:title>Slide 1</dc:title>
</cp:coreProperties>
</file>