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7B0-87F7-431B-B5B7-E9B6B3A0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B254-E235-440F-B726-123CAC967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0A0B-B724-4744-81AE-5E7966CB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E07D-69FB-4E79-BAF0-18768193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7AEA-AA3E-4FDD-8C21-13A0B57A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8665-5D46-4080-A08E-170FC2FA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FA9E-9259-4DBD-9382-4324174D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5E28-6503-4B77-9F85-8E6F067B0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356C-CD87-445B-A77B-31F7CD8A8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D4CA-5E78-47CF-BDF8-69E6171C6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B0E1-52EF-4FDC-811F-269929CA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D85-7C58-4B6E-8374-24504960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6CD2-458D-4AFB-8B62-C7F4A74FD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5F32-DADD-4CE8-95E2-9AF88E5C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FAA6-BFB2-4CEB-AFB5-121C5218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A349-D0CA-455D-BBF4-BEA1C671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22FA-BA37-4ED2-AC32-300AF1B7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A693D0-6788-4890-98FC-82D143E0C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D2BA83-2934-4DDA-898C-D3FAF271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5BA352-F31F-4D77-8862-BE66117B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0F894F-3037-41FA-9F7B-DC051E990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5FF96A-983E-41BA-B5D6-E52E787F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39BF-CB23-4B4B-B4DC-4FA4A3D1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39EE9-442C-4B77-9F3B-A53015D4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F887C8-C2A1-4030-9491-C781D2D2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68ED42-B9D9-4CA6-A023-89DD8A9B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B52215-E502-4BF5-A715-C539CA25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2509BF-6727-403F-A977-E1A5FC4B5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2426FA-2C53-4F02-BB94-DD1D09A9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EFF21-B36B-4DC2-A7FD-8DAACD40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0D686-B87C-40F7-B899-5E4E2DA3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D8AEC-E2B8-4034-BCE0-74B441D4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2FD7F-E940-490F-B22F-3ED4CA93C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25CE-B896-4C00-8C3A-192406AD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224C4-7189-469B-817A-74A35DD5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3167E-02B9-4F34-A910-485DC961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EB5704-0C1C-4A88-875F-F75867B7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555F9-AC85-4D1E-9176-DE885590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3A7E0-007E-44C4-A9E2-73C93EB4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F9858-FDD2-4C98-8134-1188E6E5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6EE9C-934B-491B-9754-76A6F921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1D8DD-4CE9-4342-8A6F-79EBEF92B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D46B2-0BC0-4895-93B4-438EA919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9E09F-7458-48B7-8EC3-ED6315C2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75D5-4DC1-46F2-B154-F51DAEDF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D547C0-3DBF-4315-8494-398FEFBE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DD06AF-F92E-4F9F-980F-ACD31BCC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FAA179-7299-4BB4-84A7-DC13F1F5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A71A85-0928-479C-8B2B-B695B27AA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800920-50CB-498B-865E-6D952C0FE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330470-B70B-44F4-ABCF-1D03F80C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A47A58-F382-47BF-9E1D-A2DE4C6C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9A4A1-6C13-4985-9D9E-0C3FF7DD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34CEBC-7339-4403-AC35-3F55F906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2B8B06-CF91-479B-99F6-D4F8945A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7E6B-E32C-4667-AF0F-4A6C5E31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50108-CEEC-4A1C-A5AC-1830453F7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A68B8D-FFC5-4AB5-8DB7-6F9DB948F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2C5E46-B6C5-4356-BFA9-5952FA4F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2E55B5-D8B2-43E1-8487-56DE3907E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EA21BC-37A1-49B3-9DB9-DA22BB66D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CE4FEB-C9E8-4B62-9DF5-0BB8C68B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1B2582-EA25-41F0-B24B-40D032151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66D1B4-7D3E-467D-B94B-AFFE8CD3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B0ABB0-0982-4B39-B20D-DD6B73E6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DCE708-C44D-48E3-BEEA-1B0CB36F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C4F4-7FE9-49B0-8D0D-F7677D5D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D421C3-DAD1-4DF3-9603-C4D64539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3BFB7A-8115-458D-86AA-EA8601C39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1EA39A-4C21-4F40-9144-B6E846228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5C0477-9A4A-4F1C-BC8F-2BA94D4E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556A78-E364-41D3-95DA-92B84703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AE292F-457C-4EE8-9090-AEBF4239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00CA63-1A58-4260-ABCE-02925081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3B2C18-5C30-4392-A7B5-47CFC148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2AEED5-858F-48B1-A3ED-809052DE9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B16C27-6F9F-43D9-BD0D-A037D90C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A7A9-9D5A-4B50-81AA-28188586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2CFCAC-11D1-4B45-A4FF-F3CFE630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68527C-10FC-4F36-8D65-F398427A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1540F7-7496-46CB-B612-19D73286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FD1BEA-602B-4FD2-BAC4-2E92828DC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63FD8A-C414-4723-85C2-BC4798E6F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328A-354C-4F52-9E6A-FD4A94C1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BE2D-60BE-4263-9A07-262DD094A04C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8B3E8-F70F-47AF-B4AF-7DCDC40A43C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4458-D336-4354-884C-8FC1F8895857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9FB2-D6F8-430F-B8D8-B3D8E474975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7CB27-BC11-4B89-869D-EA3276FDE22A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D1F96-D8FC-4624-85E2-EDAE7EC0C82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BB5AE-72BC-42F6-A9C6-ECDF6CCDE6B3}" type="datetime">
              <a:rPr b="0" lang="en-US" sz="1200" spc="-1" strike="noStrike">
                <a:solidFill>
                  <a:srgbClr val="fff39d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525E-3EB2-49B6-91F7-3B607F852AA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7B998-ADED-4476-801E-E698F2D0E48E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3F311-87DF-4C4B-8092-5A347BF492C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B4105-F550-4DA4-8E70-7F97BDE01111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56D5-5F65-48EC-AEBA-FF17CFD0E86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0C0B-4977-4488-A293-E7D9CAF02D39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E1615-236C-42BA-96CF-34C539BD3CB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http://www.aboriginalartnews.com.au/photos/colleen_wallace_nungari_dreamtime_sisters_imag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352" name="TextBox 4" descr=""/>
          <p:cNvPicPr/>
          <p:nvPr/>
        </p:nvPicPr>
        <p:blipFill>
          <a:blip r:embed="rId2"/>
          <a:stretch/>
        </p:blipFill>
        <p:spPr>
          <a:xfrm>
            <a:off x="2004840" y="2859120"/>
            <a:ext cx="5170680" cy="2176560"/>
          </a:xfrm>
          <a:prstGeom prst="rect">
            <a:avLst/>
          </a:prstGeom>
          <a:ln w="0">
            <a:noFill/>
          </a:ln>
        </p:spPr>
      </p:pic>
      <p:sp>
        <p:nvSpPr>
          <p:cNvPr id="35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EC72-465F-4354-8BF9-3EE400F291F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304920" y="380880"/>
            <a:ext cx="5105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 chose sisters for my collected anthology. For me, sisters are so big, they help you so much. So I decided to make a tribute to th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C:\Documents and Settings\TwLab\Local Settings\Temporary Internet Files\Content.IE5\9BD1XLZZ\MPj01785250000[1].jpg"/>
          <p:cNvPicPr/>
          <p:nvPr/>
        </p:nvPicPr>
        <p:blipFill>
          <a:blip r:embed="rId1"/>
          <a:stretch/>
        </p:blipFill>
        <p:spPr>
          <a:xfrm>
            <a:off x="4800600" y="495288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C:\Documents and Settings\TwLab\Local Settings\Temporary Internet Files\Content.IE5\ZCI6PB8U\MPj01850660000[1].jpg"/>
          <p:cNvPicPr/>
          <p:nvPr/>
        </p:nvPicPr>
        <p:blipFill>
          <a:blip r:embed="rId2"/>
          <a:stretch/>
        </p:blipFill>
        <p:spPr>
          <a:xfrm>
            <a:off x="6724800" y="1295280"/>
            <a:ext cx="2419200" cy="3657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C:\Documents and Settings\TwLab\Local Settings\Temporary Internet Files\Content.IE5\9BD1XLZZ\MCPE02273_0000[1].wmf"/>
          <p:cNvPicPr/>
          <p:nvPr/>
        </p:nvPicPr>
        <p:blipFill>
          <a:blip r:embed="rId3"/>
          <a:stretch/>
        </p:blipFill>
        <p:spPr>
          <a:xfrm>
            <a:off x="5257800" y="0"/>
            <a:ext cx="1812960" cy="1828800"/>
          </a:xfrm>
          <a:prstGeom prst="rect">
            <a:avLst/>
          </a:prstGeom>
          <a:ln w="0">
            <a:noFill/>
          </a:ln>
        </p:spPr>
      </p:pic>
      <p:sp>
        <p:nvSpPr>
          <p:cNvPr id="358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FD845-1087-4006-9C37-E6BC0D5706F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2"/>
          <p:cNvSpPr/>
          <p:nvPr/>
        </p:nvSpPr>
        <p:spPr>
          <a:xfrm>
            <a:off x="2506680" y="0"/>
            <a:ext cx="459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9cf7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43560" y="1676520"/>
            <a:ext cx="9048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1: In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2: Why I chose si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3:Table of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4: MY SISTER by Carniz Fatim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5: Sisters Forever by Sara Hammour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6:A Sister by Sara Hammour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7: 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12B9-3F0E-4BAA-BF6A-7D59D74467E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3048120" y="274680"/>
          <a:ext cx="4370400" cy="6583320"/>
        </p:xfrm>
        <a:graphic>
          <a:graphicData uri="http://schemas.openxmlformats.org/drawingml/2006/table">
            <a:tbl>
              <a:tblPr/>
              <a:tblGrid>
                <a:gridCol w="4370400"/>
              </a:tblGrid>
              <a:tr h="6584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holds me tigh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kisses me goodnight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knows when I’m ma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helps me when I’m sa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s so smar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has my hear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loves me lot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ties the knot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s here to sta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 have until this very da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 wish you well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yes I can tell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asked if I lie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knows if I’ve crie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has moved away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s in my heart to and will always stay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Carniz Fatima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 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3" name="Picture 6" descr="http://www.raisingthearts.com/images/Sisters%20Journey%20big.jpg"/>
          <p:cNvPicPr/>
          <p:nvPr/>
        </p:nvPicPr>
        <p:blipFill>
          <a:blip r:embed="rId1"/>
          <a:stretch/>
        </p:blipFill>
        <p:spPr>
          <a:xfrm>
            <a:off x="52560" y="2133720"/>
            <a:ext cx="2322360" cy="321624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5FBD-1D7D-4F34-80BD-C3D3DD1EA78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3048120" y="380880"/>
          <a:ext cx="2792160" cy="6442200"/>
        </p:xfrm>
        <a:graphic>
          <a:graphicData uri="http://schemas.openxmlformats.org/drawingml/2006/table">
            <a:tbl>
              <a:tblPr/>
              <a:tblGrid>
                <a:gridCol w="398520"/>
                <a:gridCol w="2393640"/>
              </a:tblGrid>
              <a:tr h="644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760" rIns="41760" tIns="20880" bIns="20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sters fore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verything you did or still do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 matter what happen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me or to you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e will always make it through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's Now or nev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use you will always know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at we will always be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STERS AND ALL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ough you may think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d your heart may sink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ut sister always rememb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LOVE YOU forev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use I’m you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STER FOREV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o don't cry or weep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t even when you sleep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Just dream happy dream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ecause life's not always what it seem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Girl rememb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e will always be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STERS FOR EVER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ara Hammour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6" name="Picture 1" descr="C:\Documents and Settings\TwLab\Local Settings\Temporary Internet Files\Content.IE5\PDS1BFZB\MCj00894680000[1].wmf"/>
          <p:cNvPicPr/>
          <p:nvPr/>
        </p:nvPicPr>
        <p:blipFill>
          <a:blip r:embed="rId1"/>
          <a:stretch/>
        </p:blipFill>
        <p:spPr>
          <a:xfrm>
            <a:off x="838080" y="2362320"/>
            <a:ext cx="1779840" cy="1217520"/>
          </a:xfrm>
          <a:prstGeom prst="rect">
            <a:avLst/>
          </a:prstGeom>
          <a:ln w="0">
            <a:noFill/>
          </a:ln>
        </p:spPr>
      </p:pic>
      <p:sp>
        <p:nvSpPr>
          <p:cNvPr id="36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B5FB-9A8D-4590-8BDE-529DACCA2E6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2895480" y="228600"/>
          <a:ext cx="3429000" cy="6878520"/>
        </p:xfrm>
        <a:graphic>
          <a:graphicData uri="http://schemas.openxmlformats.org/drawingml/2006/table">
            <a:tbl>
              <a:tblPr/>
              <a:tblGrid>
                <a:gridCol w="266760"/>
                <a:gridCol w="3162240"/>
              </a:tblGrid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1480" rIns="5148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someone who leads you when you are having a problem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makes you laugh and cry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someone who likes to fight with you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the one who stands with you in all your ups and downs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makes you remember who you really are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sometimes makes you cry when they are very sad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someone who is always there for you through all the laughter and tears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real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never will pretend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someone like you whom I treasure everyday in my heart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ara Hammour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86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69" name="Picture 1" descr="C:\Documents and Settings\TwLab\Local Settings\Temporary Internet Files\Content.IE5\XSF37IBG\MCj01160460000[1].wmf"/>
          <p:cNvPicPr/>
          <p:nvPr/>
        </p:nvPicPr>
        <p:blipFill>
          <a:blip r:embed="rId1"/>
          <a:stretch/>
        </p:blipFill>
        <p:spPr>
          <a:xfrm>
            <a:off x="380880" y="1143000"/>
            <a:ext cx="2743200" cy="4075200"/>
          </a:xfrm>
          <a:prstGeom prst="rect">
            <a:avLst/>
          </a:prstGeom>
          <a:ln w="0">
            <a:noFill/>
          </a:ln>
        </p:spPr>
      </p:pic>
      <p:sp>
        <p:nvSpPr>
          <p:cNvPr id="37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BCF9-2099-4526-8B93-E23E551F242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71D5-00E4-46DC-8967-DDA20E1EAC3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"/>
          <p:cNvSpPr/>
          <p:nvPr/>
        </p:nvSpPr>
        <p:spPr>
          <a:xfrm>
            <a:off x="1371600" y="1295280"/>
            <a:ext cx="5638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poems were chosen because they all related to my theme, and I thought they would be good for a tribute to sisters. I learned a l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1" descr=""/>
          <p:cNvPicPr/>
          <p:nvPr/>
        </p:nvPicPr>
        <p:blipFill>
          <a:blip r:embed="rId1"/>
          <a:stretch/>
        </p:blipFill>
        <p:spPr>
          <a:xfrm>
            <a:off x="920880" y="658800"/>
            <a:ext cx="7729560" cy="4827600"/>
          </a:xfrm>
          <a:prstGeom prst="rect">
            <a:avLst/>
          </a:prstGeom>
          <a:ln w="0">
            <a:noFill/>
          </a:ln>
        </p:spPr>
      </p:pic>
      <p:sp>
        <p:nvSpPr>
          <p:cNvPr id="374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C05C8-B100-4238-8C2D-37C243E7E56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1:03:27Z</dcterms:created>
  <dc:creator>ITSUser</dc:creator>
  <dc:description/>
  <dc:language>en-US</dc:language>
  <cp:lastModifiedBy>ITSUser</cp:lastModifiedBy>
  <dcterms:modified xsi:type="dcterms:W3CDTF">2009-05-13T21:26:48Z</dcterms:modified>
  <cp:revision>8</cp:revision>
  <dc:subject/>
  <dc:title>Slide 1</dc:title>
</cp:coreProperties>
</file>