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9BF-DD5C-4E00-B32B-25E70BDA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F86-760A-4AC1-855A-D101A532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FC6-A55D-45DE-8AE4-177B1BE1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EF8-8216-4A3E-9EEF-904690A6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2BE-9F6E-4450-B353-5CE6FC76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F40-739F-4547-8343-33BBFFDE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2E4-FB20-486E-B15A-09EB5375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D4D-8D8C-4E53-B857-F784DEE4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615-40BA-427C-B368-F47D083C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706-FCFA-4873-B5BE-E7A15B2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BBA-6200-425D-A29D-6D40709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D3E-F232-47F3-90FC-A6CBF2B4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8B2-0BB5-4778-BDE2-EDB214E3C1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vestaldesign.com/blog/wp-content/uploads/img_2260_rainbow-technology-sample_450x360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Maiya K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nstant Photo Walking Animated Clipart&#10;&#10;"/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his project increased my knowledge of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farm4.static.flickr.com/3091/2553278728_fb16f45dea.jpg?v=0"/>
          <p:cNvPicPr/>
          <p:nvPr/>
        </p:nvPicPr>
        <p:blipFill>
          <a:blip r:embed="rId2"/>
          <a:stretch/>
        </p:blipFill>
        <p:spPr>
          <a:xfrm>
            <a:off x="0" y="1906560"/>
            <a:ext cx="3505320" cy="4951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505320" y="1225440"/>
            <a:ext cx="563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learned that I am a perfectionist. And sometimes I just need to let it g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-1006560" y="1792440"/>
            <a:ext cx="111506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oking back at my Photo Essay I decided that I needed to slow down and take my time. I also felt that I need to put less words on a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205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oud of how the different pieces of music I used tied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aced the challenge of putting too many words on each slide, and therefore have to revise my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next project I would like to slow down and make sure I don’t put too many words on a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143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clip art with the search “evalu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hebrainteasers.com/brainteasers/images/movin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estaldesign.com/blog/wp-content/uploads/img_2260_rainbow-technology-sample_450x360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google.com/images?sourceid=navclient&amp;rlz=1T4SUNA_enUS347US343&amp;q=affective%20development&amp;safe=active&amp;um=1&amp;ie=UTF-8&amp;sa=N&amp;hl=en&amp;tab=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tionfacto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6"/>
          <a:stretch/>
        </p:blipFill>
        <p:spPr>
          <a:xfrm>
            <a:off x="2114640" y="-171360"/>
            <a:ext cx="4554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000800" y="2844720"/>
            <a:ext cx="71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atch my Photo Essay click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ouse Showing Stages of Construction Animated Clipart&#10;&#10;"/>
          <p:cNvPicPr/>
          <p:nvPr/>
        </p:nvPicPr>
        <p:blipFill>
          <a:blip r:embed="rId1"/>
          <a:stretch/>
        </p:blipFill>
        <p:spPr>
          <a:xfrm>
            <a:off x="5334120" y="76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-189000" y="-176040"/>
            <a:ext cx="5102280" cy="30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80880" y="38098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takes hard work, determination, skill, and knowledg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2"/>
          <a:stretch/>
        </p:blipFill>
        <p:spPr>
          <a:xfrm>
            <a:off x="-201600" y="1731960"/>
            <a:ext cx="9826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79704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worked on a nonfiction gen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audience for this piece was my </a:t>
            </a: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G.T. Fam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entor texts were from others in G.T reading class and from a High School Student’s Photo Essay about w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817560" y="1152360"/>
            <a:ext cx="107791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89000" y="-92160"/>
            <a:ext cx="93520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vestaldesign.com/blog/wp-content/uploads/img_2260_rainbow-technology-sample_450x360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-596880" y="1474920"/>
            <a:ext cx="103442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7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eveloped many technology skills while I worked on this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1294920" y="2514600"/>
            <a:ext cx="1295640" cy="1219320"/>
            <a:chOff x="1294920" y="2514600"/>
            <a:chExt cx="1295640" cy="1219320"/>
          </a:xfrm>
        </p:grpSpPr>
        <p:sp>
          <p:nvSpPr>
            <p:cNvPr id="55" name="Straight Connector 11"/>
            <p:cNvSpPr/>
            <p:nvPr/>
          </p:nvSpPr>
          <p:spPr>
            <a:xfrm>
              <a:off x="1295280" y="25146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 flipH="1">
              <a:off x="1294920" y="3733920"/>
              <a:ext cx="129564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3924360" y="5257800"/>
            <a:ext cx="1295280" cy="1219320"/>
            <a:chOff x="3924360" y="5257800"/>
            <a:chExt cx="1295280" cy="1219320"/>
          </a:xfrm>
        </p:grpSpPr>
        <p:sp>
          <p:nvSpPr>
            <p:cNvPr id="58" name="Straight Connector 19"/>
            <p:cNvSpPr/>
            <p:nvPr/>
          </p:nvSpPr>
          <p:spPr>
            <a:xfrm>
              <a:off x="3924360" y="52578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0"/>
            <p:cNvSpPr/>
            <p:nvPr/>
          </p:nvSpPr>
          <p:spPr>
            <a:xfrm flipH="1">
              <a:off x="3924360" y="647712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1371600" y="4267080"/>
            <a:ext cx="1295280" cy="1219320"/>
            <a:chOff x="1371600" y="4267080"/>
            <a:chExt cx="1295280" cy="1219320"/>
          </a:xfrm>
        </p:grpSpPr>
        <p:sp>
          <p:nvSpPr>
            <p:cNvPr id="61" name="Straight Connector 22"/>
            <p:cNvSpPr/>
            <p:nvPr/>
          </p:nvSpPr>
          <p:spPr>
            <a:xfrm>
              <a:off x="13716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3"/>
            <p:cNvSpPr/>
            <p:nvPr/>
          </p:nvSpPr>
          <p:spPr>
            <a:xfrm flipH="1">
              <a:off x="13716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6400800" y="4267080"/>
            <a:ext cx="1295280" cy="1219320"/>
            <a:chOff x="6400800" y="4267080"/>
            <a:chExt cx="1295280" cy="1219320"/>
          </a:xfrm>
        </p:grpSpPr>
        <p:sp>
          <p:nvSpPr>
            <p:cNvPr id="64" name="Straight Connector 25"/>
            <p:cNvSpPr/>
            <p:nvPr/>
          </p:nvSpPr>
          <p:spPr>
            <a:xfrm>
              <a:off x="64008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64008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7"/>
          <p:cNvGrpSpPr/>
          <p:nvPr/>
        </p:nvGrpSpPr>
        <p:grpSpPr>
          <a:xfrm>
            <a:off x="6248520" y="2438280"/>
            <a:ext cx="1295280" cy="1219320"/>
            <a:chOff x="6248520" y="2438280"/>
            <a:chExt cx="1295280" cy="1219320"/>
          </a:xfrm>
        </p:grpSpPr>
        <p:sp>
          <p:nvSpPr>
            <p:cNvPr id="67" name="Straight Connector 28"/>
            <p:cNvSpPr/>
            <p:nvPr/>
          </p:nvSpPr>
          <p:spPr>
            <a:xfrm>
              <a:off x="6248520" y="24382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29"/>
            <p:cNvSpPr/>
            <p:nvPr/>
          </p:nvSpPr>
          <p:spPr>
            <a:xfrm flipH="1">
              <a:off x="6248520" y="36576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3886200" y="1523880"/>
            <a:ext cx="1295280" cy="1219320"/>
            <a:chOff x="3886200" y="1523880"/>
            <a:chExt cx="1295280" cy="1219320"/>
          </a:xfrm>
        </p:grpSpPr>
        <p:sp>
          <p:nvSpPr>
            <p:cNvPr id="70" name="Straight Connector 31"/>
            <p:cNvSpPr/>
            <p:nvPr/>
          </p:nvSpPr>
          <p:spPr>
            <a:xfrm>
              <a:off x="3886200" y="15238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32"/>
            <p:cNvSpPr/>
            <p:nvPr/>
          </p:nvSpPr>
          <p:spPr>
            <a:xfrm flipH="1">
              <a:off x="3886200" y="27432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3"/>
          <p:cNvSpPr/>
          <p:nvPr/>
        </p:nvSpPr>
        <p:spPr>
          <a:xfrm>
            <a:off x="2971800" y="15238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me working 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5"/>
          <p:cNvSpPr/>
          <p:nvPr/>
        </p:nvSpPr>
        <p:spPr>
          <a:xfrm flipV="1">
            <a:off x="3886200" y="160020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6"/>
          <p:cNvSpPr/>
          <p:nvPr/>
        </p:nvSpPr>
        <p:spPr>
          <a:xfrm>
            <a:off x="5334120" y="266688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use Photo Sto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 flipV="1">
            <a:off x="6248520" y="2590920"/>
            <a:ext cx="114300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39"/>
          <p:cNvSpPr/>
          <p:nvPr/>
        </p:nvSpPr>
        <p:spPr>
          <a:xfrm rot="2280600">
            <a:off x="5009760" y="1301400"/>
            <a:ext cx="1509840" cy="1447920"/>
          </a:xfrm>
          <a:custGeom>
            <a:avLst/>
            <a:gdLst>
              <a:gd name="textAreaLeft" fmla="*/ 285120 w 1509840"/>
              <a:gd name="textAreaRight" fmla="*/ 1224720 w 1509840"/>
              <a:gd name="textAreaTop" fmla="*/ 275760 h 1447920"/>
              <a:gd name="textAreaBottom" fmla="*/ 1172160 h 1447920"/>
            </a:gdLst>
            <a:ahLst/>
            <a:rect l="textAreaLeft" t="textAreaTop" r="textAreaRight" b="textAreaBottom"/>
            <a:pathLst>
              <a:path w="1509713" h="1447800">
                <a:moveTo>
                  <a:pt x="90793" y="743095"/>
                </a:moveTo>
                <a:lnTo>
                  <a:pt x="90793" y="743095"/>
                </a:lnTo>
                <a:arcTo wR="664369" hR="633413" stAng="10700658" swAng="9887015"/>
                <a:lnTo>
                  <a:pt x="1474603" y="526376"/>
                </a:lnTo>
                <a:lnTo>
                  <a:pt x="1327447" y="687507"/>
                </a:lnTo>
                <a:lnTo>
                  <a:pt x="1113382" y="549334"/>
                </a:lnTo>
                <a:lnTo>
                  <a:pt x="1198363" y="543933"/>
                </a:lnTo>
                <a:lnTo>
                  <a:pt x="1198363" y="543933"/>
                </a:lnTo>
                <a:arcTo wR="483394" hR="452438" stAng="-1325178" swAng="-95741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304920" y="251460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save images as jp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ircular Arrow 41"/>
          <p:cNvSpPr/>
          <p:nvPr/>
        </p:nvSpPr>
        <p:spPr>
          <a:xfrm flipH="1" rot="20142600">
            <a:off x="740160" y="1208160"/>
            <a:ext cx="2522520" cy="1608480"/>
          </a:xfrm>
          <a:custGeom>
            <a:avLst/>
            <a:gdLst>
              <a:gd name="textAreaLeft" fmla="*/ 463320 w 2522520"/>
              <a:gd name="textAreaRight" fmla="*/ 2059200 w 2522520"/>
              <a:gd name="textAreaTop" fmla="*/ 329400 h 1608480"/>
              <a:gd name="textAreaBottom" fmla="*/ 1279080 h 1608480"/>
            </a:gdLst>
            <a:ahLst/>
            <a:rect l="textAreaLeft" t="textAreaTop" r="textAreaRight" b="textAreaBottom"/>
            <a:pathLst>
              <a:path w="2522537" h="1608137">
                <a:moveTo>
                  <a:pt x="136925" y="746334"/>
                </a:moveTo>
                <a:lnTo>
                  <a:pt x="136925" y="746334"/>
                </a:lnTo>
                <a:arcTo wR="1128525" hR="671325" stAng="-10623627" swAng="9369111"/>
                <a:lnTo>
                  <a:pt x="2316676" y="434610"/>
                </a:lnTo>
                <a:lnTo>
                  <a:pt x="2315034" y="737468"/>
                </a:lnTo>
                <a:lnTo>
                  <a:pt x="1915442" y="459969"/>
                </a:lnTo>
                <a:lnTo>
                  <a:pt x="2011055" y="453926"/>
                </a:lnTo>
                <a:lnTo>
                  <a:pt x="2011055" y="453926"/>
                </a:lnTo>
                <a:arcTo wR="991978" hR="534778" stAng="-1501919" swAng="-91217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3"/>
          <p:cNvSpPr/>
          <p:nvPr/>
        </p:nvSpPr>
        <p:spPr>
          <a:xfrm flipV="1">
            <a:off x="1295280" y="2590920"/>
            <a:ext cx="129564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334120" y="411480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f how to make transitions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7"/>
          <p:cNvCxnSpPr/>
          <p:nvPr/>
        </p:nvCxnSpPr>
        <p:spPr>
          <a:xfrm flipH="1">
            <a:off x="6323760" y="3808800"/>
            <a:ext cx="686520" cy="381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2" name="Straight Arrow Connector 49"/>
          <p:cNvCxnSpPr/>
          <p:nvPr/>
        </p:nvCxnSpPr>
        <p:spPr>
          <a:xfrm>
            <a:off x="4114800" y="2895120"/>
            <a:ext cx="1296000" cy="12963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3" name="Straight Arrow Connector 51"/>
          <p:cNvCxnSpPr/>
          <p:nvPr/>
        </p:nvCxnSpPr>
        <p:spPr>
          <a:xfrm flipH="1">
            <a:off x="4037760" y="2971800"/>
            <a:ext cx="1296360" cy="221040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4" name="Straight Arrow Connector 53"/>
          <p:cNvCxnSpPr/>
          <p:nvPr/>
        </p:nvCxnSpPr>
        <p:spPr>
          <a:xfrm flipH="1">
            <a:off x="3809520" y="2895480"/>
            <a:ext cx="153360" cy="236304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sp>
        <p:nvSpPr>
          <p:cNvPr id="85" name="Straight Connector 55"/>
          <p:cNvSpPr/>
          <p:nvPr/>
        </p:nvSpPr>
        <p:spPr>
          <a:xfrm flipV="1">
            <a:off x="6400800" y="441972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9"/>
          <p:cNvSpPr/>
          <p:nvPr/>
        </p:nvSpPr>
        <p:spPr>
          <a:xfrm flipV="1">
            <a:off x="3962520" y="5333760"/>
            <a:ext cx="1143000" cy="99036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3"/>
          <p:cNvSpPr/>
          <p:nvPr/>
        </p:nvSpPr>
        <p:spPr>
          <a:xfrm>
            <a:off x="2895480" y="5257800"/>
            <a:ext cx="121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put music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4"/>
          <p:cNvSpPr/>
          <p:nvPr/>
        </p:nvSpPr>
        <p:spPr>
          <a:xfrm>
            <a:off x="0" y="4419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import pictur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6"/>
          <p:cNvCxnSpPr/>
          <p:nvPr/>
        </p:nvCxnSpPr>
        <p:spPr>
          <a:xfrm flipH="1">
            <a:off x="1066320" y="2895480"/>
            <a:ext cx="2820240" cy="1524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90" name="Straight Arrow Connector 70"/>
          <p:cNvCxnSpPr>
            <a:stCxn id="74" idx="2"/>
          </p:cNvCxnSpPr>
          <p:nvPr/>
        </p:nvCxnSpPr>
        <p:spPr>
          <a:xfrm flipH="1">
            <a:off x="1523520" y="3621240"/>
            <a:ext cx="4306320" cy="799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Straight Connector 72"/>
          <p:cNvSpPr/>
          <p:nvPr/>
        </p:nvSpPr>
        <p:spPr>
          <a:xfrm flipV="1">
            <a:off x="1371600" y="4419720"/>
            <a:ext cx="129528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thebrainteasers.com/brainteasers/images/moving.jpg"/>
          <p:cNvPicPr/>
          <p:nvPr/>
        </p:nvPicPr>
        <p:blipFill>
          <a:blip r:embed="rId1"/>
          <a:stretch/>
        </p:blipFill>
        <p:spPr>
          <a:xfrm>
            <a:off x="-25560" y="76320"/>
            <a:ext cx="9169560" cy="670536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32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6:34Z</dcterms:created>
  <dc:creator>ITSUser</dc:creator>
  <dc:description/>
  <dc:language>en-US</dc:language>
  <cp:lastModifiedBy>ITSUser</cp:lastModifiedBy>
  <dcterms:modified xsi:type="dcterms:W3CDTF">2010-02-04T18:37:54Z</dcterms:modified>
  <cp:revision>13</cp:revision>
  <dc:subject/>
  <dc:title> My Photo Essay Reflection</dc:title>
</cp:coreProperties>
</file>