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FE29-B9AD-4396-AEC4-D246432A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656-9E4F-454F-A977-E572E68C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1E55-FD6F-475B-9607-9EDEADCB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DD7C-8C71-45BD-85E2-1208FE8B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BEB0-FBE9-41F9-A9F9-5057CC30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C698-D87B-4185-86CB-0617F3618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FE93-3F14-417A-BBA5-8610834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F4F5-C72A-496A-828A-4C0F64057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7CBC-6E02-4040-BAA4-DE53131F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A4C3-FFFA-4CF8-AE0B-4D3544D9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95BC-4954-4083-A08C-87790540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D79A-EE9A-49C8-B1E8-33FEA284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AA6B4-C4D9-4758-A059-60D65C455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3.png"/><Relationship Id="rId25" Type="http://schemas.openxmlformats.org/officeDocument/2006/relationships/image" Target="../media/image13.png"/><Relationship Id="rId26" Type="http://schemas.openxmlformats.org/officeDocument/2006/relationships/image" Target="../media/image13.png"/><Relationship Id="rId27" Type="http://schemas.openxmlformats.org/officeDocument/2006/relationships/image" Target="../media/image13.png"/><Relationship Id="rId28" Type="http://schemas.openxmlformats.org/officeDocument/2006/relationships/image" Target="../media/image13.png"/><Relationship Id="rId29" Type="http://schemas.openxmlformats.org/officeDocument/2006/relationships/image" Target="../media/image13.png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50000">
              <a:srgbClr val="3366ff"/>
            </a:gs>
            <a:gs pos="100000">
              <a:srgbClr val="ff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81080" y="1066680"/>
            <a:ext cx="5486400" cy="26672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Night Poem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286000" cy="1709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5916600"/>
            <a:ext cx="1257480" cy="941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8153280" y="586728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971800" y="4038480"/>
            <a:ext cx="320040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llected anth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y: Erica Martinez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523880" y="0"/>
            <a:ext cx="2133720" cy="2133720"/>
          </a:xfrm>
          <a:prstGeom prst="rect">
            <a:avLst/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1523880" cy="16002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3733920"/>
            <a:ext cx="1447920" cy="2057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86600" y="1066680"/>
            <a:ext cx="1523880" cy="1600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2666880"/>
            <a:ext cx="1828800" cy="1371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15000" y="0"/>
            <a:ext cx="2057400" cy="1371600"/>
          </a:xfrm>
          <a:prstGeom prst="rect">
            <a:avLst/>
          </a:prstGeom>
          <a:solidFill>
            <a:srgbClr val="b725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43400" y="0"/>
            <a:ext cx="4800600" cy="2819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038480"/>
            <a:ext cx="5867280" cy="2819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23880" y="2514600"/>
            <a:ext cx="1752840" cy="15238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72200" y="838080"/>
            <a:ext cx="2133720" cy="2133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1523880"/>
            <a:ext cx="2971800" cy="1143000"/>
          </a:xfrm>
          <a:prstGeom prst="rect">
            <a:avLst/>
          </a:prstGeom>
          <a:solidFill>
            <a:srgbClr val="e8573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429000"/>
            <a:ext cx="1904760" cy="3429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86600" y="2819520"/>
            <a:ext cx="2133720" cy="320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5257800"/>
            <a:ext cx="1371600" cy="16002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286000"/>
            <a:ext cx="2666880" cy="2057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0"/>
            <a:ext cx="1295280" cy="1828800"/>
          </a:xfrm>
          <a:prstGeom prst="rect">
            <a:avLst/>
          </a:prstGeom>
          <a:solidFill>
            <a:srgbClr val="91be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838080"/>
            <a:ext cx="2362320" cy="2438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52280" y="5486400"/>
            <a:ext cx="2057400" cy="13716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733920"/>
            <a:ext cx="1523880" cy="1752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276720"/>
            <a:ext cx="220968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486400"/>
            <a:ext cx="1143000" cy="13716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1828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838080"/>
            <a:ext cx="152640" cy="74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3880" y="838080"/>
            <a:ext cx="6248520" cy="571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1743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43200" y="1600200"/>
            <a:ext cx="3276720" cy="38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Fireflie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ileen Fisher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 the soft dark night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hen the wind is still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bullfrogs croak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bottom of the hill,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 fireflies reach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side their coat p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screw little light bulb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nto their socket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o they can fl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rough the night and play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thout bumping their heads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or losing their way.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62720" y="2819520"/>
            <a:ext cx="1233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07800"/>
            <a:ext cx="3505320" cy="62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un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Poem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</a:rPr>
              <a:t>Jacqui Thornt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gray begins to fad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color creeps from leaf to lim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light is slowly seeping u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 beneath the earth's curved r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ky blue strengthens slowl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lazed with hues of orange an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lowly as the earth revolv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lifts up it's hea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lors shimmer in th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nd shapes begin to unve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trees and flowers separa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the dawn light rosy and p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un climbs higher in the s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t's light shimmering and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ll things now are clearly se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 new day has been bor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1066680" y="-1440"/>
            <a:ext cx="1021068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0"/>
            <a:ext cx="2133720" cy="5727960"/>
          </a:xfrm>
          <a:prstGeom prst="rect">
            <a:avLst/>
          </a:prstGeom>
          <a:noFill/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 sunset in he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© Janine M. J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 Sunset in Heaven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w absolutely astonishing, It must be, to see a sunset in heaven. The creamy clouds reflecting off the, Blinding sun. On some the sky is probably painted, A bloody pomegranate scarlet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hile other days are candy colored orange. Each sunset is a little different though. Some have a little more violet, Or less orang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aking them have a strong golden hue. And there are some that fade quickly, As if the sky is one large ember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ose are probably lovely. But then there are those that just, Try to keep daylight going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 ones that a person might wish, Never fade.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y are probably far too beautiful for anyone,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 describe. Once the sky turns to blue and black, It is all over. Sun rises, Do not seem as if they would, Be as phenomenal as a set. It would be the type of happening, That even the wildest of individuals, Pay attention to. Luckily in heaven, The sunsets are only foreve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933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743200" y="0"/>
            <a:ext cx="388620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Times New Roman"/>
              </a:rPr>
              <a:t>Woods at N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Annette Bigger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ild geese fly with the moon on their wing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a nightingale sits on a branch as it sing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ll is peaceful in the still of night, and the moon is shining very bright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There's only a rustle of a breeze in the trees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o night for sure there will be a freeze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the air is crisp, so crisp it will snap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t the slightest sound, rustle or rap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 owl skims slowly o'er the tree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lowly circles 'round a tree and stops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sits and surveys the forest floo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aptivated by mystery and woodsy lore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For at night in the forest there's gamey in the air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nd the wild fox now creeps out of its lair.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It yaps and the stillness is split with a knife,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Yet all else continues with no conflict or strif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42160" y="304920"/>
            <a:ext cx="2073240" cy="2590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657600" y="5330880"/>
            <a:ext cx="1905120" cy="1527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57200" y="1752480"/>
            <a:ext cx="1971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4400" y="0"/>
            <a:ext cx="9158400" cy="9601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57200" y="990720"/>
            <a:ext cx="297180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ccff33"/>
                </a:solidFill>
                <a:uFillTx/>
                <a:latin typeface="Times New Roman"/>
              </a:rPr>
              <a:t>The Sta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ff33"/>
                </a:solidFill>
                <a:latin typeface="Times New Roman"/>
              </a:rPr>
              <a:t>by Jane Taylor</a:t>
            </a: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ow I wonder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Up above the world so high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ke a diamond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When the blazing sun is s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the grass with dew is we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you show your little light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all the nigh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en the traveler in the d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anks you for your tiny sp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He could not see where to go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f you did not twinkle s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In the dark blue sky you k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nd often through my curtains peep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For you never shut your eye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ill the sun is in the sky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As your bright and tiny spark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Lights the traveler in the dark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hough I know not what you are,</a:t>
            </a:r>
            <a:br>
              <a:rPr sz="1400"/>
            </a:br>
            <a:r>
              <a:rPr b="0" lang="en-US" sz="1400" spc="-1" strike="noStrike">
                <a:solidFill>
                  <a:srgbClr val="ccff33"/>
                </a:solidFill>
                <a:latin typeface="Times New Roman"/>
              </a:rPr>
              <a:t>Twinkle, twinkle, little st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c3c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391520" y="685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7220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9907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01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18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943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5335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001000" y="5867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763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9154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5638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229600" y="3657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2096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0120" y="29718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4267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505320" y="838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35812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400800" y="380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6172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33920" y="228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447920"/>
            <a:ext cx="2590920" cy="419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733920" y="26668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45720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5334120"/>
            <a:ext cx="228600" cy="30456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280 h 304560"/>
              <a:gd name="textAreaBottom" fmla="*/ 1792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312408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2400" y="16002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514600"/>
            <a:ext cx="228600" cy="304920"/>
          </a:xfrm>
          <a:custGeom>
            <a:avLst/>
            <a:gdLst>
              <a:gd name="textAreaLeft" fmla="*/ 94320 w 228600"/>
              <a:gd name="textAreaRight" fmla="*/ 134280 w 228600"/>
              <a:gd name="textAreaTop" fmla="*/ 125640 h 304920"/>
              <a:gd name="textAreaBottom" fmla="*/ 179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24440" y="-95400"/>
            <a:ext cx="180720" cy="13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343400" y="76320"/>
            <a:ext cx="2422440" cy="65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9933ff"/>
                </a:solidFill>
                <a:uFillTx/>
                <a:latin typeface="Times New Roman"/>
              </a:rPr>
              <a:t>Moonlight </a:t>
            </a: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a pale phantom with a l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cends some ruined haunted stair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o glides the moon along the damp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Mysterious chambers of the ai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Now hidden in cloud, and now rev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s if this phantom, full of pain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re by the crumbling walls conceale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at the windows seen agai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Until at last, serene and proud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all the splendour of her light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he walks the terraces of cloud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Supreme as Empress of the Nigh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look, but recognize no mor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bjects familiar to my view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pathway to my door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an enchanted avenu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ll things are changed. One mass of shade,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elm-trees drop their curtains down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By palace, park, and colonnade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 walk as in a foreign tow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very ground beneath my f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s clothed with a diviner air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hite marble paves the silent stree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And glimmers in the empty squar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llusion! Underneath there l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The common life of everyday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nly the spirit glorifies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ith its own tints the sober grey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In vain we look, in vain upl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ur eyes to heaven, if we are blind;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We see but what we have the gift</a:t>
            </a:r>
            <a:br>
              <a:rPr sz="1000"/>
            </a:br>
            <a:r>
              <a:rPr b="0" lang="en-US" sz="1000" spc="-1" strike="noStrike">
                <a:solidFill>
                  <a:srgbClr val="9933ff"/>
                </a:solidFill>
                <a:latin typeface="Times New Roman"/>
              </a:rPr>
              <a:t>Of seeing; what we bring we fin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9933ff"/>
                </a:solidFill>
                <a:latin typeface="Times New Roman"/>
              </a:rPr>
              <a:t>By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Henry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</a:rPr>
              <a:t>Wadsworth Longfel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00200" y="0"/>
            <a:ext cx="5715000" cy="65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ccff33"/>
                </a:solidFill>
                <a:uFillTx/>
                <a:latin typeface="Times New Roman"/>
              </a:rPr>
              <a:t>Night Ti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© Marissa Martinez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crickets sing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he owls hoot,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Look up now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What do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How do you feel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full moon at its brightes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 stars right beside it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see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m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s you lay on the ground next to your soulmate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your soulmates steady breathing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All those night time creature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Can you hear the elements around you?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Night time is the best time to listen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heart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the world around you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moon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see the stars.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To listen to your soulmates breathing. </a:t>
            </a:r>
            <a:br>
              <a:rPr sz="900"/>
            </a:b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Shh do you hear th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your soulmates heart beat? </a:t>
            </a:r>
            <a:br>
              <a:rPr sz="900"/>
            </a:br>
            <a:r>
              <a:rPr b="0" lang="en-US" sz="900" spc="-1" strike="noStrike">
                <a:solidFill>
                  <a:srgbClr val="ccff33"/>
                </a:solidFill>
                <a:latin typeface="Times New Roman"/>
              </a:rPr>
              <a:t>Do you hear the elements around you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1600200" cy="1198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867280" y="4419720"/>
            <a:ext cx="228600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5ff9b"/>
            </a:gs>
            <a:gs pos="50000">
              <a:srgbClr val="a2ecf4"/>
            </a:gs>
            <a:gs pos="100000">
              <a:srgbClr val="e5ff9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677960" y="-47520"/>
            <a:ext cx="2716560" cy="68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On Dreaming</a:t>
            </a:r>
            <a:br>
              <a:rPr sz="14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     When slumber seals our weary eye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busy fancy wakeful keeps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cenes which then before us ris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Prove something in us never sleeps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s in another world we s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 new creation of our own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ll appears real, though a drea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all familiar, though unknown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ometimes the mind beholds again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past day's business in review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Resumes the pleasure or the pain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And sometimes all we meet is new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schemes we form, what pains we take!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fight, we run, we fly, we fall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all is ended when we wake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scarcely then a trace recall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But though our dreams are often wil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Like clouds before the driving storm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Yet some important may be styl'd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Sent to admonish or inform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mighty agents have acc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at friends from heav'n, or foes from he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minds to comfort or distress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we are sleeping, who can tell?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ne thing, at least, and 'tis enough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e learn from this surprising fact;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Our dreams afford sufficient proof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 soul, without the flesh, can act.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is life, which mortals so esteem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at many choose it for their all, 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They will confess, was but a dream,</a:t>
            </a: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When 'waken'd by death's awful call. </a:t>
            </a:r>
            <a:br>
              <a:rPr sz="1000"/>
            </a:br>
            <a:br>
              <a:rPr sz="1000"/>
            </a:b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John Newton</a:t>
            </a:r>
            <a:r>
              <a:rPr b="0" lang="en-US" sz="10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029200" y="2057400"/>
            <a:ext cx="2590920" cy="22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089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4788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5877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8055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7"/>
          <a:stretch/>
        </p:blipFill>
        <p:spPr>
          <a:xfrm>
            <a:off x="6966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8"/>
          <a:stretch/>
        </p:blipFill>
        <p:spPr>
          <a:xfrm>
            <a:off x="805500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9"/>
          <a:stretch/>
        </p:blipFill>
        <p:spPr>
          <a:xfrm>
            <a:off x="805500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55000" y="37339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8055000" y="29178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8055000" y="21114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8055000" y="12952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7623000" y="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6534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5445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4356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8"/>
          <a:stretch/>
        </p:blipFill>
        <p:spPr>
          <a:xfrm>
            <a:off x="3267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9"/>
          <a:stretch/>
        </p:blipFill>
        <p:spPr>
          <a:xfrm>
            <a:off x="2178000" y="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0"/>
          <a:stretch/>
        </p:blipFill>
        <p:spPr>
          <a:xfrm>
            <a:off x="0" y="1962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1"/>
          <a:stretch/>
        </p:blipFill>
        <p:spPr>
          <a:xfrm>
            <a:off x="0" y="277812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2"/>
          <a:stretch/>
        </p:blipFill>
        <p:spPr>
          <a:xfrm>
            <a:off x="0" y="3594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3"/>
          <a:stretch/>
        </p:blipFill>
        <p:spPr>
          <a:xfrm>
            <a:off x="0" y="441000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4"/>
          <a:stretch/>
        </p:blipFill>
        <p:spPr>
          <a:xfrm>
            <a:off x="0" y="522612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5"/>
          <a:stretch/>
        </p:blipFill>
        <p:spPr>
          <a:xfrm>
            <a:off x="431640" y="6041880"/>
            <a:ext cx="1089360" cy="816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6"/>
          <a:stretch/>
        </p:blipFill>
        <p:spPr>
          <a:xfrm>
            <a:off x="0" y="1146240"/>
            <a:ext cx="1089000" cy="8157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7"/>
          <a:stretch/>
        </p:blipFill>
        <p:spPr>
          <a:xfrm>
            <a:off x="1521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8"/>
          <a:stretch/>
        </p:blipFill>
        <p:spPr>
          <a:xfrm>
            <a:off x="2610000" y="6041880"/>
            <a:ext cx="1089000" cy="816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9"/>
          <a:stretch/>
        </p:blipFill>
        <p:spPr>
          <a:xfrm>
            <a:off x="3699000" y="6041880"/>
            <a:ext cx="1089000" cy="816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990720"/>
            <a:ext cx="275292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 u="sng">
                <a:solidFill>
                  <a:srgbClr val="000000"/>
                </a:solidFill>
                <a:uFillTx/>
                <a:latin typeface="Times New Roman"/>
              </a:rPr>
              <a:t>Moonlight Nights</a:t>
            </a:r>
            <a:br>
              <a:rPr sz="13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by Bernard Ho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clear sky seems to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the moon so big and br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ighting up our hill sid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ith an iridescence light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shadows hide amongst the trees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whilst I listen to the gentle breeze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night time opera in front of m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magical moment under a grand marque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or now I know that no man ali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uld ever produce this kind of splendor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in which a heart beats faster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one which makes my heart surrender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he beauty within our heavens light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fills me with a passion a deep delight.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Lakes sparkle from shore to shor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no one could ever ignore.</a:t>
            </a:r>
            <a:br>
              <a:rPr sz="1100"/>
            </a:b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How can darkness have such a glow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warmth so bold to comfort our soul?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beauty from heaven to help us believe,</a:t>
            </a:r>
            <a:br>
              <a:rPr sz="1100"/>
            </a:b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a knowledge that can, make us all whole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5d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057400" y="685800"/>
            <a:ext cx="586728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7400" y="457200"/>
            <a:ext cx="7086600" cy="4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6781680" cy="62485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25d3e5"/>
                </a:solidFill>
                <a:uFillTx/>
                <a:latin typeface="Times New Roman"/>
              </a:rPr>
              <a:t>Sha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25d3e5"/>
                </a:solidFill>
                <a:uFillTx/>
                <a:latin typeface="Times New Roman"/>
              </a:rPr>
              <a:t>©Adam Rulli-Gibbs 2001 -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If it won't leave me alone it's no surprise that I'm shri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to no avail, my shadow follows me still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When sunlight reveals my frown, that only fills it with gle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Yet on a moonlit night it never fails to locate m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Until my shadow appears the only thing that is tru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ppearing in a flash on any wall within view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But increasingly I realize that it is pleasing after 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o have such a constant companion, then I recal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that the only times my shadow has left me alo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have been the darkest times that I have know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And so it fills me with delight to have my shadow abou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5d3e5"/>
                </a:solidFill>
                <a:latin typeface="Times New Roman"/>
              </a:rPr>
              <a:t>for it completes my world, without a doub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0" t="0" r="0" b="12723"/>
          <a:stretch/>
        </p:blipFill>
        <p:spPr>
          <a:xfrm>
            <a:off x="6172200" y="4114800"/>
            <a:ext cx="2333520" cy="2527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rcRect l="0" t="31775" r="27770" b="0"/>
          <a:stretch/>
        </p:blipFill>
        <p:spPr>
          <a:xfrm>
            <a:off x="5486400" y="73080"/>
            <a:ext cx="205740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2:32:47Z</dcterms:created>
  <dc:creator>A</dc:creator>
  <dc:description/>
  <dc:language>en-US</dc:language>
  <cp:lastModifiedBy>A</cp:lastModifiedBy>
  <dcterms:modified xsi:type="dcterms:W3CDTF">2009-05-12T02:37:31Z</dcterms:modified>
  <cp:revision>2</cp:revision>
  <dc:subject/>
  <dc:title>No Slide Title</dc:title>
</cp:coreProperties>
</file>