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DF1-378A-4535-A059-58405EF4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641-B27A-4D1F-8177-CAA22860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D7A-2496-4035-A326-E0CDCF2C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3E2-26F0-4B83-9E1C-F71CA2EB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04C-FDFF-4A67-9CF6-05985B7B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9E7-96AE-4E02-B66C-AB1B3446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9D2-4CA3-41CA-AA30-E6424235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D9F-6BF1-4FFA-B809-50CE771E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E61-9302-4062-9069-20EFB217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28A-13C5-44E5-A02B-7981FCED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B9B-723A-4B22-A5AB-9E4DCDAD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2D5-B1A5-4905-BF85-A9228D75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BE28-4EB1-473D-9E22-A87E0E8EB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itsngrace.files.wordpress.com/2008/03/thankful.jpg&amp;imgrefurl=http://philsword.wordpress.com/2008/09/03/thankful/&amp;usg=__kqhddcJ53BPZOuINMHydUSimZuQ=&amp;h=221&amp;w=348&amp;sz=56&amp;hl=en&amp;start=9&amp;um=1&amp;itbs=1&amp;tbnid=qq9Tt9_16OvPBM:&amp;tbnh=76&amp;tbnw=120&amp;prev=/images%3Fq%3Dthankful%26hl%3Den%26safe%3Dactive%26rlz%3D1T4SUNA_enUS347US343%26sa%3DG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t3.gstatic.com/images?q=tbn:qq9Tt9_16OvPBM:http://gritsngrace.files.wordpress.com/2008/03/thankfu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 rot="20384400">
            <a:off x="3490920" y="27860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ful, express your gratitude, have h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t2.gstatic.com/images?q=tbn:g7eeF5o7WYXfHM:http://www.natureartists.com/art/resized/1080_Wild-Turkey-.jpg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762120"/>
            <a:ext cx="4572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s giving, give than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lif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pportunity to make everyday better than the l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great feast happening every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everlasting opportun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lways going fu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erson I am, the people around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sun shining life on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ongoing blanket of love on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lanket I hope to cover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pportunity to do gre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eat things for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eace we can bring by the simplest th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lo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mazing love that covers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feel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y, Peace, Love, Hope, Faith, Happi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lif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myself the love I can hand out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8:02:13Z</dcterms:created>
  <dc:creator>ITSUser</dc:creator>
  <dc:description/>
  <dc:language>en-US</dc:language>
  <cp:lastModifiedBy>ITSUser</cp:lastModifiedBy>
  <dcterms:modified xsi:type="dcterms:W3CDTF">2009-11-24T18:29:40Z</dcterms:modified>
  <cp:revision>4</cp:revision>
  <dc:subject/>
  <dc:title>Slide 1</dc:title>
</cp:coreProperties>
</file>