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FFE4-D497-4B52-8147-DCB3ADE9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0916-50D7-416A-8B82-0A73A528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CFF7-7209-4659-8C6A-DF3BC842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F6E8-0E8C-4813-824F-4B9DC69C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2A73-9DEC-4DDE-84D5-A7298390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3E22-61E3-498E-BE15-FF2F4911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3FA-5643-4EDA-9A22-7B6113B1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C143-D49D-4B06-953F-68C26572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723A-8C54-4BB0-BB89-7D24D467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D711-45D6-4025-A403-F0F8B953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25D5-906B-42E9-8AB2-8C0D947A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8526-9D85-437F-B2EF-95D20B74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943D1-867A-48B9-A442-51D71E8EEC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gritsngrace.files.wordpress.com/2008/03/thankful.jpg&amp;imgrefurl=http://philsword.wordpress.com/2008/09/03/thankful/&amp;usg=__kqhddcJ53BPZOuINMHydUSimZuQ=&amp;h=221&amp;w=348&amp;sz=56&amp;hl=en&amp;start=9&amp;um=1&amp;itbs=1&amp;tbnid=qq9Tt9_16OvPBM:&amp;tbnh=76&amp;tbnw=120&amp;prev=/images%3Fq%3Dthankful%26hl%3Den%26safe%3Dactive%26rlz%3D1T4SUNA_enUS347US343%26sa%3DG%26um%3D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t3.gstatic.com/images?q=tbn:qq9Tt9_16OvPBM:http://gritsngrace.files.wordpress.com/2008/03/thankfu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 rot="20384400">
            <a:off x="3490920" y="27860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ful, express your gratitude, have h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http://t2.gstatic.com/images?q=tbn:g7eeF5o7WYXfHM:http://www.natureartists.com/art/resized/1080_Wild-Turkey-.jpg"/>
          <p:cNvPicPr/>
          <p:nvPr/>
        </p:nvPicPr>
        <p:blipFill>
          <a:blip r:embed="rId1"/>
          <a:stretch/>
        </p:blipFill>
        <p:spPr>
          <a:xfrm>
            <a:off x="4343400" y="0"/>
            <a:ext cx="4800600" cy="647712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0" y="762120"/>
            <a:ext cx="457200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s giving, give thank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make everyday better than the la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great feast happening everyd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everlasting opportunit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lways going fu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rson I am, the people around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sun shining life on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ongoing blanket of love on 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blanket I hope to cove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opportunity to do gre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reat things for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peace we can bring by the simplest th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the lov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e amazing love that covers the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feel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Joy, Peace, Love, Hope, Faith, Happines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lif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Thankful for myself the love I can hand out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8:02:13Z</dcterms:created>
  <dc:creator>ITSUser</dc:creator>
  <dc:description/>
  <dc:language>en-US</dc:language>
  <cp:lastModifiedBy>ITSUser</cp:lastModifiedBy>
  <dcterms:modified xsi:type="dcterms:W3CDTF">2009-11-24T18:29:40Z</dcterms:modified>
  <cp:revision>4</cp:revision>
  <dc:subject/>
  <dc:title>Slide 1</dc:title>
</cp:coreProperties>
</file>