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70F-8EB2-439E-9E66-4BD84F8D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7B1-C740-4C7D-894D-A964B457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383-17D2-4548-8DAF-18A07BCD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10D-AB47-47A7-B138-1923A932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4DC-1BFA-4014-8A5E-99AEA363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6D3-FBCD-4F55-9593-1AAA25D1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2F7-83A8-4E19-9847-E454C25F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763-35F1-4260-B9BC-A2EC041A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89F-0412-4489-885D-293A48BE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BBE-54D3-4708-9AE8-DF6EE2E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EB1-C169-47B7-A65D-AF27DB2E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825-AA11-4D84-870E-E4D83E61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9206-51FB-45EB-A286-D78CCE1EA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itsngrace.files.wordpress.com/2008/03/thankful.jpg&amp;imgrefurl=http://philsword.wordpress.com/2008/09/03/thankful/&amp;usg=__kqhddcJ53BPZOuINMHydUSimZuQ=&amp;h=221&amp;w=348&amp;sz=56&amp;hl=en&amp;start=9&amp;um=1&amp;itbs=1&amp;tbnid=qq9Tt9_16OvPBM:&amp;tbnh=76&amp;tbnw=120&amp;prev=/images%3Fq%3Dthankful%26hl%3Den%26safe%3Dactive%26rlz%3D1T4SUNA_enUS347US343%26sa%3DG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t3.gstatic.com/images?q=tbn:qq9Tt9_16OvPBM:http://gritsngrace.files.wordpress.com/2008/03/thankfu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 rot="20384400">
            <a:off x="3490920" y="27860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ful, express your gratitude, have h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t2.gstatic.com/images?q=tbn:g7eeF5o7WYXfHM:http://www.natureartists.com/art/resized/1080_Wild-Turkey-.jpg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762120"/>
            <a:ext cx="4572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s giving, give tha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make everyday better than the l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great feast happening every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everlasting opportun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lways going fu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rson I am, the people around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sun shining life on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ongoing blanket of love on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anket I hope to cove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do gr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eat things fo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ace we can bring by the simplest th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lo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mazing love that covers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feel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y, Peace, Love, Hope, Faith, Happ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myself the love I can hand ou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02:13Z</dcterms:created>
  <dc:creator>ITSUser</dc:creator>
  <dc:description/>
  <dc:language>en-US</dc:language>
  <cp:lastModifiedBy>ITSUser</cp:lastModifiedBy>
  <dcterms:modified xsi:type="dcterms:W3CDTF">2009-11-24T18:29:40Z</dcterms:modified>
  <cp:revision>4</cp:revision>
  <dc:subject/>
  <dc:title>Slide 1</dc:title>
</cp:coreProperties>
</file>