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AD0D-5023-4C01-B8F3-05080456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BFA2-F98D-431C-A85C-28596E88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241B-DA14-4DA1-AEB5-58A5A3EB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768C-61EF-41E6-9CFF-6F0A4797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F8D-BC36-41B0-90F8-C8764A44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A97-25D4-4C37-9705-B120E081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27F8-9AAC-4B5D-AD57-94DA3F66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438E-26EA-46F6-BCA6-617B3835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99F4-AC77-4968-ACE8-57B9F08DC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BC0-E88B-43E8-8D85-6CB356D0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56DE-B9BD-4946-9529-6CFB9670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FDD-AE97-4255-B849-BB3F6A534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46E5E-A04B-4915-804B-025FB0E5C2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itsngrace.files.wordpress.com/2008/03/thankful.jpg&amp;imgrefurl=http://philsword.wordpress.com/2008/09/03/thankful/&amp;usg=__kqhddcJ53BPZOuINMHydUSimZuQ=&amp;h=221&amp;w=348&amp;sz=56&amp;hl=en&amp;start=9&amp;um=1&amp;itbs=1&amp;tbnid=qq9Tt9_16OvPBM:&amp;tbnh=76&amp;tbnw=120&amp;prev=/images%3Fq%3Dthankful%26hl%3Den%26safe%3Dactive%26rlz%3D1T4SUNA_enUS347US343%26sa%3DG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t3.gstatic.com/images?q=tbn:qq9Tt9_16OvPBM:http://gritsngrace.files.wordpress.com/2008/03/thankfu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 rot="20384400">
            <a:off x="3490920" y="27860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ful, express your gratitude, have h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t2.gstatic.com/images?q=tbn:g7eeF5o7WYXfHM:http://www.natureartists.com/art/resized/1080_Wild-Turkey-.jpg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762120"/>
            <a:ext cx="4572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s giving, give tha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make everyday better than the l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great feast happening every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everlasting opportun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lways going fu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rson I am, the people around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sun shining life on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ongoing blanket of love on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anket I hope to cove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do gr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eat things fo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ace we can bring by the simplest th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lo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mazing love that covers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feel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y, Peace, Love, Hope, Faith, Happ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myself the love I can hand ou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02:13Z</dcterms:created>
  <dc:creator>ITSUser</dc:creator>
  <dc:description/>
  <dc:language>en-US</dc:language>
  <cp:lastModifiedBy>ITSUser</cp:lastModifiedBy>
  <dcterms:modified xsi:type="dcterms:W3CDTF">2009-11-24T18:29:40Z</dcterms:modified>
  <cp:revision>4</cp:revision>
  <dc:subject/>
  <dc:title>Slide 1</dc:title>
</cp:coreProperties>
</file>