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82F-D03C-4FC2-BBB7-AB2A2221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645-BE72-460D-A06B-05AF8030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0D996-7A09-46A9-94F7-2B07AAFD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2C5F1-57FE-4734-8C00-228E7932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2F81B-CF1D-4312-8EAA-43A65F87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C464D-B233-4774-BF01-44B6822F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527CB-E6F0-4BAD-90B6-29BF4AA6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455E1-BD2D-412E-B206-61450123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7AAD4-37B2-4E4A-BCC4-23CED35D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7CB91-8385-4A3C-969D-2EE62978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516C3-32BB-48CB-B4D9-6A9F3900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F5023-61DE-431A-BCC9-036E4BB1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CAD-87B1-4BA7-BFD8-9295C61B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B9F56-B015-4A4D-B87F-8D25E52B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A86DA-B263-4C9E-9403-257F3010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3DDCF-B55D-4E0F-B495-6BC1163B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EE60C-58DF-49E1-96A0-151F480A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D9DA4-DB4C-4D8B-869E-81D1AC38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E1C02-8FA8-403E-B4C8-9CED4F42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61BBA-43CD-4933-8FBC-CA576E50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84ACF-B0B5-42D7-969A-199AB772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3487C-963B-4B6A-AD00-B4BEA21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C9DC3-74A3-4EDF-A598-63306184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568-9047-472A-BF2E-DF012576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CA2A5-528E-46D6-B467-ACF9691A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92024-892E-452A-A71E-7AB84BEF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96910-0E6D-490D-8213-EFF4AED5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0C3E2-6210-42E6-B626-35146C0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D46D-5437-4A69-BF46-519FD42D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7716-BF9F-4EBA-8C5E-802E3A3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8536A-C6DF-4441-9CD6-17BEB13B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D387E-62E7-4E2C-911D-5B758F1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9E191-05AD-4565-B5C3-75005207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9563-5D42-49AF-8FA3-D0A46BC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318E-1E97-473F-B772-F02FF30A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5C518-6143-45D9-BE0E-B04F6A11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D542A-DF72-48DA-8C97-E8950D99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A85CA-7F51-46C7-84BE-7EB2A26C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9EE2E-E149-40C4-B17B-3F3B738C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52B43-170B-4E83-8D2C-1E6AEB2E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E19BA-FBD9-4FFF-8CFB-CA8CECEA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C6B50-BAEB-4C52-87C7-E49CF4EB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5F7CE-C7F3-4D9D-82D3-35B16097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A8F9-0A53-4532-8C63-87D8FAF8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CA40A-423E-40AA-BC9D-371004C2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8E0C-A02A-4A5C-99E7-59C6416A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8C725-3A98-4C38-A761-0754F8FE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38A06-F31F-4E9B-ABDE-0F911756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6DCAE-2352-436E-BFE9-8AAD822A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9B6D4-91DD-4D7D-8EFC-C60C9FD4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49FC4-8B5A-455F-A305-AAB395D3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AE2DE-2061-415C-AEB3-4A4542F3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00EEE-786A-4A5E-8F34-8F03155E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8B4FF-8723-4E9F-B54F-1884C7B2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9B70D-8E83-4844-9445-8553F54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E7086-A3A8-421B-9F0A-544093D8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46FB-EA7C-4F5D-AC46-A8D55CB0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41E3D-A373-49D3-94E2-4367E404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3E7E7-44BF-456C-817B-B7D4498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D212B-4A3B-4608-824E-6BEAE6D3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EF4B6-8B42-4972-8A48-51A4A52D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C9EAC-9EB2-4CF9-944A-C735F2EF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3F407-C37B-44C3-B071-F53949AA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3296A-7B24-4850-B94A-07D58028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2BC59-AEBF-4D78-8E6D-07AE6A2D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BC640-D7ED-4491-BEFB-E065650C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D0476-D3CC-4CB2-9789-B527A5EB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7AFC-A5C4-4430-AF77-C8BA8A3C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8EC93-1059-4570-B8BB-74F15E90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E5A18-7CDE-4437-ADF0-E6AD739F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D04D7-CC61-48C3-80E1-71BF3651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04FCC-08FA-4CCE-A47F-81A7D69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B5788-2A75-440C-979E-CD778B7C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BBEB8-6ABE-4007-A3AF-5814A398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C93EB-DBD6-43AB-A187-FD1E7299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DEFAE-E28D-4B02-B197-68182F44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7EC2C-BF67-4C25-9160-26523A68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CA4051-B1A2-49C9-9309-51A4CA00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F80C-E51A-4994-9AE3-384BBE6A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D3DAF-EE0D-4DFF-8F3A-00EF6B16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3E73A-8D72-49E9-9807-C853F9A4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7C3AC-FDB3-4216-9B27-87FFE0A1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37886-53DB-4998-9700-7719B65E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1B164-93FF-4075-B650-6D9AF278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80149-1D10-4F8B-8388-EBFEF55A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9D55B-C7DA-4079-9A25-2DAD1E93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A6C61-6FA0-4B5C-BF88-520DB06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07A4F-00D6-469F-8975-884D18E2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24EDE-23CF-4B5C-8279-2E608DAE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E371-586B-4FA7-9297-76B65DFD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97158-F498-459F-A246-06AB5642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371BC-7F67-41B7-AACB-FD222CA1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1BD4A-6768-47CF-BA00-A496BF2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934DD-0879-4470-9E11-FB971CCB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57F70-7D91-46F0-A0AF-70E17D2E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C9837-9FE5-4385-89C6-46BC3FAE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12AAD-9216-40A9-90A2-C894DC75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F3E4A-EDBC-44FC-87F4-77EAEFA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8E609-DB65-4557-8550-A99F6F11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8703F-6DDC-4305-8984-9220A8B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AB0D-FCAD-4CD9-9836-BE2471E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18507-4A67-403D-A872-338605CE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6E867-E5DE-4339-9555-62E138AA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CCB05-1AB5-4268-98E3-8C176CF9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85BD1-1CB3-4F1E-8976-A72C6787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FDBC8-0297-47C6-9C4F-B7B7FFA5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B6FDF-DE87-43CC-9EB0-1211E511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78593-C800-4811-BCBB-CD01B6AF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EA57DA-5946-4E04-B59A-D0382F89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BCC5F-2787-4B87-859F-B7C802A6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D25977-410E-477B-BE80-1B876B24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994-1FC9-4625-A36D-6629F166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3820-C658-4D1C-A6B2-0609CE51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9B495-464A-4FED-AA41-0A06A1E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89178-7CA2-4402-8847-B4D00475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E71B7-B2E6-4315-A992-B08A4D9E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2C841-852C-41AB-B0F9-E025736C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F2016-AB4A-4C78-ABB1-DDF5C2C7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09DCA-4FD0-48EF-AB80-28FE8D40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8A84E9-3AA8-417D-94F3-3079D0AD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97362D-7FD0-4F15-AC4E-B271BE7E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F10BB-EAE2-4262-9FDA-18957E07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54294-B935-4499-84E8-94517133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A524-74BF-4338-A0BA-EE528D55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E2F5B-AF87-43DC-B19A-B8F53DCD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F9D7A-26A2-46A7-9487-A844CB5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31109-340D-4F49-B0B3-591EB895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74025-F955-4EC7-A29E-75EB4F1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DAEF3-CE92-4450-8A38-1A52EC81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CE4E4-4420-4284-8B0B-7BB291CF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0E5C5-C451-4A6D-A4B4-3B6AEE86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5B33A-E018-4FDD-9A33-90B85965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39E420-6FD8-4940-9F38-460FD91E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CBADA-7A78-4144-9C4D-B1EC4033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C929-844B-4EAE-A92E-E85B2F26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E96895-9122-4682-9136-EC1A5791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25E5A-CEFC-4A05-A7A4-514209A0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4A002-C513-44F2-8E86-3E4FED34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E04A9-CC36-4B50-9D3B-EA58913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6E5D4-CEB4-4A11-ABBA-0F6189D8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55B81C-347A-40F0-A1C7-367AFC7E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1D608-0B44-4CE7-AACB-1EAD3D43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461BC-3D5A-4605-A03D-D64DC255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6AE3B6-C018-4968-A039-1DB044BB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E6A2A-DF4A-462F-83BF-56FD677A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CC54-2548-48CF-8416-5DBA1A3D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32CB8-0CD1-4EF6-8946-B4849EE8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79B38-4588-4AB0-B2B6-AC056B55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8100B-393D-4D63-BD3C-9C199EDB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8D1EC-79BF-4224-8CC4-84A7FF2D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8F51E-A16F-48ED-8C12-5B431806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549EBC-DBE1-4F41-AFC0-591E3895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EEFB06-97E8-4B1E-82E9-F40B9477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91E983-0824-4635-8E5F-FA82DCC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11D91-EC6D-41A4-AF06-ED58630C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69E01-29FF-4CB8-895E-0E2C34EC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3495-3B4D-4D5A-89BE-B232FE49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A1D86-5B7B-4608-B4A2-75955F1F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0AD872-4014-4B41-8DE0-B1FD66CB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6D4E6-2A1E-463C-9441-CBAF661B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2C7C8-3509-4746-A4E5-7BC12533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650AE2-114F-48DA-8261-A80557EC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0E755-89C0-4AE5-A729-D143EED4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CEA84-B946-4DFD-9082-F700CC38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025F7-8928-4D3E-AEEB-EE4B8C9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36526E-A26B-465C-A108-9D9F9B6B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45C76-8EAC-45F6-B790-F8618D85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4BAB-E5C9-4714-82A2-1B4B812B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03424C-50CD-439C-8EC4-E982762E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212EC-DE54-47A6-889F-48D75A59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AADF9-6655-4914-8F1D-CB2CFAAD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B6585D-E921-4CF8-B90B-D346E8A6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E9CF36-6020-4B11-974F-CD9E2FF5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941341-0956-4CDB-9AAC-27F1E832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F7548-3BF6-426D-A663-775C53D8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FE65CA-16CA-49B3-9E7D-0E94D10A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10FD9-6717-4F1F-8BB0-9A9AAF5C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69EBC8-D527-4C84-8E44-1884B873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17C7-0AC9-4A5F-BE34-60557495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AF45A5-4B19-44D2-9EF4-CBB5C851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B7D0ED-16F4-4209-B372-239C259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63426-0565-4563-9CAB-4C0C7AD7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B4C2EE-1C24-41CF-B116-34883432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3C84E9-E456-4CE6-BA78-7A5C7938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EED906-0463-4A34-B775-1462516D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6B228F-AEC4-48DB-9BF3-F17D339A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4C1ABD-666E-4D6A-A7EF-42476A36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C98337-C30B-4A80-B0E6-BBEFAAE6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545D13-1E67-4D4F-887D-A796BCD3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8C17-A53F-4EEA-909F-ABEB9EAF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740D36-5896-42B2-927D-4A2DD6ED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987978-E771-4C9F-B015-6510C950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3BAA9A-0E53-4D0D-AB3F-E0757E4F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4F7DE8-0A79-45F7-973D-2FA5795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6527E0-AF66-4593-9F92-F353FB18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4ABEAE-91A5-4E57-BCCD-9A5DDC40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7D2096-A1C2-4F01-8DDF-C572B02C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FF83FD-4F56-4724-B4CA-BA2CFE74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F8B10B-E537-4E34-ADC7-79F124D1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F05450-1436-4E50-992A-6BE57B04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A228-07C2-425D-94DB-E4C7C04B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2B8EDA-BAF6-46C6-B339-C3666F4C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CA699E-25A7-4FB7-98B9-329966FF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DB869D-F7A5-4AF4-872E-5B0B5875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DC212C-0C80-4135-B1A0-5859715F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5BDC2F-F283-4978-9142-BDE89BE6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555A5B-C1D3-428A-BC3D-4324329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BF482-0A02-4D3B-8D15-CB8F273D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8A5FF6-BC67-4880-94B2-DB9D946E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A9FE64-3A3E-4BBA-BD5C-65554020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2F70-5810-4AAD-8FCD-47BEB044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EDB-292F-45AC-B4D5-BD94C7AD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F9E70-EC07-4B9A-BC7C-15B3FAB9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8410-582D-48AB-8E22-4992113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F4C2-D5B1-4EEC-B3EB-B2BE69CF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518E-CDA0-4BC9-8C81-8F56BC94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2B95-5BAB-466D-9F19-DB81C597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323B-CDB6-475D-93BA-7346139A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5FA4-1B04-40D5-AF39-49C1ECBA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FDBF-D342-43F0-A844-4747AA0C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B7EF-71A0-407B-B913-2A5E0B88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65F6-47FF-452C-B8D3-0277CB85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8DB-C9D8-4512-8805-A54B66CF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7EFF0-B6F0-454D-9DA2-C5B59E15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A5CD-6C24-43D9-95E5-636F1599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1BAD-9207-47E0-9445-8909DCEE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2894-EDF4-449D-AFBB-76D5797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209A-847A-4E40-9E4E-3F21F1FB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F603-AEF1-4495-B07E-CCA62607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C2C4-4409-43C1-8470-C043012B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2501-0C06-4376-BADD-BBFEAF26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4B97F-7B10-4F90-8733-1585F31B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71C5F-8A6C-4CA9-95C3-7CC86D4B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81B-32F9-451D-B4AD-EA9D2B97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C7F7-F091-47D0-A76D-47367790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B917-CB5C-4E7E-B7CD-97547F88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A1F71-0D04-4883-A8F3-32A3A49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F61B-77C6-4A99-8EB6-2CC5E599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AFBAF-5A31-4156-ACD2-0A3CA178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9924B-68E5-4C23-A8D2-178ACD4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27681-2D7E-495B-BB62-409794B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294C-8CE3-4D6C-B184-A0BC00A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24C3F-628F-4FF4-A296-BABBB0EC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3743-ED36-478E-B162-782AB17C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9FE-602C-4318-9B9D-1C35F1D9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A774D-A34B-47C0-B82F-4BA6EBE6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9F2A9-3557-499E-840B-28AB8D72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577E9-631E-44F5-94B7-3D4C24CD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354C9-E134-436B-A34B-670039E8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B9495-284E-450C-A5B1-01DE7B8D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3C691-7143-4FDC-B32B-97046343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C93C3-C257-46B4-80C3-149B145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FA2D-8C20-4E90-AFBA-F82B093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4C018-523F-492F-813A-1D4D6F6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86FC9-A6EB-42AF-9DB1-DEFAF981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D93-7674-4CE2-B9DC-55DBA38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A2E9B-D44C-442B-9D02-879A9197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9EF68-99DA-4EA1-B665-66E3B3A8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65B97-C631-41F0-9BFA-86D8FA2E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E4B74-F193-4698-BE1F-47E43A7E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7FED7-FA8F-4B50-932E-DA815E4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042A4-45D4-4C14-96E0-A1927F78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8B0DE-19E6-456B-9F32-17412276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81775-5E34-4647-B84B-E2D41F7B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ECB19-8304-4FD6-99F1-B751DC1C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7CA57-6839-4207-AF4E-50A53682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6B6-76E1-4C89-A3A0-9AE70DC3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78688-ED67-4F6A-8670-432C7595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5C9AD-C7D7-4738-A2DC-71727095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5AD3E-E50D-4355-B075-796CB34C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F95B4-2F86-4490-B537-3195F529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8F58B-C855-493D-8ED2-CB3D8D0B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C8B62-4DDE-4780-B26D-2C51F43F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22ECA-3D05-4478-B2DF-0517F723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B59E4-A947-4CD3-BA2D-DB489165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329CC-7513-4E4D-95D6-3CC77FA7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AAE9A-2F79-4C46-BC15-06C56B0A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338-CCE0-4145-B955-E336C07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C3FF2-1968-4B5C-A9F1-82E8477B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0B8FC-6BE7-4E67-960D-1CEEE0F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21356-EF32-4207-9D06-7B209EBF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FEA19-D431-4286-AC83-D3257502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35A8D-0466-4C74-A782-6E9B5A43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BEE14-A006-469E-ACA3-7EE5B994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6B89-CF31-4780-BD89-8AB5E1F3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8B270-872A-4B44-861F-3F328E51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C5041-DE19-4F37-9468-34B4445C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CE416-68C0-4A49-A0A2-6326C0C7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CFD1-3E14-4A18-93C0-C0D7F151D2FA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grpSp>
        <p:nvGrpSpPr>
          <p:cNvPr id="44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0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1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2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4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5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6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58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9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60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8463-8E42-4453-9CF9-181906EF9736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0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E277-39A4-40B5-8FE0-98E8562CE6D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CC4B-E1D9-4257-ACEF-D0FF5B45D22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Franklin Gothic Mediu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4C35-78D2-408E-9E3D-A630169E310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64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687F-115B-446B-B0AD-C7EB8327D90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9C60-DDF2-4577-BF41-32C18198039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2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BA00-C2A0-46E1-B186-550CDDF6FAC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DB6-BC98-4BC0-BE73-325D3067D0A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883D-6E9D-4272-89D0-0ECCB7D16BA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6040-7350-4054-98E0-34CC62102FC1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D28-E1B8-4607-9B7D-096AA55B2CA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grpSp>
        <p:nvGrpSpPr>
          <p:cNvPr id="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BB01-5AB3-4A4B-9774-72793EED25BB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CD95-9834-4EA1-B1D9-4499CD6768FE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E982-A32C-4F5E-85CA-0C9832AF91F6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044E-FABB-4FAC-B29E-FF2F3EB3E4E2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0FB5-C70D-4243-84F2-1C8A1DAD6319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755C-ECC5-4E71-AEFC-7E0A1627D487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90E0-704B-4EC0-A0D8-59C25F1FBE78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2B3A-F0C4-4075-BAD6-662D543D6D55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112F-F41E-4E95-BEB0-8B3EE9D94777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B32-05A2-4094-ACD6-ECD3315EB9BA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5DEB-C424-4DFA-B2CB-B67029F28AF2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316D-4208-4DD1-8725-D270E071EC97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</p:txBody>
      </p:sp>
      <p:pic>
        <p:nvPicPr>
          <p:cNvPr id="1105" name="Picture 2" descr="http://www.uchsc.edu/vivat/2005/September/images/SOD_91504.jpg"/>
          <p:cNvPicPr/>
          <p:nvPr/>
        </p:nvPicPr>
        <p:blipFill>
          <a:blip r:embed="rId2"/>
          <a:stretch/>
        </p:blipFill>
        <p:spPr>
          <a:xfrm>
            <a:off x="2844720" y="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learned about Reciprocals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never knew how to work Xcel and now I know.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learned how to do formulas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was doing really good but then I wa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slaking</a:t>
            </a: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 in my work so I did not get that much done but then after a week I work my best and m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knowledge went back up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Decision Making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I bought stuff that was really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 like a computer so it can help me with my homework and I also bought a apartment so then I have a place to stay while I am going to college.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54Z</dcterms:created>
  <dc:creator>ITSUser</dc:creator>
  <dc:description/>
  <dc:language>en-US</dc:language>
  <cp:lastModifiedBy>ITSUser</cp:lastModifiedBy>
  <dcterms:modified xsi:type="dcterms:W3CDTF">2010-02-17T20:48:16Z</dcterms:modified>
  <cp:revision>8</cp:revision>
  <dc:subject/>
  <dc:title>College Planning Reflection</dc:title>
</cp:coreProperties>
</file>