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DBD3-B73E-4B2D-B458-E015600AA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4792-00D0-45B5-B3E8-CD4192564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2C6A-8B23-4323-8BEF-CF962F64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087D2C-36DF-4AB8-AD5D-74D5A53D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FF96F-FC66-4DE1-9533-BCBF377A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233DF-6CD4-4B87-8A15-E33E548F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7833B0-0258-41F9-9D7F-4AAF90BFB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4BA1C-04ED-44DF-8FA0-9A6C9E798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213BA-D1EC-4A0F-BC77-5E4EF06E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D5E5BF-F857-4982-B4F9-1CDA6882E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4834B0-980B-47B1-93AC-61B964740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3EE2B2-B8DA-4649-9881-A97F9F6B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476-5946-4940-8AB6-1289C5D89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EBB0B-DFB1-4134-A20B-D2A05CE3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E35E38-7D10-49B2-B07C-C2206C3B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7D079-0454-4582-8F9D-DD2B0CCB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55100-A006-4CB8-9202-72378F2A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A2494-9274-459A-8201-F91C45B4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8A647E-2ECF-44CE-9851-B46B581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8DA5B2-C675-49EB-8771-3BFFE33B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1F83F-A22A-48C8-A862-B64F2B829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A070A-FFD0-4CB7-8D39-5C0E9DBD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DD3444-3B35-4924-AEFE-55051325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0EC-9B80-4B45-8B6C-84A49857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F66DB-AFDF-4F4C-A047-CB3BD6B3C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CF473-ADE9-4685-973F-8AFA9223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AFB5B6-E34A-4609-A6B8-EC1B2DD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563DF-41D9-4A06-9C85-5ED04F8D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23699F-2417-480B-8BAC-1930000B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1A073-230E-43AD-B54E-0DFE02E7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EE50D0-7DD5-443D-8324-4029C75C9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8B932-278C-4066-AE45-66C287B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1094C8-E554-4070-ABFB-7EA6827A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BF5E5-0155-46A7-A1B3-9375D9656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EA77-CC18-45B9-9887-F0B4C6CC6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35629-D944-4C66-AC76-94DC0A18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86A6C-A1CC-4D71-9003-A5610DE1B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BECBF-C2E2-4CB5-BA6E-58F8034AC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3433B-EE8E-4A9C-A30A-02DFEC8C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2CAE9-5D80-49A9-A329-95002BBD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3EA50F-2F17-480C-9190-2F54954BA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162DBE-62D4-4085-8709-2345AE9E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6A998-6287-46DC-9D43-8EAB3A899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72DCA7-D185-4604-B029-51568EF2D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C032A6-42ED-4A85-B65B-F1051870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A2B83-5C3E-45AD-A8F0-ACC1C1FD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54D2CE-919C-44DA-B6EC-C515A0CE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0D22D7-15F7-426C-830D-A0F4EDA69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553431-9610-4F10-BC67-51FD6C78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A1432-F394-47AD-9EC8-CA4339DAA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1BCB7-C859-4745-8460-DC7F6F272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82432-FB99-4D17-90CD-83CA7B45C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1F75EB-FE95-4365-A7FE-AFE16525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5E30C8-9E2E-48AE-8CD5-2A2B55A78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0C96F7-D3F2-4DF4-8899-3C8DC1BF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3F16CA-8FEE-45AB-BA57-7D955756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55FD-8960-43DC-B0FA-8B135EF7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F744E4-5FCB-41E2-AD89-BAB0BB8A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2EC32A-3905-4DE4-AD7C-CA749BCA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8732F4-2884-467C-BA06-AE013058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E7214-230F-4AD9-9862-7D74F904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E8995A-7969-40AB-87C8-B94F1F1DD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6FC4CD-D263-4089-8F4B-4F1D1D5B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B399E4-72D2-4697-B209-FF8DA9E18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6A0EC5-7701-4A20-A355-61CB1B30C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D1FDA2-796D-44E2-8229-0175822B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C1296C-B00B-4377-9E76-4B578841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C1F0-8B81-4F02-BB27-FD47E60D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AB19AF-6D86-4D78-9002-7E67163C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8A9A5C-809D-4AE5-901D-5285B5AD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EE70E5-7232-4D0B-8DC5-1CFA7FD3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77FA0C-59BF-4E13-A02D-680E3264B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50CABC-D035-4125-9E80-5F138D2A4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F8E95D-DFD8-49E9-958F-93EADE81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7D94B0-8EC5-448C-B9B7-13CE01C7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9158BC-3215-47F8-B588-2F38E404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713D19-849B-452A-98F4-C535E41A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6FDA2E-BCDB-411F-A200-5182C704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A81B6-D75B-447E-9635-7FD5A8EEE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9F3E2-659F-480F-81B1-5F68BB7C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3C883E-1F13-40E3-8DBC-AF9491F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E4C95F-C7C5-4601-A95B-E1E67CC0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1DCCCF-04C5-4E35-9279-5ACF484F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F8A6EC-62D6-4D5B-A3D1-5C30CB460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AE9B4-6851-4508-AC91-7286068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FDC569-994E-45B9-8D6D-CEAC146C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9F34D-6C34-4DD3-98E4-92C5F03D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20A40-DEE8-4FF0-8563-C2229220B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283297E-5639-472C-B721-35B478F1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7967A-972D-4C40-A9F6-A02752827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2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C12229-31C6-4DDC-8FA2-205B57C25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2FD54-6A4D-4A79-9AE5-2EAA329A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A25E90-E33F-4E7A-8C68-60E1617D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14201D-1441-4AAB-825C-E343BA268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764DE7-A1E2-4089-8C70-2E12D568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70B1E-03A7-4DAD-B713-DBCDBF27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C49AA4-46E9-46EF-A72A-EA11790E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F14D44-83E0-4C75-A74F-2C79630B9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6F625F-C634-45BC-9BD3-AD0EE5FC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9C103-6FB1-4A1A-AAB9-81D4F99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4E17-6CD5-44A5-ADF7-44671335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F126A2-1D52-4CA1-BC44-B354C5B4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E47C0-4C8A-46C5-A170-A7DBCF261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B3EEE-6AA1-40F7-B37C-58F4DDFE3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29FD1-2F7D-4643-AEAA-8B71965A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604D9-A36D-4418-8FA3-2C3EBDE1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406787-26FC-42EE-A967-96873EDA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639C15-9F07-4469-B9B5-19F680B0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EDAF16-F2C3-4160-988A-F09457D0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92178B-7121-4C5B-919B-377FE58F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D03BD1-CD69-46E1-9FDB-63A3DBE2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8884-8D07-450F-9A68-5C7BAAD1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0ED7-B073-4FBB-9844-6730C81CB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C11FB4-D29F-4D79-800E-40C664C1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85C560-1DC0-4191-8F0E-6D87BDA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B3155C-49FF-47D8-ADF1-FB476CDD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84C90-3037-4EFD-BF4C-7DAD968B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3CC9F8-3C0A-46F5-9BB2-EDB808564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354BA-A223-4149-86DA-35998F76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BF0311-64F2-42FF-BD8F-BCA3A1F8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B0A22-3830-4C5D-A055-2DC39CE1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E69065-C8EC-4DEC-A1B7-37006743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FC621F-F205-431F-BB25-962FC2B5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5FD3-8159-4DDD-B1E9-F0C0CD1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CD2E7-95EA-4360-9464-9836B0B2E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FA3215-AC7A-4C1A-BDD8-D41505E4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29BCCE-723D-4B0B-BEC4-1566C7C3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CBE35C-DDAA-421E-98B4-E616BCDA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F9AF4CC-D96F-44F4-9D31-D56CBE9A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82C80-F24B-405F-B3E8-86C197B3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A8B1E-A318-49C5-B8B6-694C722C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80F3DD-001E-47AC-83C5-832ACE18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0AF075-A860-4BE9-96B9-95B7E9A4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3A5D64-FBF2-47F0-BC60-2E6DF832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C111-21EE-4507-893D-D677AD91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B82CAE-7C08-4993-A0D4-572A5455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95903D-BA59-4B70-8C3E-EFA11BF5E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F463D7-A808-41B5-A5E7-FA0B311A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B8E2E-E5C7-48DA-A089-E5DE3837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E1AD12-884B-496C-A4C0-385CCCD2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17BAFA-B342-440F-A66B-71870C0F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1FDFCE-AFDE-460F-9EF8-6FEFC0CC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1C044E-59AF-4D78-8C48-04E5A443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37373-1E89-4AE2-AC33-83C33375B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713C3-87C7-42DB-9A96-AD43F0974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68D6E-B8C9-42D8-9A77-1848EEFB6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3FD914-DB35-4497-8368-4934056D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2CCFF-52F1-4694-8EB4-50F4BA94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CD4B97-9270-4008-AA74-4FA3C923B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68B36-6EA9-4DDD-8176-D6A8206E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30129-A825-4D56-89F1-F8567771D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439DF6-4E5F-4E4E-9877-839C3993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D699BC-52CD-4253-AE0C-81DC92D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F78B9C-B3B9-412F-B316-89783AD0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F123FF-7A02-4C9A-ADF8-F3620EDD3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BB1E9-81A5-42DA-880D-0BDEDED5A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88DE-031F-40B7-917F-13DDEF1C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D7787-59EB-442D-962C-01725BC5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CB3853-C0BB-4DDB-BC4B-4399A943D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4BD59-4031-464A-802B-C0E14015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9D509F-24AD-4E56-A861-A3946B9D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07211-29DE-43AE-8BCF-41BD7CE4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D10FA7-A9DE-4949-8E49-2477A085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2F74A-D7DA-4CAF-B63E-705CF9E23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C9B5A7-53DB-4922-8A92-BAE42B22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C9F41-FCFA-49C5-9201-7DF99A11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AB17F8-94D5-4755-89C5-C50B132F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6D1E3-7166-4303-B6C4-FF172F32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F3BFD4-97F8-40FF-ACDF-8CE0B09F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171878-B254-4F7B-916C-CF6048A5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7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2ACA91-A55B-456C-B15B-2A240FE2C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12C5B0-FB0F-4EB2-B52F-FA1D329B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46222D-051D-4761-A3D0-0DD4ACD6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F26179-393C-4157-B6FB-C79FF80F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A8BF42-E402-428F-B021-9AEF37C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CC5F6B-AAF8-4A65-8FC8-35711CAB5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C429C7-6900-41CF-9D2C-F898FBE1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028160-30DC-460F-A9ED-78B01892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63E48-B48B-444D-911D-A967CC2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D39954-E910-4854-8A0E-39CB29A96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588051-F30F-496B-8211-CCE3A2BB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5C0FBD-80CB-40BA-8FA8-FAAFA111F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8B4913-A69A-4108-9931-B4FDF8CF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1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4ABD87-6579-458A-9914-B4B005737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F05EDB-0069-49E2-8EBA-2F4A3C5F9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38EBAD-AA02-417C-AC7F-8B6155FC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6CF8B-912D-4A7F-94E2-5D702DF1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1A5EF5-C879-46E5-BDEE-A47F7173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9D2895-4538-4C2C-9AFC-F124759B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7F90D-25AC-4333-9B57-44C621CA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5CDBF6-A33E-46C6-A528-BC18FE76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00107A-E0F6-4418-B50E-79C5A022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20F939-4B48-4FD2-835A-3CF64717E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F343FE-C7CC-4201-BEDB-A1BDA55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862862-07B6-4E1D-B2A9-AF2BBFB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DA99A7-C6C4-4675-8A98-B2731355B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9E568-39F6-4F34-9B1F-1FF9BCD3C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79F4C2-0129-4389-A9FB-E1C6A798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8E0D0C-AC87-4D84-9481-F41FD2369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DF181E-D403-47A5-BC0E-FF9F50987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36821-6921-4B2C-BCF7-315F57C49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90025A-FC0F-4107-869C-336908DE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6007C4-4411-4AA0-A552-C4ACC894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B6E950-EC31-458E-8D89-5430FB90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0586ED-C4D4-4DB0-8710-033B86DB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9693C8-1032-4BC8-8F69-7FF2ED9E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362975-67A8-4407-80F6-FF437245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48D5D6-D432-4E95-8502-4F76C070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EAA4C3-C242-40E5-B73E-D9CD8CB15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F159430-03EF-4EC1-8974-735FEE2DB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78625-A688-4BBB-9ABB-D1EFEF4C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8FA-C55C-48DE-8C3A-B6D27ED2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CC458-8145-4503-A619-66B0650AB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5ADF6-0AB4-4DA1-B645-D5D4AF42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2007-2982-413D-9BC9-0DC05609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38CD9-44C2-4F1B-8246-EA0C0466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518EE-CF79-4576-954B-B18FA5FD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A67CA-EFA8-4CE9-B327-EAB53931E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4BC0C-AC83-4A77-8E0A-D469866F0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C08F3-9622-4A76-A6C8-FBB44CA35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098FC-A33D-4076-A644-EEEE718B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9B20F-4BAF-4C5C-99EF-4C02B5BB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D97-B2D2-427B-9947-FB145468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22156-37BB-4E8C-8564-FB1513EF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110AF-B94F-4795-AB01-65A548E5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2E5B9E-78CD-416D-AF60-E563D73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ED74D-5799-4E6E-80DA-0948B757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3D972-3B1D-4ACD-B40F-F06EABC92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56003-13FE-4EDC-B4B5-3B73BA77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D5BDB-3C51-4E3A-8091-C4A43990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9397-2462-4726-9C2E-4332428E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73ADB-5787-41B6-AF08-BA13D582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197E5-F92F-42DD-B21C-88E1C0D5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A5E9-4AF8-4AD1-A982-468CF90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BAC445-300C-4C90-A4C8-3D25CE57F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43A0B-2A50-4421-B663-A7D42C60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F394F-7CDB-408F-9C04-CB6D78F8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38ECE-2CCA-4C52-8629-82A63335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46370-C549-4D01-B0BB-1C875256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AD156-D920-4CB7-A3CA-80A383A5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6DBFE-C2CA-40FA-9FB0-DD246C3F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1D61C8-2B11-4539-BE62-6901C36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D6984-E849-430E-904C-1E8BA089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11E9B-159C-4D5B-AC4E-F63555D1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24DB-5501-48D8-B449-EB057131E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B0EB-DE14-4326-8591-38770405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11EA-8A6D-4AB5-B2D8-31A7DD87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E7CB-F0D2-43A0-8A3B-1594612C2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EDB6-3406-4147-A4FD-6213D2F3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D1F4F3-69FB-4275-A569-8965774C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46513-F3AB-4E04-9FD8-16676545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7B27E-3A7A-4A7E-A499-3CC75B9A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EF1D5-EDE1-46B4-A84E-854C73E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A8BE3-BDF7-449E-A7F7-1BBA75CB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B6CAFB-EFF0-490B-A7D2-0EC39135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C22-E584-4FFC-8B6B-32C46FB3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94F8D-E222-46F2-B595-98843635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A0EF1-B940-49CC-8C26-98C802488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C4AB5D-203E-42BD-9DB5-DC559666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DAB14-C2F5-4F30-9E1F-97F1EDA0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854DB1-2E5E-4A9D-8A3F-CCDB0DEE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F8BF3-21E5-4ABF-AD01-B9795FA5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F03EF3-01EE-4182-886E-A97C5FFB1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80F23A-1C6F-456D-82F3-6747808A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14D13-9BD4-46B4-A307-6891E9F8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737BE-F614-4BA9-9435-FC5283EF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D613-BEFF-43C8-937D-2DCCE1C5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F0EFB-B141-432D-9A40-F811325D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483F-37F1-404B-AB30-670B353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86918-4034-4EA1-8A59-51D90906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F7FB9-F6E9-4C63-8FAF-401A0E6CF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B5F1-0544-4D87-BA95-712C7406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292D8-77A0-4CE5-A30C-4CE04DBD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39A90-952B-4D6E-AE58-8168295B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62350-A851-4824-BAF5-BF71293E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4604F4-D7F9-4469-90D4-3CDDAB1F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0AA29-594F-4D06-AD0E-561ECB70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C886-B266-4546-BF3B-1DF800E1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FA805C-A231-43F2-AC32-358D076C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D8EC7-C2A4-49A6-8BBC-CED54A5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E8DB4-3315-4B08-9847-AB8D12CB0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93866-3C46-461E-86D9-9A81A79B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E6DEF-2FEA-41FC-8C2D-0A0F0490F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019EB-4CE8-40E7-9248-A00E6841A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218AD-4202-402F-9242-748AFBE2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B1AEB-004F-441F-8408-C932BB822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69739-67E5-4C1E-BEB0-13FA8E02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64DD7-DCDB-4325-9558-9C59DBE5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E35-F402-4EDE-B55B-5C76B1D5CF0F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4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grpSp>
        <p:nvGrpSpPr>
          <p:cNvPr id="44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450" name="Straight Connector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1" name="Straight Connector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2" name="Straight Connector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3" name="Group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454" name="Straight Connector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5" name="Straight Connector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6" name="Straight Connector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45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458" name="Straight Connector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59" name="Straight Connector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  <p:sp>
          <p:nvSpPr>
            <p:cNvPr id="460" name="Straight Connector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2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2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C0C5-16B3-4F9F-B879-7BAA9F909926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03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3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3C50-2EC9-4E42-8D2C-E9C65BD1EC0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4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5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55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5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5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0B17-F14B-439A-8860-26F65FBA000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6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597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8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7030a0"/>
              </a:solidFill>
              <a:latin typeface="Franklin Gothic Book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7030a0"/>
              </a:solidFill>
              <a:latin typeface="Franklin Gothic Medium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68C-C27C-4D3C-BD61-4AA9DAD330C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641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64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2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25F6-0B1F-40E2-BF9E-3429C11386B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 type="dt" idx="4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 type="ftr" idx="4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 type="sldNum" idx="4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DE259-8D8B-4D79-AF8E-1A2B4A7E3F1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5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726" name="Straight Connector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72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4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4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4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DAFC-ECEE-4458-AEED-94F82D3F9151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4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50571-B4C0-4023-B667-FF34C2D59C9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5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20A44-6F08-4630-8551-3FA6B4022FC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 type="dt" idx="55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 type="ftr" idx="56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 type="sldNum" idx="57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A850D-7E33-4975-9512-0BE0184F9CB4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663F-0706-44EF-892A-5045C9DDFE6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1d18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271d18"/>
              </a:solidFill>
              <a:latin typeface="Franklin Gothic Medium"/>
            </a:endParaRPr>
          </a:p>
        </p:txBody>
      </p:sp>
      <p:grpSp>
        <p:nvGrpSpPr>
          <p:cNvPr id="5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  <p:grpSp>
        <p:nvGrpSpPr>
          <p:cNvPr id="6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6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f6a5e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3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530F-5645-4080-8CFC-471A4DF3F07E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40000"/>
            </a:gs>
            <a:gs pos="100000">
              <a:srgbClr val="ff2c2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Freeform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6" name="Freeform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 type="sldNum" idx="6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7351D-8AE7-4306-A356-7EA202CAEBA0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CB64-99CA-4239-9AAC-67BE57584A43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0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69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68B6-EC46-418F-85EF-47C75A2671DF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20DE-354D-4F55-95DE-ED3C81566F57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3d0f1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e3d0f1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e3d0f1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e3d0f1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e3d0f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e3d0f1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798b1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9A0B1-6B50-4F24-A953-C564F2CFA4F5}" type="slidenum">
              <a:rPr b="0" lang="en-US" sz="1200" spc="-1" strike="noStrike">
                <a:solidFill>
                  <a:srgbClr val="a798b1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2" name="Freeform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06461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5d9df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c86ef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0bcb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9F1C4-3277-4BE0-A2C9-3595FFF0D9A0}" type="slidenum">
              <a:rPr b="0" lang="en-US" sz="1000" spc="-1" strike="noStrike">
                <a:solidFill>
                  <a:srgbClr val="30bcb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8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F5FE-443F-47C1-A377-FDEEC431541F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038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3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7030a0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4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99ff2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99ff3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5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8C8B3-D01B-49F0-8F6B-1037D9E10594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C026-756D-4B70-8E32-E30376C19D3F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99ff37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4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C5B6-BC86-472E-B357-FB63C808D8ED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9b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800b4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7030a0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7030a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0f6a5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f6a5e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0f6a5e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b43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f6a5e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00b43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55D5-B584-469E-9847-165DD008D2E4}" type="slidenum">
              <a:rPr b="0" lang="en-US" sz="1200" spc="-1" strike="noStrike">
                <a:solidFill>
                  <a:srgbClr val="800b43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186760" cy="2090520"/>
          </a:xfrm>
          <a:prstGeom prst="rect">
            <a:avLst/>
          </a:prstGeom>
          <a:ln w="0">
            <a:noFill/>
          </a:ln>
        </p:spPr>
      </p:pic>
      <p:sp>
        <p:nvSpPr>
          <p:cNvPr id="1104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f6a5e"/>
              </a:solidFill>
              <a:latin typeface="Corbel"/>
            </a:endParaRPr>
          </a:p>
        </p:txBody>
      </p:sp>
      <p:pic>
        <p:nvPicPr>
          <p:cNvPr id="1105" name="Picture 2" descr="http://www.uchsc.edu/vivat/2005/September/images/SOD_91504.jpg"/>
          <p:cNvPicPr/>
          <p:nvPr/>
        </p:nvPicPr>
        <p:blipFill>
          <a:blip r:embed="rId2"/>
          <a:stretch/>
        </p:blipFill>
        <p:spPr>
          <a:xfrm>
            <a:off x="2844720" y="0"/>
            <a:ext cx="3454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learned about Reciprocals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Title 1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110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never knew how to work Xcel and now I know.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1d18"/>
                </a:solidFill>
                <a:latin typeface="Franklin Gothic Book"/>
              </a:rPr>
              <a:t>I learned how to do formulas</a:t>
            </a:r>
            <a:endParaRPr b="0" lang="en-US" sz="3200" spc="-1" strike="noStrike">
              <a:solidFill>
                <a:srgbClr val="271d18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1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I was doing really good but then I was </a:t>
            </a:r>
            <a:r>
              <a:rPr b="0" lang="en-US" sz="2800" spc="-1" strike="noStrike">
                <a:solidFill>
                  <a:srgbClr val="c00000"/>
                </a:solidFill>
                <a:latin typeface="Book Antiqua"/>
              </a:rPr>
              <a:t>slaking</a:t>
            </a:r>
            <a:r>
              <a:rPr b="0" lang="en-US" sz="2800" spc="-1" strike="noStrike">
                <a:solidFill>
                  <a:srgbClr val="e3d0f1"/>
                </a:solidFill>
                <a:latin typeface="Book Antiqua"/>
              </a:rPr>
              <a:t> in my work so I did not get that much done but then after a week I work my best and my </a:t>
            </a:r>
            <a:r>
              <a:rPr b="0" lang="en-US" sz="2800" spc="-1" strike="noStrike">
                <a:solidFill>
                  <a:srgbClr val="ff0000"/>
                </a:solidFill>
                <a:latin typeface="Book Antiqua"/>
              </a:rPr>
              <a:t>knowledge went back up.</a:t>
            </a:r>
            <a:endParaRPr b="0" lang="en-US" sz="2800" spc="-1" strike="noStrike">
              <a:solidFill>
                <a:srgbClr val="e3d0f1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c86ef0"/>
                </a:solidFill>
                <a:latin typeface="Franklin Gothic Book"/>
              </a:rPr>
              <a:t>Decision Making</a:t>
            </a:r>
            <a:endParaRPr b="0" lang="en-US" sz="4600" spc="-1" strike="noStrike">
              <a:solidFill>
                <a:srgbClr val="c86ef0"/>
              </a:solidFill>
              <a:latin typeface="Franklin Gothic Book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006461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I bought stuff that was really </a:t>
            </a: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important</a:t>
            </a:r>
            <a:r>
              <a:rPr b="0" lang="en-US" sz="3000" spc="-1" strike="noStrike">
                <a:solidFill>
                  <a:srgbClr val="c86ef0"/>
                </a:solidFill>
                <a:latin typeface="Arial"/>
              </a:rPr>
              <a:t> like a computer so it can help me with my homework and I also bought a apartment so then I have a place to stay while I am going to college.</a:t>
            </a:r>
            <a:endParaRPr b="0" lang="en-US" sz="3000" spc="-1" strike="noStrike">
              <a:solidFill>
                <a:srgbClr val="c86ef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3T20:48:54Z</dcterms:created>
  <dc:creator>ITSUser</dc:creator>
  <dc:description/>
  <dc:language>en-US</dc:language>
  <cp:lastModifiedBy>ITSUser</cp:lastModifiedBy>
  <dcterms:modified xsi:type="dcterms:W3CDTF">2010-02-17T20:48:16Z</dcterms:modified>
  <cp:revision>8</cp:revision>
  <dc:subject/>
  <dc:title>College Planning Reflection</dc:title>
</cp:coreProperties>
</file>