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5EA-28EF-4360-A029-57F20525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D2E-053E-4F5E-B0D2-548335EC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9A510-B636-43B7-A0B0-99A0CB26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8F8AB-8936-4D7B-8E9D-AA2D2F73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151D9-DFD7-48B4-B686-00E714F3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F4599-9B85-4586-A06C-1FAEE0D9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7DA61-5AB8-40E5-A9CF-BADA2A3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8137F-8BEB-4526-9200-093D4614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EDAEE-FE73-44A2-B2E3-951A9EF0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2AC75-EC0D-4371-BC94-397DE70F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D86F0-A8BD-4180-9B95-C157DD51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FE4A7-8D48-47FD-9A88-BA60F90B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AF7-FB9A-490B-954C-69C184C7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AC612-5F78-48A1-BC03-2A26C740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C2DA4-47B2-41F8-93EA-874D647B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A2016-2EFD-4373-BBB7-B6C6DCD9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259E1-24BF-4BB5-8349-1D9FE721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F32E5-8306-482D-BAEB-C7182B16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D1371-807E-4DE6-A536-0C76160E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76E75-164E-49F2-A0D2-EFC4C81C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BE973-751B-49C6-A509-5350B1C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22A15-F4AE-415F-996B-3DEAE5CA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3C334-FC3E-43C7-87E5-AD5ECDD3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BB7-F27F-4E04-A1BD-B10CC48C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A9F48-FB8D-48FF-A760-0D07991E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8B195-1E12-4199-8494-7D49CC0E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780A9-E85A-4093-AF5D-F77DC584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A5FC2-8082-47BA-A089-28426D46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697D6-3C96-4338-85FC-DF83E71F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F655D-260E-4FC8-81E7-9CE851E1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67B0D-47E2-468E-8A3F-5711A512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12A57-2ED3-4CA3-A93A-72A78C3C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F45CA-856B-420B-A3CF-CCFD8251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7ECC3-3C9B-424C-B9C3-FDF52F46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CB70-629A-43EA-A366-CBD7ABD6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CA51B-394A-4DE3-9A6C-CF851C50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45B12-6197-447E-A6C7-66388E53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DA084-5188-4ADA-9C6A-76AD47D3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45C70-FEDC-4CA2-900F-B60EEE17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42718-9B11-434C-A74E-851699D3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30948-284E-4239-AF64-8F4F1455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3EB01-4CFE-4B6E-971C-58360570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F087D-5F78-45D9-B804-B1AB23B4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DE240-B188-47FB-AA8C-5CC4DE65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82798-33E3-4024-BD36-AEECCF7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977C-5C6D-4660-8872-A8FFC976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2A35D-0A40-44D6-BAB6-78F88A5C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DD514-E68C-49E4-B6EC-B453CAC7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0CD69-BA36-4359-BD05-04C9EEAF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6F515-55AF-4E8E-A51F-9501A8E7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15ED5-AC41-4FF6-8617-B4B5B052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5169D-DCDF-4FC6-95F5-AF7799BB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63CDE-BA49-4093-B7AE-E942AD27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C847E-1ED2-453F-A87D-6C1BB330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2CF1E-25DB-4333-96E8-B2825981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F485A-1AED-415A-9A8D-E9EA98F5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CD24-8979-43CA-989F-ED8E11F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22D0D-F7AA-4CED-9E92-9E2D9F62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BEE9B-0ABF-4131-A6CB-D4E558B1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AAB94-2D1C-47FC-8CF1-F1DB0A8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5FE78-A498-4BF2-8AF9-9A3D0A20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8811F-01F0-41E8-8942-98676095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99FF6-E64B-4E2E-8F03-920B34AA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3C4B1-31AE-456E-B265-3EDBB7D0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F9846-4291-45A4-B52E-FC27E3A6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3E3B4-61AB-447F-BF83-5C2C4F3B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1E5A6-D24B-425D-B267-1F1D0DDD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0DE4-7BC9-424C-8B87-FEB57C89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C2E65-013D-4619-A401-1920FFC1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7BC60-6EB7-4770-A04E-B62BFE03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A6313-03A7-49C7-B48A-8A8BB646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CAC94-8697-4DF3-99D9-B8562363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2C394-F1E6-48A1-A0EC-0BF2482E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72617-35F2-40DD-BCE8-220656F4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772DA-8D2D-425B-9392-66C96859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E794F-EFC1-43BE-8FB0-19C7444D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453D9-8783-4630-A465-B1A9E070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DE971-0532-4171-A1AE-55F539E3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0DE3-D670-43B7-9080-03DCAE63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14F56-C68B-4B1B-B950-F3D0F453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D1E51B-1E29-430A-ACB5-148F727D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3C017-5A14-4C23-B7EC-10A16336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ED9EE-499C-4426-95E9-4C215F12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F61FC-DC2D-477E-86E3-0D2BABC9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5B983-3658-4CCD-B449-F2ABD2C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D61FB8-45E4-40B4-A7D2-34F5D851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92EAE-6F3D-4FA6-8B29-3F5CBCA5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CFC57-71DA-4453-AC57-200D0866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07A8A-22C4-41CB-BF71-13DC60AE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98F1-5901-4F15-B9EB-C7609E46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12CCC-D464-4E83-9D0D-BD3249F1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394D7-4267-4E54-B928-4013A73D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57590-B728-4885-B23A-79CBB5E2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20494-558D-4EDD-851D-9F124AE4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7CAAB-BB15-414B-951E-8614D5D7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8805C-0227-4870-A6F7-9F6122F2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3A7E25-9DA2-4953-875C-8DC40B39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7E559-0731-4358-BEB3-B105B09E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077F6-A8E9-4151-9C79-556CFC39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B8342-6887-4B5F-8E3E-F966DDBA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022A-DC24-4F3A-9796-D5A63C8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A1C94-33B9-44B3-9E7C-99280701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ACBE3-F5B3-417F-9D3E-C113A938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B88CD-DBB6-45ED-9DE8-94702A5C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87378-AA36-420C-B3BF-90806EDC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85EAC8-05EF-479D-B94D-F8E3EE11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41EB8-94F2-4107-8829-C218F325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21B1B-6B3B-45D8-A957-5C62393F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E4204-5158-4574-8677-3581DE4D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872DA-B4A2-4FB6-ADBF-8ACC6C9D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7D191-D408-419C-AA8D-4DC43B23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77D-51DF-4CB8-8600-A14308B7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42A8-B6A1-45CD-A838-788F420C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ED4661-5859-43C4-B0A2-5C06E09C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7B1114-8EA0-460E-B526-25DB95FB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DDDB6-D6E4-4B28-9436-97078ED0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82074A-5538-4C58-B872-27704E33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734C7-CEF1-48E0-901E-8FB5A0CC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E5D0E-B5C7-442E-873B-B936A7F6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388F41-23DC-4BB3-A1BF-A3D29351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A23F3-E713-485F-A368-80882818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6202E1-F10C-4FBD-B623-D1F9D3F6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E3B787-F2CD-40CA-BCF7-62988C96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433D-A962-41A6-9B24-DE28A908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FB868-AA1E-4790-BF67-D31FFBF4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250E16-63C6-44AB-8DFF-9D390853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F6B07-93D0-428C-947F-E956A32F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99B369-933D-4285-95A3-0E18A404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9A2998-2746-42D0-A373-0EF812AF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6428B-1146-4ABA-80AB-3E27EAC2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79CF9-8013-4410-B2EF-1AD445AD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803ADD-7354-42EA-9A64-6AF2E313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B5F7C6-8A4D-4D01-9E9C-7D4D61E2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A1CC1-8004-486C-8A37-30E356D7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0600-514E-4C2F-91A8-1B76D152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F6E298-811F-4F34-990E-9890084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8CF50-65F9-49DD-AD91-93F55FA0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DFB40-A968-479A-84EA-6E336440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2BCC47-7612-4922-B87D-EB833A3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E5288-EDF4-4D15-8749-EAC5E6A4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C0399-4EE5-4B2C-8816-DABA7F30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FF269-ADCB-4EA0-A6CD-EC02BD24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D45769-FE4A-4A18-B66D-D1B8017B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136D1-8212-4F4D-9352-1D5DF6EB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820AE-EAA0-470B-90ED-6FB26B01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DED6-4170-4E81-A5B8-AE5B2B57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4C82D-5887-4AB7-8864-41E6BEBE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D14A54-D850-4882-8F62-1075B0E8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306750-44FE-49FA-BB7B-EE54AB8D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22C35-0FC0-4B77-BF05-A637719E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C4193B-516E-452B-8089-B86EECC5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BFE50B-A0C2-40DD-A9D3-40CE37BE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6DB2BA-1710-460E-96B0-A110F38F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F50A6-61A3-4E7A-95D7-BACA290B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EB7412-2E97-44D4-B6E9-5281D397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52A6B-9B1F-4963-825B-C1059BA8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EB36-6C77-4682-A785-D9D849DC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602999-DE0D-425E-90C5-1825E8FD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696395-511C-45E5-8A04-16C0892F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AC583F-2323-4BE1-ACD1-79CF0843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FEEA9-A139-4FA9-8E59-1587B440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7D01FC-42FD-4263-8451-F90D2D42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44BBC5-97DA-4627-ABD7-76CAD45E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2383EA-AF3F-4A3C-A65A-9C2AD97B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B370B-A071-4BC4-8A0B-52924EFA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8842C9-C2A0-428A-B262-4E622D41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2A2649-FD48-4C12-8D3C-47A0E476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04B5D-5808-4695-852F-CDDFD8CB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F1EF6-3954-4C85-838C-203B5F59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6CED1-ED5B-4EF0-9FAE-84A03E80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FC410-801F-44A3-A6AB-96FB8717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A6755E-EFBC-4603-98CB-8FB2FC22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71A60D-ED27-4A93-8E5B-DE3297CA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0CB9E6-4CE6-4B86-A59C-7E61A7D4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18CD2E-61F9-4F3B-B8F8-A77DF1F6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B410B2-27F7-4A16-9D23-DC518FB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F0939F-76B2-400C-944D-5A0297BD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14B959-FC7A-4850-BFC1-2D86822F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1CE9-9815-46C7-9DFA-4D800BDC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0A24D6-8E51-4844-8EB2-44A2C90B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3A4C10-71AC-4BC3-8C08-4B7298BC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2A1B80-EE89-4DFC-84F1-4108E590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751E2E-15FC-4B94-B352-E7E87A46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FB3DA8-08E1-4211-9452-AA93FD4E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57F11F-AEE7-440D-9642-E8B9CBBD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B09D5F-B59C-4F72-AA25-34BBB63E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582EEF-4E5F-4B27-9663-4B27DE33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7AFAD3-9999-441C-AEA8-CDDE7FAB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6ECAC0-6AFC-4310-B689-9E0BC7B6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44C8-FB55-43AC-A195-EF8DF768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A02408-D5DE-4ADE-B4D2-6BC78765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4F7F19-77DE-4BBA-BD7D-B2538DDF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E2A3CA-44C5-4398-AA9C-F7C40758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CEBC09-D471-4D31-9F81-E677D1FE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2BF7EB-057B-4C1E-A39A-E05AF650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3A429A-C799-45E7-93BF-A4962834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A95B7C-7D0B-45F4-B4F9-E3985720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77B81A-91BE-4204-BDFE-F7AB5274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C1FDFD-42B4-46BC-9B44-ED549633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487F33-C738-4191-9248-FE548ED7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BC80-A8CC-4B34-81F1-40FD60E1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1F7823-2529-4F7C-A53B-40731FFC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62DCC4-10D3-4B62-9B62-DC6E2D78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8A1CE6-3937-4A58-9848-98C90DA6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59B3AB-BA3F-45EB-9856-5C79258E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40FD45-6C47-482A-BE7A-D64B811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9722EF-8B2A-46D5-9F03-B1133F38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30BAAE-4D5C-4A23-AB17-63CF11E5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238197-0B7E-4C0C-AA71-89363C47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6E9347-E96F-4A57-9AC8-2B1CA0B2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5FC4-B042-4836-ACF2-DB8B266B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9A3-C7A3-42BE-BF01-8A612D94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1366-E65E-4E16-94B5-C349DF81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053B5-4C84-46C9-AFDC-4EFFED0A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6BD18-1CE8-4732-A7C4-EE82A0AE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645B-D5A4-4699-A3B2-31F0ED6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66DE-3593-4947-A9F9-E1D79F18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DE37-E64B-4B7D-964B-E2A1B58E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F78A-26FC-4233-ADA2-06271831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B589-9F9B-4E80-AAFD-5AC780BF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6722-E468-4A01-88A3-4EEA75EA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9701C-07E8-4DDE-B2A3-9F690BE2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5B0-8365-4E6D-BA94-D271E5E8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C86A-8C42-47B6-AE53-40069B2A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FEAEE-B7AF-42D4-B304-6AB01687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B69F-D7A6-4C7D-83E2-9B323823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8C07-4EBA-47F2-92FD-7BFB8DE9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E0203-2E0E-48F5-9FF6-82E8D404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BB98A-FC00-47A6-A376-51E3B2DD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1A6F-553B-443D-912F-FF1ECDA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5232-61E9-4059-AF1E-4D09ACFA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EDC9-F8FD-4D38-940A-D1B1CD9E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96249-97A0-4B29-9E5C-A5A1ABCC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A34-ED1B-459C-BA68-A9840FC5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3721D-5A37-466F-B68C-59BFDAE8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0ED9-4BB0-438A-9062-45D5CC25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A33F3-731A-4632-8C47-6BD83410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3CFF7-7E0C-4646-88B8-AF0A9CBC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D3A9B-722B-46D0-A9C0-C948A1CD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D276A-25A6-4226-8037-FF240CC8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74603-9CCA-472D-8DEE-4359FED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FD650-A90E-41A7-80E8-AEF6FF15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6BCF1-C19E-4963-83CF-FB4AFCD1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D73E7-9A48-4B15-B721-716F0217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389-7768-4CEF-8C25-A7ECADFA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2652C-CC00-407C-9843-0B0BCE30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7768F-BFFB-4792-8B66-470BDF6C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52E4A-8326-46BD-807A-92C0749B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E8687-85A6-4EEB-9D0A-F44042D0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CF5AE-4D12-40BF-959D-7A6F2153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5CF3C-52E7-45F6-B4C9-4323310E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F4C63-39AD-4EC5-ACA7-D8B60D4E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3CC1-2DE7-49C8-9D29-0C143640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64287-09CF-4787-8122-894BBA5D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D416B-7CA1-40BD-B842-89F57BB1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E1E-13AD-43E5-9C09-C6136258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0F3F7-4560-46B0-853F-81F698E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23874-D067-4F7F-A64D-35677CF0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2A6EF-E5D6-4DDA-ADB8-071999C6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2E24A-C6F0-4C41-8A91-500D1AE7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5B52F-9957-4FAF-8B95-9A30B243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EEE4E-13CA-4D7C-B995-5BAEF6EC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81662-2A36-4ED6-BC85-479741F3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D4EE7-BA75-41FA-9030-201E430F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35879-D4CE-4603-925C-3FE9F872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1F247-2DA2-4924-8D45-104221D0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7DA-A0BC-481B-8F3C-448E760C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0C01D-9EE3-4F46-A6AE-71C79171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77DE1-210F-4263-9783-001DFDA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B9BED-8C74-4DE6-90AC-E3AF9881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F8B70-D6F4-428A-8E1D-63E46974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33A76-74A9-48D0-9914-9909843E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FCFD9-C58D-486E-87C5-F21BF0F9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2352D-23F0-4EA1-9C72-DEEE0D1B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83F2A-D0C6-47C4-BD21-A72E6DAD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C8F27-1D00-4FA1-AD57-B7492CF0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3A078-CB23-48DD-BA1A-D5ED6FDC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E1A-3FC3-45BC-8195-4E0433A8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E702A-C5CD-438B-9191-3CE4D971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12FAC-66A8-4DCF-B239-8FA5198C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7E59C-F6E7-45CA-8319-85174176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648AD-E6D8-4B56-8311-6ABEBA2D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E8201-6449-4C60-AA9F-4E582F8A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50CF5-7FB3-4BC1-B547-A63DD60E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6493D-AFDF-41C5-AF66-F0AC8E27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4EC77-8318-42F2-8715-AAE88DF0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B0D84-59AF-4278-9187-9100E31E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165B2-11CE-4B63-BBF7-75B76900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D777-F011-492F-B61C-3C81C5B11129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8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grpSp>
        <p:nvGrpSpPr>
          <p:cNvPr id="449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0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1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2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4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5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6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7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58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9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60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1E8A-29FE-410C-9E60-968419593574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03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115A-7406-4150-B353-D1AFC310A5E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4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5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8851-8D8A-40F8-BC21-AFEBC82D4C8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9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Franklin Gothic Medium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4BB1-B57E-44F0-8FF7-1E7A05B222A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64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F091-5604-46F1-AF88-831A23D03E2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CD13-E597-478C-9C72-9D0DED57AB9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72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25DB-1F49-4B36-98FB-2A6E4BCC2D3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E0CF-EE82-4ECD-8DAE-8D70142D647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A75D-A946-48D5-9807-038B9E60DD9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D924-A954-450B-9B5C-E79BAE844116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3CAB-97CD-4522-862D-492E47DDF55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grpSp>
        <p:nvGrpSpPr>
          <p:cNvPr id="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3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6007-0BDF-48BF-816D-7963348B6AC0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23F-E7FE-4BF1-A005-8B5FE7FE3661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0CE5-E116-4F6B-850D-AEF19CB39275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C85D-1669-4F21-8C2F-800BCA2F5326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5F71-9553-468B-8461-72FEF3122B67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8463-44A4-4B19-BA79-599F77960FA3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8CF9-2790-4D25-A373-6B3C81011F75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845E-B598-4CF2-B523-DAEEC034EBC7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3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4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5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9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0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1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2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3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4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5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6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7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033E-3E72-4141-9A18-2708A10344D7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8A39-6339-4DD7-AF78-3C0FB15FC09C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2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5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088D-E086-4449-A961-1EDD0B749998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4743-CF9E-4207-A923-69F52176CC25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</p:txBody>
      </p:sp>
      <p:pic>
        <p:nvPicPr>
          <p:cNvPr id="1105" name="Picture 2" descr="http://www.uchsc.edu/vivat/2005/September/images/SOD_91504.jpg"/>
          <p:cNvPicPr/>
          <p:nvPr/>
        </p:nvPicPr>
        <p:blipFill>
          <a:blip r:embed="rId2"/>
          <a:stretch/>
        </p:blipFill>
        <p:spPr>
          <a:xfrm>
            <a:off x="2844720" y="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learned about Reciprocals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never knew how to work Xcel and now I know.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learned how to do formulas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was doing really good but then I was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slaking</a:t>
            </a: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 in my work so I did not get that much done but then after a week I work my best and my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knowledge went back up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Decision Making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I bought stuff that was really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 like a computer so it can help me with my homework and I also bought a apartment so then I have a place to stay while I am going to college.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54Z</dcterms:created>
  <dc:creator>ITSUser</dc:creator>
  <dc:description/>
  <dc:language>en-US</dc:language>
  <cp:lastModifiedBy>ITSUser</cp:lastModifiedBy>
  <dcterms:modified xsi:type="dcterms:W3CDTF">2010-02-17T20:48:16Z</dcterms:modified>
  <cp:revision>8</cp:revision>
  <dc:subject/>
  <dc:title>College Planning Reflection</dc:title>
</cp:coreProperties>
</file>