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20BC-4AD8-43FC-AE3A-DEF42F1C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986A-E9E8-4BEC-BE8A-54EE6F64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336F68-8AEA-4B06-BB60-EC414A248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0E250-FB5A-41ED-AC64-D2D044C8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5AE62-6CDF-4D8B-BFC0-0F378A90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0E2C3-EBA8-431A-AEEA-8F70D1B2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2E464-F370-428E-B10F-8B3DE9B8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D5B358-EAD0-476A-821B-14BEECB8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7E76C-1DA3-4446-86E1-923ED58D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FB29A-B160-43C8-A2E2-61C9DC0F2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3D8B2-5136-4203-8364-1520B98B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E5BFA-7B43-4D6C-B800-31E69A60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BAE-3772-413A-8D50-32CD474E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4BEFCC-F56F-42C5-A45B-140290DA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23C4A6-7A1F-4E43-8A5C-2BE544B2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72582-AB38-4C2D-9304-335D4626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1CFB9-75B9-483A-B420-FEA6970D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056FBB-5959-4747-A388-161C985C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3A069-6A98-4A20-BD65-10538B3E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CA0C6-5422-41E7-956B-339EE845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226DB0-79D4-4E22-879F-F3DE050B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D41C1C-5539-4636-8DA0-810D0A68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D1234D-7DDB-4A0D-91C4-FEE2C159F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5924-CCD6-4161-AE09-9A8BEA1DD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1E4DF-54FD-48F8-BF76-430BEB60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D8DE64-91D0-4440-8277-77CC98DB2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785BD-2992-49B0-9C6B-AF67154CC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8F5F8-3498-406E-AE81-A64E0A64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C21CC-3A8F-4BFA-83B7-DB924F32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66DBE-A926-450D-B213-5688B79D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1753C7-EE85-4871-8C9E-81F1105C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1E21B-AA1B-4CDD-B041-DACAD222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054B4-AF52-4932-BE5F-18FD79B8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3402A7-A2B9-4B9E-9569-8AC8426A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FFC9A-4BCE-405F-86AF-EAB0B3E3B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CD5361-0BCE-460C-8F9E-E70096AB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AE09B4-2ACC-4D6A-9B0C-4AF4A685E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0E690-D885-46E2-895B-6C672972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B89C78-5A5A-4D6E-9E0D-670035BE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AA2993-E514-4C60-B440-EAF49899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D886AB-A34F-4B87-A1B2-0E9FD61A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BB2673-F53F-4F9F-90A8-8CFE471B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5A08D8-BF2D-4D16-8FB8-38A5E840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7B3EA8-7451-4564-AAFF-F1468419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263826-743B-4109-BC76-EC3E7F91E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27B4-C460-46C0-80BA-DCCD00880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08054D-1D65-4FA4-B7DB-C1C99A9E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2487F-53BE-4FF4-987A-A50B601A0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B23F0B-871A-44A2-8E5E-F81E755A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C251E-FE54-46EA-AB59-51ACC15B2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DF7AB-EF71-4BCB-BF8D-A612F123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FDA647-20F8-44B1-A0FD-495A7C9EB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0B0E6-53B5-456B-8362-AECE8A23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967953-3291-482C-AB7C-C51FD161C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9ECF71-3AD4-476C-8A07-0A696DC6A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FBB5E6-E2EA-486A-B4DB-A73B6886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9F5B-BF5E-4ECE-88EA-829AC7485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8E799E-0D3E-444E-A48F-D59851AE8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B2CB86-B659-41C8-9643-B87C6F1B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36E0D-53B0-4D43-B9FA-877C80C1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F96B4-C33B-45E5-949E-445430CA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A991D4-4936-4163-8CDC-0F6E5D7E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96DEA3-AE35-4F42-AF85-BDF28665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208FA-2491-4280-A8AB-D2DDEA8CA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499226-F00C-44CE-B353-290ED11C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1880B9-AA3C-4C03-82FD-7FBFEA9B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F8EB53-373C-49A4-B283-2F50A7AC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4999C-D9D9-423D-AE3B-27B35C55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7CF0CE-7292-4174-90DD-ABF7380E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98F5C-BAD1-4F43-910C-C0839F4F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8D0E20-3123-45A4-8CCD-DEB0CC7CC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174B8C-EAED-4340-B996-08E286D3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922B87-8F61-43AD-8C1C-D0973712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F08CF6-663D-44E4-9B5A-995A2D22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F2DA77-E8E4-42D3-9CD1-127958AB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12A4C2-244E-4C7E-9939-FED1BE776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13885F-CD75-493B-AA02-534FD175B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E00F1D-B773-478F-B099-B46ACD28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0054F-B3EA-4CE9-B534-0A922C40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E814E4-EEB2-4298-AC11-08F9EE050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4CCDEB-C145-4E6F-84C8-A1598441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C292A-283B-4BEE-95B8-3F88AA9E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00C1AB-B232-49EA-B9F0-02E2DE61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70A271-F73B-4D3C-819C-BCBFE389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54D46F-3DE0-4359-A3C2-64B3E55B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C9175F-75D5-42E7-B01A-22F44A31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BBE278-7903-4595-955F-664FB4BA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B38B42-BE22-4A27-9205-9BBB255B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ACEC72-D2ED-47A4-8AA0-1FAD393F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2917-C149-4A5A-A2CC-697BED48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CA8FA6-0431-423B-A092-584C5A70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853691-4E31-42BC-93AF-9D7342B16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149CAA-EC7D-4DD5-BA39-D6D3B36E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B7A2FE-EACB-4F19-9C37-F1902E90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8A37D9-293F-40FC-A5DD-FD4820A2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292CD-6520-4F1C-9E11-60C62819E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67FADB-7CAD-4D58-8320-190952FD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40CFB6-4163-4CA0-90DF-59875CCD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87F514-405C-41E3-B360-A92D1F3B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69531A-2B07-4CDA-9C6F-493A591D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6896-1A3A-460B-B7AD-9A7B1E82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E94128-D181-4834-BB41-ABB8BA0C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E53136-7B9C-44B4-8A9A-F6CEE5026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686EFC-5B65-44AD-8053-B5C4060BF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21E8AE-1D51-4EEA-92D2-7170BD663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5C4100-C3B6-4649-8DF5-36170BA0D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0791E4-B640-44D1-A462-DF43BBDBA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F3A247-37C7-4249-97EC-EBE0B1B8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ECC71B-7861-4ABD-8BF3-32DB6503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A74186-6FD6-4F12-A16E-07E911E9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D89832-0304-430E-922F-8EC6C3FB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FA7B-B856-4829-BB7A-A8A3788C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8AB6-A354-46FB-945B-CD5A3975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6B938C-076D-4577-BD7C-29E9E5A0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8512FF-12D1-4CAE-8630-8B8B6668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BC3445-F628-4034-99DA-9083DB60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C7BE97-BC8F-4B54-8E20-7DB8025D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871CB2-D3E9-4444-BB15-D2C216236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FF704F-7DB1-4CE1-9ED3-01DB7FFD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6C77FA-C371-49FA-961B-D9F08963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11BC21-5AA1-427E-9124-C2F18338B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E7249E-90C2-4E70-B68A-1DC30DD2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C56E59-051E-4ED8-9085-7382B15B7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D424F-5A70-4295-9E99-65C3568D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051598-70FB-4DF7-B3CF-8D279B00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E573C9-0939-4580-8555-B88123BB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7B7978-9AF4-46BE-88A5-3378C660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04F532-A110-4C9A-AAB4-8EB8F366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E2BF92-E4C9-4F67-9FB5-ACD3C71F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5F654C-B2DC-478A-973B-4AE127D99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B09A1B-8FB0-4AD3-8CD7-B6D78C6C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E8EBB2-5999-44F7-B9FD-A19BD312F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587096-B2FD-4504-A8D0-F5810BDCB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1CFF09-A9D7-444A-9F71-30CCFC248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BFB83-89D2-4B98-AF7C-C5EABD81D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53CA2E-D1B5-4F30-BB88-C54E4331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891A3B-D138-4609-BEEE-F8AF9BB0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2EAB1A-A4EB-41E6-B74C-F47601D1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1CFC0C-5CE9-4D27-BA72-C90067AE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5F19D1-CF00-49E8-A9DB-19882938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5C3BD8-8C6A-4FAF-BF91-EB73D350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D90D73-C0CB-4124-8B21-70D34AAB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B63652-A677-439C-B390-AB514609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E73280-781F-4FFC-8BE6-2EF0A3F4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B5A21F-A61C-47D8-AFF2-850A72969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1602-C0C9-447F-B391-7DC68F78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329233-A597-4F0F-865A-D3E1E4B7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B36F5A-D2B3-49C3-A697-5D207172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C25D1D-A60A-4A18-99C6-46C47BD6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AB8E80-1E9B-45A3-92F7-B6F665D8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2F0D648-D462-497E-92D0-B05E9BC8E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2BFB6E-3E9B-4C99-8F74-D874005AB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B55BF44-626C-4C8C-AA52-4AF478E6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678ECA-A9A6-4F95-B97F-DF78D720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091FE4-193D-4226-A9A9-65C5A6BB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D532A1-07A3-47A6-B9BE-8F7C9DAA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673E-9CCB-48C3-9078-572CA599A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247EEC-09F8-40D5-B4C1-D4418F1C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7A5B35-C1B8-458F-870C-63B2EF06A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9BEEA04-20AA-4F60-91FE-9DD58304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65BB68-2FEB-4D7C-BDC8-F40D8995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C87C55-9134-4E6A-A4A2-A652FC65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C0BBF7-D489-4F2F-A4C6-4FDD93225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3068A8-52E5-4128-B5D0-F4F86A5F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F07325-3FB6-4AAA-9E4D-337F1DFB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342158-5487-43A6-B87F-1DDA2415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EC889A-E13E-42F6-BF75-DC18D20E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1C65F-C949-490A-A522-2E28988B5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3C82A5-BC25-4756-ABA2-2EA0ACFC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E9E8C0-54D1-4BCD-9E3A-D766956EC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D37B85-960C-4B99-A04D-DE372B50F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32B4DC-5B51-4039-B091-E57E0933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BB5AE3-8A75-455F-A5A6-F360574E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3184038-EC79-455F-AF15-FFBE13BA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759A0A-F539-45B9-B257-40A66097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8FC29B-792F-4095-8217-B06CA588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7ACA5C-943D-4F0C-B20F-24C13761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972E0F-3C44-4A37-B2F1-DA2B3407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3C0EF-2999-4415-8BA8-E0B9BEC0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961A84-18FC-41B0-92A4-71737EBAB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0A1AB5-CFDD-405C-A3F0-269A6178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D2FDA8-D981-45C4-8C7D-B3B94401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89B274-2287-45BF-A470-3B090421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81090E-544D-46F1-AF45-AC1E5D752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2408A2-2918-475C-818F-73997141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4D92BBB-E24E-4D96-82F5-A65141E1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20BE0E-39CD-4299-B25E-B47451CDA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D5FB84-067D-43D3-A53A-97F99607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84C321-17C3-4CD8-9A7D-5559CFBD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7DD23-9BB7-43F5-B4AD-B5730C1D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F84549-CD24-444A-92E1-C730C862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40AA2B-D24C-4CA0-979A-02C1C313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269D07-BD4C-4F6B-A9C3-41385AE5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F089EC-FEE0-430F-8A25-55A8DD44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90C298-EAA3-4D06-A3AA-EC23D3BB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04D8FDC-6AAC-4A92-A214-55341B5D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A2B0A6-72EF-418E-99BB-F557520E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BD62E7-6BA9-4D5A-9990-2FEF73D0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3F8470-5033-48A3-8455-E5428BCA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185E6C-AA2D-460E-AD34-EB18CCA1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49E5E-4010-404C-991D-FA9252FA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99F401-BAE6-4B10-968C-370CF942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DD3C00-68BF-40D8-91B9-D38F0E77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2A5FC9F-A2C8-432E-AB22-42BCE782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E3F4218-F37E-49FB-88AC-43D18CF9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0C1FF9-1B4C-44FC-9B6A-00F0A7609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982082-FDB3-4EC4-ACCF-CAA07C14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F2F933-18BE-44DC-9BDE-5F8ECDC60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906CE6-92F4-4068-9F3E-4D2FA0E3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E7E440-860A-407E-8A49-D3A8ABAEC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29180-3C82-46FB-A3C0-75A3364F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6AB5-CED8-4F6D-A813-53F832AC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5FE48-4B55-4854-A0D1-BFF04DDA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929DC-2808-455B-B6F5-E187F557C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8538B-5333-49AC-B45F-A72843B3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3525A-CCC7-429D-8D41-7CE36534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8DF19-471E-48FE-B5EB-16B8234F3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F4C2E-3480-480B-A448-B31EBD2B2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86079-DC91-4400-9092-16198FDA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AF9AC-D454-4E00-8465-3D22A2FA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9C5C3-44A3-4D95-9E2D-59D6E850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38350-299B-4E09-8F63-04326E58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3CBB-5B90-4062-A958-E40FB716B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60269-CF25-4A7B-A6FA-F7AB5638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908B0-6D7E-48F0-A2C3-7F1FF16C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0544D-E1E0-4190-96A1-09B063E2D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EE018-DF69-4682-AAC8-368D0733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DC3B6-6F8B-4065-AE0E-18F007DD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4249D-6322-4BC6-BF02-E2F2DF23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694DD-CD98-43A0-B4BC-8EA6D92AF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CF8A4-15E1-484F-BE41-BC8D2276F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3C786-DE9F-473C-964D-416045EC6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C03D5-DB59-4FCE-A613-652B8BD3B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4CAF-A2FF-4D80-96CE-5E714FEF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7B25C-E229-4156-A604-45080F9E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15C11-118A-43B3-9C41-C1C3EA47A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A1E63-4B68-445A-B24A-F1B038CA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1BB5E-F952-4019-A11B-F3E42CCAD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78641-06E1-46DD-84C9-E002755A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889FF-C8A5-49B7-BD96-8CE9048A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4301E-95BA-4BD1-8C31-BBE86000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14D2D-6DE5-4F57-928E-99F2E21C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CB259-0FC8-4C55-A27E-069A25F8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DD6A9-886A-42E5-902F-E6192951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73AD-1B18-4BED-8124-C07635DFF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0F259-74AB-4842-80EA-E77078D77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E84168-D505-44F0-9D07-13DB01B2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82DB4F-C372-4A88-951E-DE588B42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6B943-1468-4265-B006-837682AF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5D6D2-AFF1-4BD5-98E2-BFD68B8FA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329F6-0BCC-4EDD-AB6F-46EE7A978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40308E-353F-4AEA-A699-FC1FF68C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F8DFE-D10D-4AC2-9893-BEA695430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BF8CDE-695B-40A4-8CCE-D036CA8F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48C7B5-583E-4D8D-AF1A-131F31F03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FCFB-7866-475D-B729-E5B41FC9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F07DA-D699-456A-9969-68E43464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89E83-0073-42C1-B5E9-D5F03AB3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BBA91-746A-46D9-B21F-7AB1F8BFD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3D86F-498A-4951-A1F8-86F4E1854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59CB0-394F-4B64-9A97-74382A24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32136-95C2-4E78-841B-580FB058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215EA-05ED-407B-AD9D-C5D89F9B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A8C5D-3F64-467E-83D3-062967BB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C3183-E797-4E92-81C7-FA7F43C0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F9786B-D5FF-4B55-8694-D71A7FA8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E398-B128-4310-88B9-31BB8DF3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6F26F-5BE9-476B-AABF-FD1B789D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4D53A-4576-4E58-BB6A-36B7B7B1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26C2C-A36E-4E24-9200-76CA68EB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EC950-6FBF-4F75-AC83-9EE40D48D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3F44D2-68BE-473D-89B4-3F422357A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A7069-7FBE-45DC-A2E2-3384795B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A2C7B-8D96-4D38-8238-680C752B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DF557-EC18-4A17-A6B8-F568E7CC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E2C2B-C2CD-4D9C-8991-B51404F6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36798-F0E9-4E33-BD44-341FD616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4925-DCC2-42E4-937B-B32C8456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77B56-0D55-4D82-9573-AE78A219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65E45-20DF-48CD-A61E-B83849FF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A30DE9-98E0-49BB-8B1E-070C54478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2269F-4BED-4BC7-9F1B-DB9A57CB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1A8867-FFA1-4713-8358-0D82B35E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B9AF23-FD98-4F5F-B29F-43B73248A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3BF9C-1DB0-4B7D-AAC7-3F4E49A99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4CF47-A33D-471D-9106-237FDC52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291CE-C395-4213-A8D1-C01356D90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607DC-B259-4310-898E-DEBCC9BF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8A5A-FA9B-4E39-872B-326084C0038D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7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8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grpSp>
        <p:nvGrpSpPr>
          <p:cNvPr id="449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450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1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2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453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454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5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6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457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458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9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60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B7C3-DF43-40B2-9A97-CF091ED75912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03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087C-565E-4A4C-AEDD-80915E6A57C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7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54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5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55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5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3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3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D5F8-C502-47CF-84C8-9D3B72454B4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97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Franklin Gothic Medium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E966-0042-4218-AFA7-3B6D17EF00B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64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C467-E196-48E2-B430-53C39917416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B669-EDC9-49DC-A61E-E4E30111E01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726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E539D-AE3A-497F-BF0A-AEAC68D68BA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6AF89-A498-4F63-9E39-B24012DC613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2FEE4-4F24-4129-B763-1B42A66C496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0f1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e3d0f1"/>
              </a:solidFill>
              <a:latin typeface="Lucida San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e3d0f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e3d0f1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e3d0f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5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5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C123-302D-4D68-8251-BB1916EEE0C8}" type="slidenum"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3358-8C84-43FB-A8F2-8FE9FB0B4EBB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grpSp>
        <p:nvGrpSpPr>
          <p:cNvPr id="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0000"/>
            </a:gs>
            <a:gs pos="100000">
              <a:srgbClr val="ff2c2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3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5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5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6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2C43F-963F-4472-BDF6-EDE6B792D6DE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0000"/>
            </a:gs>
            <a:gs pos="100000">
              <a:srgbClr val="ff2c2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36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6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6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6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05D1-8734-419F-A3AD-5124E4DB8806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6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6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A1092-FB6F-4FBB-919C-1BD61C2B91ED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0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8CD48-D0F9-4DFC-9D50-9E4AA3102F8B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7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7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7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CCBC-2B49-46ED-952C-347F0D59560E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0f1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e3d0f1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e3d0f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e3d0f1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e3d0f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5A93-5DF9-48A4-9727-C211D88D6F9E}" type="slidenum"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2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9A5E-5747-4C99-B4C3-E62997F76871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2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93D1-8C2C-4AA1-927A-63D95F90713F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3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7030a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4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7030a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5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99ff3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7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8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9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0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1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2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3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4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5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6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7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99ff3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8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99ff3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0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3EF0-70F9-4C05-8E8C-99E910117361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159D-965C-4C18-9E0A-28D5D72696EC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99ff3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0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1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2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3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4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5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5912-EFFD-48BE-BD16-61DDFD4BFED0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63350-7B52-4BA7-AE35-F5D93910A7F5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186760" cy="2090520"/>
          </a:xfrm>
          <a:prstGeom prst="rect">
            <a:avLst/>
          </a:prstGeom>
          <a:ln w="0">
            <a:noFill/>
          </a:ln>
        </p:spPr>
      </p:pic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</p:txBody>
      </p:sp>
      <p:pic>
        <p:nvPicPr>
          <p:cNvPr id="1105" name="Picture 2" descr="http://www.uchsc.edu/vivat/2005/September/images/SOD_91504.jpg"/>
          <p:cNvPicPr/>
          <p:nvPr/>
        </p:nvPicPr>
        <p:blipFill>
          <a:blip r:embed="rId2"/>
          <a:stretch/>
        </p:blipFill>
        <p:spPr>
          <a:xfrm>
            <a:off x="2844720" y="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I learned about Reciprocals.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I never knew how to work Xcel and now I know.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I learned how to do formulas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I was doing really good but then I was </a:t>
            </a: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slaking</a:t>
            </a: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 in my work so I did not get that much done but then after a week I work my best and my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knowledge went back up.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Decision Making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I bought stuff that was really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important</a:t>
            </a: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 like a computer so it can help me with my homework and I also bought a apartment so then I have a place to stay while I am going to college.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8:54Z</dcterms:created>
  <dc:creator>ITSUser</dc:creator>
  <dc:description/>
  <dc:language>en-US</dc:language>
  <cp:lastModifiedBy>ITSUser</cp:lastModifiedBy>
  <dcterms:modified xsi:type="dcterms:W3CDTF">2010-02-17T20:48:16Z</dcterms:modified>
  <cp:revision>8</cp:revision>
  <dc:subject/>
  <dc:title>College Planning Reflection</dc:title>
</cp:coreProperties>
</file>