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CE10-D2C9-49C7-A722-AF0B50E40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DF75-0C87-4B15-A58F-EEBCF73A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310DC-156A-4BDD-91A8-754E98B4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8F98C-9EAD-4FE4-8653-8277DE74A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2B5A5E-EA68-4604-92BD-49E9A243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63C95-A8B7-4775-BE58-EF26DC2B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D8DB24-EAF1-4F0E-8486-1D70A8A6E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E01E8-5CFD-4D70-8C96-FD8F42C1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16B7B-9572-42F1-A8CB-5108BF2C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7E2B2E-7380-4918-885A-4A5FE03F8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9316A-7B10-4689-9558-B0A9EBFC0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318C8D-AE03-4257-A271-DD11351D4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F35A-A7F1-4F4C-86E4-85355330F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C2325-356B-4ADF-8183-338826A7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A4E003-7128-4A23-870A-47D351FA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1E2BCD-0D65-435E-B6F6-BFE6AC4F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B27530-3C4F-4B48-BCBB-36C9F41F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629BC-4EFB-4641-AFD9-4084FEE0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DC5031-5C59-4174-92B4-48E8CABD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64A870-0C8D-452F-AEF9-01EDA69F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767D21-1DAD-4DA1-8CB2-64849159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791F41-160D-4556-8CCE-1A96FC91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EC7A13-E042-4669-A07A-4103F2F23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52B5-6BD5-4B1A-B88C-7C5B16115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A235BA-CEA0-4A5C-9F12-62AC3EC93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6042DC-8E01-4F17-8AF0-7D7FC9CA9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4DD7D-AFD3-49E8-8728-33A9E2E8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568A2-6A57-4AB6-976E-28E871CB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E8C2E-307E-4DE4-A8C6-B583FC65B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2F7C8-6827-41ED-B84D-E5F02964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3111B3-CDB4-48B4-8579-84A7DC86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EFC07-C09E-4DB9-81A6-EE27F022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0BAA5-86EA-4FC0-A81F-4DE1B094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20C85-096D-4FAC-B392-D9F7F859C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C058-B891-486D-BBF2-94B7B3AB2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9ADCB-92F8-4F6B-B7B1-BF219DB8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D8BA10-3C16-4CB8-8532-9C4E9BB47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6AE85-3A17-41F3-82E0-F3867E4B4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1FAA2-75A7-4B3C-82B7-49E5153FD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07758D-8EB7-4114-840C-7C4C3F6E0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72D5CD-4DB8-4865-8A50-8AD7B606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120228-CB1C-481E-9CBB-BCD69A08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31B716-12CF-4F5F-9A4B-969124BC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E64552-40FB-425D-9C8E-74940F37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8A98A6-1931-4764-B76D-C0C76A61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34DE-4DB1-443F-AA22-D49B6DE1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39849B-2DBA-4021-AE5C-CFB96F7F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7DF950-E340-40A2-B6C9-B7FAB24E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79F496-C7EA-455C-9DA4-9A8E9209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2B873F-2048-4CC0-84A5-82CFA1F78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D5D4C1-F688-4859-A7E5-1728EA1F0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BD9E7E-36FB-4E8A-B849-FCD220974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30752D-A691-40C2-885B-32B9FCE7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3AB675-5F56-487C-9D15-4F448C02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33333A-29E0-48FC-9E20-C76F01FD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807268-86A3-45FB-AAFB-468D6616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11ECB-173D-4962-8778-71FBEF6D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CC7740-8367-474D-80FC-F03ABA96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4EFF3D-3D2D-4105-AA9E-F1CCC1F5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38117D-F0B3-4309-9C71-23A7B5C6A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568F84-B373-41D5-9A49-C417B3CE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0B0A1B-957C-4A8F-AFF4-7A5F1854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5FAF1E-DD38-4160-A136-AA03EDC5A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F67440-55DD-4B2D-82B1-B9836404A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2174FD-BD8A-40D0-BC98-120BC09FA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B8D9FD-15C0-4B01-B043-1DC4BF71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663B2B-5E10-4743-A163-5512F279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A796-B196-46D6-84C1-4CEC79884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AAE258-A535-4418-A875-FF95BAC80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D52A29-A832-4AC5-BD99-BC9F014B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9606AF-5322-40E4-81A6-C26EE6DF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354626-ACAB-402D-8587-2D66D2EA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11A570-7AAE-49D5-A686-D9F7951D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14E6BB-5B67-4131-BA1C-F3439520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2B3887-3DC7-4BD0-BBF5-11ED70A9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2E8061-8A8E-4453-BBE1-0DDE8628D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55C16F-CA1B-4226-BB93-F532D8ED1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EFB2B5-F0F7-4879-80DB-8CD13DDEE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431E-4C77-4C49-B2AE-B00F168D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069D4A-A0EA-4986-A4F0-25EABFE1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938250-F49F-437D-B26A-05954DCAE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88D40C-CF9C-4ABC-9393-A06C5B80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7F40F5-8221-4801-B816-B79DF750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86971E-5085-4E81-98DA-AD65FE4D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BB0075-9242-4645-9E75-061E50C6E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5556A3-6C73-42F7-ABF8-0BA85951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57B0D1-3A00-4DD7-9786-D8E6D6EF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19C00A-8429-4594-8994-509F1563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E60D6D-6C10-40DF-BA1F-5FB16273D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112D-0733-46AB-B11F-C4689A20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2FC7DB-F777-4C17-9FF0-22FA1D5A6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55E384-7837-4282-A9C2-A166DCA9C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B85476-9D64-4902-988C-A36D9C42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7835E5-F31B-4935-BF52-EB87A273C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490812-4418-42AA-ABED-D328C99F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465B7B-5687-4372-9A40-5E3092FA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6C7809-BEC7-42BA-8879-AC1319F4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64E5CD-55B5-4E29-8B9C-3BF9F08A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4C2ACE-671C-4005-8F90-F1EAD36E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3A4215-9AF3-47F9-9FB7-427F1294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18DD-D503-4B89-B250-F7166077A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008A2F-2BA5-4D9B-A9C9-DBE4A1C3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FBF1E2-F31E-4E66-AFA4-B7A6A6273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E2E3C9-817C-4FEB-8632-D530E5BAD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293AEE-7348-4BF4-90BD-C6681DB6F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7FF093-18A5-4EC0-A962-C4166E71E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9B3FC5-B3A5-4B9C-8846-08530AA6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240043-5EBB-4F10-8F33-093BBE4BF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77D4D0-0C94-46EB-B87C-8456C79DE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41D87D-3C2F-49BD-BFAA-0D490DBDD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189E34-6B47-4504-9E25-4C879B57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27E4-D97D-4E9B-8385-1ED292FC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5C8C-436D-44C4-A499-7830B661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8EEBDC-F7C7-472B-A235-FDFBC021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CBADDF-52BE-40FB-880A-B7588B4BE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D6CDE3-A66C-4FDC-9A05-94C38D484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853D01-C220-4C8B-B585-EB4CA7108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E2E605-CA63-46A6-AC3E-B8BAD8BC2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A83BCA-31F3-4B89-AC45-8052DE0BA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F303B3-3A9B-4001-AD44-C4E8442B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15C1E1-E9B2-482B-93FC-96513869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7EA58B-A40D-4C88-8BB3-778A476D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899E64-1BC6-43CE-A128-DDA469AC3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7449-156B-4FA1-8B8C-9F4B130A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30AC10-F896-4441-938F-863E099A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8984F8-6213-4A98-8071-86FEC015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EAB160-2778-4FAE-A9C2-4FC80630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9BB1BD-8D09-4D00-973C-82663053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B050FD-AFD0-4FA3-A848-16D88433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3FE234-961C-4A67-A01A-455B9C5C7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629A86-ABA5-451A-B999-16B25C8C7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BD8D9B-511B-4FCC-8AA4-FEEC6B3B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42E5FE-2C05-45B8-B790-EB898946F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841A42-848D-4EC9-8559-629BA87B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F4AC-3A91-4D3D-8534-1F1D47874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0C315CC-8548-4F34-863D-19988547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F37B4C-5D08-4320-9FCA-65944BC8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099C47-14FC-4953-98DE-F1BE5AA9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205003-BF2F-473F-83DE-06D10DEF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B64D3D-B341-49B1-B0C3-D28823AA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019344-834D-47B4-823C-4BADF85B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B8D142-12F1-4FC4-B560-480814628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6199EA-C325-4242-BE53-4CA7BCC3E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9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9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364F05-A2A3-4697-9D03-031A8761B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00F365-3B19-475E-95D2-87499974B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8097E-B4C9-48DB-AB32-C5D527F98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2D8BE1-4E99-4ED3-9A53-633C42D1B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910355-2459-43A8-9F8D-A6E4B8D5D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653E30-96BE-4A71-8411-7F606A5F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3F3DCF-1284-497D-A52D-4651CA69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DC3B17-6108-4C77-BD3F-76C7DE89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DF9220-35DB-4649-9DA3-477E015E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EE4D25-9F4F-4B66-B560-B8D4795F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425BFB-1C12-47DD-BBC9-C048053C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C15E1F-F9FA-468C-B0FD-B431277E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51A7F7-C404-4ED7-B72A-9CB8902E9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8B5B-ED85-444A-A1A5-797062B3B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3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3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CFBBF9-20F7-4A58-A3EF-917A5F790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776CCB-FF08-4967-A03E-144D4163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DE7222-6D55-4171-986B-BC834704A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F59413-73F8-4484-8C63-26C0ABD3C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9CAF0D-FDC6-4EC6-BBC6-B965A4A3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2A147C-866C-4DFB-9CC3-46F89E92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3519F6-F3FF-43DC-9E57-87F50465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EB07A9-38FF-45F1-976E-E09771C3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33CF47-B64E-419B-9A8B-32B4F283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7CB2AE-C239-4D7E-8569-61AC8C59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3E16E-87E1-483C-8836-5542DD09C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1A2C0C-770A-4237-9FDF-1DB43D01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918D08-D1ED-4ED8-AD40-44955FEF3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7C5671-4FEC-428C-905D-B4179B5C6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526643-23A5-416E-88B1-AACF855D6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D0C2F9-75E2-4B5C-98C9-A3AD6F99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6EDB27-CF04-4AB4-85BE-4A7FCA33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90D759-E240-4739-A2F5-8FDC05DA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486DD0-6F52-4C71-B402-0043B27A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0E6BD9-9F7E-467D-8842-8035B5E1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F56BBD-D44C-441B-A3F8-F2679F07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021BD-E037-4551-AD8B-0E5583C1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E675D7-C98A-4F73-89BC-866A9C69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DC4BC9-E5B8-4AE2-BEBE-5603CA13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9BA746-8517-48C0-9060-1F2EFA6BD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B5F98C-1E2D-4E79-B697-14E65F497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0ED587-F7C5-42EF-8DCC-A751A4720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B6E33D-5DE8-4BBB-B13D-EFC5D76C7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8405CC-0687-4CC2-A3D1-C20D4522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6D8AA63-8D12-4C11-9CC7-40AE6DCB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88CD7C-6AC4-4301-A5AD-30FDE5EE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BA3CB4-F9E0-4D05-8670-F34E1DF1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B78BD-0F88-46BB-87C4-191EC3478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00B279-F9BC-4D51-ADA8-F455B8D5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E3D4B6-9331-4A71-9FB9-8330EADA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29FD62-6C11-4BB9-9516-5981E0447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E0BC8A-B943-4309-A468-B74E9EDA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7BD157-2F2E-4641-ABB2-CB7F0A2C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3084E2-0FA8-49F4-9A47-6AE7B65CA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1D1285-A179-44F9-9775-FE6EEB9B8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78A4E9-8849-47FD-B617-01B0924DB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BECAD3-DA2D-47B0-85A4-D25B2E46A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AAFCF87-517A-4527-938A-AA5EEDFB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969BC-80FB-4E84-9C34-93937D00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45E02A-B33A-445C-BEB6-F0E434AC3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C73D23-D180-4194-BAF1-E19DEB3D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7CC6BE-F1F3-4349-8936-03818C1A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49A40E-816F-42D0-B3ED-00516B6C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163797-5BAF-4A03-962C-F0442403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609F9E-CAB6-4076-8F72-ABAE67D5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9BB528-7A9B-4BA7-B4D0-CD148821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0723DEA-8CCB-4E07-A7CF-09C373EA6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10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10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AE3BA4-5F6E-4E62-9E03-45A4AD5FF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8E288-5375-4018-9062-BC95A173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22E0-F3F9-41DD-B958-54156474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5E96C-D8E0-42DB-B02B-00C5F051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0431F-1B99-419B-95FE-3BBA2E55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274D8-2AD8-4362-BC55-D3187D969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D146B-3792-4E4D-AA34-D685C02E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4BEB9-1341-4E24-9DEC-E829290EA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9FEF4-5B3C-4F65-85DD-DE5985AF6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20627-A9F3-46DA-B6F1-A3CF3E392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37DF0-E648-402D-A341-9357A2FFB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556ED-759F-4E40-99F7-566ACA58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FC2AC-510D-4DF7-8291-E7D51C444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7E97-52C7-4FDB-86BD-92DBCA21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D25A7-B04B-4E26-96FA-96353381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98F9C-E69A-4DF9-9291-34ADFE07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0B7057-994A-4B5C-97EC-12D7C6D02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4464D-16D5-4519-948B-430B3D97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86FDF-4B1A-4B70-BFC9-1C006AC2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1E3CB-75B3-4DE1-94E7-7F151553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688EA-B84C-4A54-90BF-EDB4444BF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1081A-7EF2-412C-83B9-4118E28D6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A6E03-B247-4D94-B16B-97E1A6670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8E84F2-C800-4FC6-B9CA-33DD896A7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CF21-0E5E-44AC-9ED2-2624C3C8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D4DCE-425E-4EBF-86E2-EC7EC6A5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0B4AE-46B1-44F5-AB42-DE09C8B7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C74F1-E65E-4215-B1C3-69D10DC9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2D51F-646D-467C-A052-81FD62F9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9E1E8E-6764-45A5-946C-9273E79CC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4A0FB-812C-4409-8570-32F063BF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7D8A9-A9AA-4EBF-A88D-53D3BEE4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CB28C-246F-4096-A1C3-C7F2528E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CF551-2B89-4117-A51F-2DAF0699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4E36A-13F4-416F-B27F-C87698017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53B6-F647-498B-AC54-B74EAA28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4F90A-A207-46C3-9812-2FFEE0E4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85A71A-DEB1-4B5C-B142-37D1DE3D4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18DF95-DE4E-4EE9-87A6-2BEFDDC24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8637B-66D4-4863-A4E5-C4B25158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BD125-FDF8-4CEF-96D0-350C2372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B81BE-E57D-4534-9503-18E70099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14AF45-6CDB-420F-8EA7-4BA29CEE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99EF47-D3C3-4B2E-AFD4-58E4B5CD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00328-68F8-4773-B45B-0BE1C463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E3D3F-19D0-4CC7-AEFA-94FDE780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29AD-711E-4B8E-B248-6D95AB22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A8168-E740-4092-BCF7-58470630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40CE9-3571-45B5-A058-ACB369577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BBF2D-1070-407B-98F7-0C275635B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F3C6D-1CD9-4086-817E-9C17CB7DA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A2963-E138-4452-A281-6246719E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93185-AC37-47B2-9484-D7A5F53E7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014F6-1730-4D17-AD07-7A47A7562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9DFAC-D68E-4D10-834E-D9CFFC43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3E2D2-7C08-4E1D-B23A-55DC9E4A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39045A-E809-4E00-8F99-9DC4F7B9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701E-AB4D-4FF9-952A-F87928F6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0B7D5-A792-4819-A240-9EBCD14A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672EA-F40C-44E1-A6F2-3F5B8959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F86D50-AF11-4ED1-9565-AF23988A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851E0-3998-4504-A096-67AE18750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1446E-DE15-48A4-9876-78ED98137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464B91-62C0-4F09-8D0E-A5128D088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B71C0-5669-4B90-9FB1-09EDE89F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06DEA-B7BB-4797-9549-A439B3B2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6B2109-A62E-4BCE-A5BD-3B0F201C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D4C0D-88B7-4F70-93C1-EE117A125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9283-5524-4919-93EF-68F709DC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EB50B-8983-40E0-B2B0-0CBD12C15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8F7723-FE37-4E2A-8B28-BC9C4626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F5E5F-170F-4BEC-8DC8-6627A0E8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BF49B-A7E6-4C52-92B7-559A6312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19CC6-E4AE-4093-9601-D735B3822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85669-622F-4D6A-A8BB-29C6CF578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1E3B53-2707-46AB-A6BE-CDF0D78C0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2CF72-671E-420E-842B-0D842446B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E397A-FA53-47AA-B376-DB447CD5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1EC416-6A2F-43E9-A0C8-7F5916C2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3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5EEB-C5B8-477A-BD42-27ADBCBE3340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3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1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2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3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4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5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6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7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8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grpSp>
        <p:nvGrpSpPr>
          <p:cNvPr id="449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450" name="Straight Connector 20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  <p:sp>
          <p:nvSpPr>
            <p:cNvPr id="451" name="Straight Connector 23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  <p:sp>
          <p:nvSpPr>
            <p:cNvPr id="452" name="Straight Connector 24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grpSp>
        <p:nvGrpSpPr>
          <p:cNvPr id="453" name="Group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454" name="Straight Connector 26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  <p:sp>
          <p:nvSpPr>
            <p:cNvPr id="455" name="Straight Connector 27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  <p:sp>
          <p:nvSpPr>
            <p:cNvPr id="456" name="Straight Connector 28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grpSp>
        <p:nvGrpSpPr>
          <p:cNvPr id="457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458" name="Straight Connector 30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  <p:sp>
          <p:nvSpPr>
            <p:cNvPr id="459" name="Straight Connector 31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  <p:sp>
          <p:nvSpPr>
            <p:cNvPr id="460" name="Straight Connector 32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8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9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0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EADC-B337-485F-AB68-B404A9D3ED1E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03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3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75F2-CAF1-40A7-9C79-C42C60F018B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7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grpSp>
        <p:nvGrpSpPr>
          <p:cNvPr id="549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50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grpSp>
        <p:nvGrpSpPr>
          <p:cNvPr id="552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53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35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3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A12B-A36A-4DED-A79B-2CDEA606ECD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597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c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c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7030a0"/>
              </a:solidFill>
              <a:latin typeface="Franklin Gothic Medium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48B5-1E03-4D58-8A55-457ED819A99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64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64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48ED-C545-405A-A838-99DCF84E286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42C8-D668-4D83-A248-4A127B38757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726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72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0CC0-24CB-492F-BFAA-CB925B1F903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4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C2BBB-CB44-4B37-9EF4-1F8C71E336B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5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ftr" idx="5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sldNum" idx="5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C39B-E101-47CB-A847-C364613AD44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0f1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e3d0f1"/>
              </a:solidFill>
              <a:latin typeface="Lucida San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e3d0f1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e3d0f1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e3d0f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e3d0f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e3d0f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e3d0f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dt" idx="55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798b1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98b1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ftr" idx="56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 type="sldNum" idx="57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798b1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EA2D-C257-4CF9-9AF3-45EA597F74F7}" type="slidenum">
              <a:rPr b="0" lang="en-US" sz="1200" spc="-1" strike="noStrike">
                <a:solidFill>
                  <a:srgbClr val="a798b1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9BDE-0F1C-4912-8BAF-23C01E89E36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grpSp>
        <p:nvGrpSpPr>
          <p:cNvPr id="5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grpSp>
        <p:nvGrpSpPr>
          <p:cNvPr id="6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6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0000"/>
            </a:gs>
            <a:gs pos="100000">
              <a:srgbClr val="ff2c2c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893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646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5d9d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 type="dt" idx="5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 type="ftr" idx="5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 type="sldNum" idx="6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0D23-8C00-4732-BAF9-7FD191967648}" type="slidenum"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0000"/>
            </a:gs>
            <a:gs pos="100000">
              <a:srgbClr val="ff2c2c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936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646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5d9d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 type="dt" idx="6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 type="ftr" idx="6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 type="sldNum" idx="6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7C4A-AF88-4FBC-8F88-DD406B793DE8}" type="slidenum"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646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5d9d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6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6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6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9600-5450-4DBD-83A2-D2259111922C}" type="slidenum"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020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646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5d9d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6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6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69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259E-307E-4B6B-BD73-2AC0A6743D0F}" type="slidenum"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646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5d9d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 type="dt" idx="7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 type="ftr" idx="7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 type="sldNum" idx="7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187B-976E-4138-859D-D41DD31FB0D2}" type="slidenum"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0f1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e3d0f1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e3d0f1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e3d0f1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e3d0f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e3d0f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e3d0f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e3d0f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798b1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98b1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798b1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8FC61-2D31-445F-8101-F240EE36DD3A}" type="slidenum">
              <a:rPr b="0" lang="en-US" sz="1200" spc="-1" strike="noStrike">
                <a:solidFill>
                  <a:srgbClr val="a798b1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42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646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5d9d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FBDCF-09F2-4193-85C8-BC46ACCB8FF8}" type="slidenum"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88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89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3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91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92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0B5C-CDDA-4CFB-801A-3341F18E476E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3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3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3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7030a0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4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7030a0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5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99ff37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6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7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8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9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0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1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2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3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4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5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6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7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99ff37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8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99ff3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9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60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62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63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4761C-8EC2-48D1-97A6-889A44719A7B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E1CB-4688-4321-8394-2E91BE90332D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99ff3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47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48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49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0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1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2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3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4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5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86D34-E994-42EE-AB2A-0E0B7B3AC467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108B-AECC-4B89-BC52-4C2FA5E0FE64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3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186760" cy="2090520"/>
          </a:xfrm>
          <a:prstGeom prst="rect">
            <a:avLst/>
          </a:prstGeom>
          <a:ln w="0">
            <a:noFill/>
          </a:ln>
        </p:spPr>
      </p:pic>
      <p:sp>
        <p:nvSpPr>
          <p:cNvPr id="1104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a5e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a5e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a5e"/>
              </a:solidFill>
              <a:latin typeface="Corbel"/>
            </a:endParaRPr>
          </a:p>
        </p:txBody>
      </p:sp>
      <p:pic>
        <p:nvPicPr>
          <p:cNvPr id="1105" name="Picture 2" descr="http://www.uchsc.edu/vivat/2005/September/images/SOD_91504.jpg"/>
          <p:cNvPicPr/>
          <p:nvPr/>
        </p:nvPicPr>
        <p:blipFill>
          <a:blip r:embed="rId2"/>
          <a:stretch/>
        </p:blipFill>
        <p:spPr>
          <a:xfrm>
            <a:off x="2844720" y="0"/>
            <a:ext cx="3454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I learned about Reciprocals.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Title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11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I never knew how to work Xcel and now I know.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I learned how to do formulas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1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I was doing really good but then I was </a:t>
            </a:r>
            <a:r>
              <a:rPr b="0" lang="en-US" sz="2800" spc="-1" strike="noStrike">
                <a:solidFill>
                  <a:srgbClr val="c00000"/>
                </a:solidFill>
                <a:latin typeface="Book Antiqua"/>
              </a:rPr>
              <a:t>slaking</a:t>
            </a: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 in my work so I did not get that much done but then after a week I work my best and my 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knowledge went back up.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Decision Making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I bought stuff that was really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important</a:t>
            </a: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 like a computer so it can help me with my homework and I also bought a apartment so then I have a place to stay while I am going to college.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48:54Z</dcterms:created>
  <dc:creator>ITSUser</dc:creator>
  <dc:description/>
  <dc:language>en-US</dc:language>
  <cp:lastModifiedBy>ITSUser</cp:lastModifiedBy>
  <dcterms:modified xsi:type="dcterms:W3CDTF">2010-02-17T20:48:16Z</dcterms:modified>
  <cp:revision>8</cp:revision>
  <dc:subject/>
  <dc:title>College Planning Reflection</dc:title>
</cp:coreProperties>
</file>