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640-185E-4CBF-90E0-5002B518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131-35AA-472E-88D6-E6AA74D3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3AAD1-D644-4E86-ABE1-39E3D8B6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CB62C-9C92-4449-A5AB-6783FF63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15802-91AE-4EAB-A749-EF07E9AC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34CF4-9B37-4F04-B346-88E5F00D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A6B62-340B-495C-BC41-0CE8B626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B0778-BEDF-4357-8520-852828FA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A3D4F-85B5-405C-A9E2-63A1783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9A88B-48AF-4D99-974C-648157D7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BD3FD-8CE7-477D-87DF-FFAED7C1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F7F9A-AD46-49A1-B572-0AD27370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975-4ABA-42CD-BAE9-92BFED0B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3D50E-9F5F-4DDB-9443-7737999C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F6614-286B-493D-9DA9-4F1D8F76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A2BBB-817B-4CFA-A3CE-74287A87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2D25D-471C-4A74-8057-ADC6AF34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37ACE-AD19-4121-A017-48B0917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F2ACC-C03E-4747-8FEA-1716E24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6B9E8-0C20-4BD0-8C3F-B4BCCDD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6E3F6-1CAF-4690-8876-EEB497F9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8CEB7-90B5-4773-B736-F2685D93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14947-E3E4-4E6F-9EB6-3C1C60CA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4F8-231B-430A-A836-36B3931E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DDD2E-D912-4183-AD65-29D56451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30B17-66AC-4930-861D-3F40866B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EB6A0-894C-48EE-8A85-59BD8DF9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E05EF-E969-48EF-87B9-6BECAFD7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2E60B-EF2C-4E47-A896-30D6E90E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C7E6E-3014-4EB5-8391-D3A8EF34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3E584-FAD8-42E0-BBF2-B171CE57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74427-FF56-4066-A7F4-F6019DB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22771-0326-4617-A1A2-E12725A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A6BB6-7EE8-4FF7-91ED-9FCC3BB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6C68-8C6C-4B00-8151-2BEA3C8C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EA614-E2E0-434D-AC69-A0CE114A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7604C-71AB-4B4A-8EB6-9119DEE2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5211F-D473-4271-A689-E7FD5199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6B7A6-9924-4677-A28D-A4F494BC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7AD9E-9B2E-4B0D-9AAA-6F13319E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751AD-D52D-4685-BEB7-D8A605A2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8D87E-F93C-4403-93BE-22DBBBDC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C83BB-04E3-46A2-A607-136024A7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72C0F-28B7-4593-B3C1-90F0B138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3C5EE-2DB4-4E71-A181-7A314A13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9F8C-1ECC-4DAF-9C38-E71033A9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F30C8-3AF7-4928-87EB-165A2861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5516B-CDF4-4B72-887E-AF6DABE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C1D91-E727-4C6B-8EDA-34CDB172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47F61-C5B3-4665-9FA4-6BB23CEE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F1DF5-0AF0-40CF-9761-291C24BB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25DF8-5F2E-4B2F-9A79-2053E16F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3AD7E-FDF9-491B-A737-EB1D9E49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1CF88-DB32-4CF7-9497-2A2EB7E3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7DD4A-A066-4F8F-90CF-61D6A85E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EECD7-B317-4CFF-ACC0-93436F8A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EE9E-694C-4BD3-B186-CF9610E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8999F-0D89-4699-86F6-6605A99E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F649A-C7D9-4CC8-B64B-4BCBAC4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0B3E0-66DF-4F95-BCE3-69020E8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E7BB7-2BA6-4087-8EAC-03B932E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D6829-7C58-445E-BF48-4B1ED06C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9C892-FBE9-416A-AD23-79E5AE24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FA0DE-787C-46C2-9D4A-FC7F10C3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AF692-0026-43DA-8A8B-EEA5F016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2B2C1-5683-474B-9BC5-C000D7D2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420B5-4D61-4E1B-8716-2A03DF09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78B8-4E59-4CBF-B7E6-A98F4362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9662D-C62B-41E9-94CE-2BBD8F9F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777D5-E225-4312-9CF2-3F5B6729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466DF-C8B3-4AF5-A6E8-153BB0F7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07CEE-0C27-48C9-AB4E-2E665209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9B10B-1E5E-496D-AD03-BF4E1D4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AF5B0-7E8D-4EF9-9EC3-7E185824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5CA5D-BA88-42A6-A947-AF3519E7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2BBB8-A731-4774-902F-386C28BA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CCB1B-6EEB-484E-B9CB-FC908C20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9A116-F955-4CC3-ACED-67092CF9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9943-637A-4F18-B017-250AD290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4E8C7-EB7C-4848-BF57-5948417F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EB0B1-EBEB-45D4-8600-7ABFFD4A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8D8FC-FA2C-421F-8FC5-CF2F916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DF04A-8A3C-4752-A32D-EA4E5C4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458FF-A403-4EDD-8135-909196B6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9E3C0D-4AE9-4735-968B-6264C25F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23474-507D-4907-AD19-0DB4FEA2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A3CF5-51F2-4247-9B79-3EA4F1CF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A45FB-505C-4F7C-A851-D21EF811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E743C-C5BB-46E8-9B08-4F1A7236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F1BE-1EBC-4947-BE08-82B61FF1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A54BA4-849B-4F25-B8F2-9EAD84B4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95D35-2824-41DD-8E2C-FB4F1205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26486-7BAD-4821-AEB5-0F5B23A7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3771F-123A-4365-9505-ECBF474A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0FDEF-2F03-4381-92D5-ACC15188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FE3CA-83C7-471F-8C50-D9E77F42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BBEEE-9212-451A-BEB0-2E8B4EA1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41522-F9C5-421C-9BA8-3E3D2A9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AF41C-5F13-4E4F-B66C-7AB88E50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554E2-E47F-4AEF-8366-48522331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7B88-A75B-426A-B3A4-D006548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86BB0-314E-4769-A339-272599A4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2C302-09C8-4375-AA9F-B9222430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B85A2-7F5D-4142-A41E-5EC25440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48C56-8685-45BE-9C70-9D979637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20188B-92B6-46B1-8AB7-1D4B7284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866F1-7766-4098-A624-EAFDA5ED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DDDB1-75FB-42A0-BE3A-32AA252E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23E1A7-D037-4391-91AA-928E4CD3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2EEE8-5812-4506-916F-A1AC02BC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7BD96-27AC-49C4-ADE2-2B7CEC0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B50-0C92-4F83-9ACB-581AE4A1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9A8B-3624-4C16-A64B-19EC351C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B1F27-0F54-4B8E-AD01-EAC094E7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5DFB4-5694-4AC8-8E6C-33E3572E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3B817-4CC5-45B4-9F84-C221A219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AED85-AA3C-471F-B42B-ED097C6C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A2C3C-48C9-4F88-B349-18822646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DD7D6-0CAC-4BB0-A531-DB6BDA94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A55A5-2F30-4CEF-89B5-25AB4F80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692DAD-39C7-4ED9-A3CC-D49723C7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2C067-5409-48F3-9A46-6CE1A9BB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EB6D59-F782-4976-9FA8-831D8A8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BD0F-01DD-48B1-9A34-A84F7D4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2A53E9-A77F-4F25-983F-FD5658C9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8673E3-BBF6-44A0-A6BC-6F5C2243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B532C-FCCB-45FE-93A7-024B06F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653DA-22FD-4510-BF20-375D94AF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043AA-AA2A-497D-A1A3-B63F152B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348F7-AFD3-46E4-B95D-FB36BAF5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3B097-B356-4980-865C-48FD53C8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606FD4-ABBF-4229-9B14-1B21EE1A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029F2D-DC9E-4712-9F00-9D90D5B1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47E3D7-9359-4398-B3D1-BAC65E52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D174-3882-4131-96AC-6ED5FF0C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D0B53-336E-4701-BFCF-3F0404B5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A905E-75A7-42C0-8B78-EE598AA8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EC7B6-02D1-437A-B047-B69E96CB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861EB-B2CA-4158-8B67-CDA3251B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2E81E-5827-47AE-BED8-C52A667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9ABF49-7D90-4E2B-8D35-7627D37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716F1-E6A8-4104-A957-0FC33A70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2BF4F-EB28-460B-8A1B-821902EE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42191-5FA6-4B45-979D-D273A989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FF65C-6E3C-49FD-94C5-3F025B9F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9A5C-BF46-40CB-B430-10010015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F0BE0-5468-4E8F-A5B0-1EE5E194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27F01-C88C-4C1A-B42C-A31E2176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C8CCAF-3351-47B4-AB40-4EFDE949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188EA-5692-44E9-9901-58988ADF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40702B-3C12-45D1-9C97-21098309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ACAF0-6E24-4121-A918-F385AB3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D9CB12-1B26-4A32-849B-B25CA1C0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6ED3C-68E3-4C3E-A5E6-10CB0A53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A2151-55BC-4199-A003-823A8273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D762A-844A-42A5-BA9F-F429313C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8695-AABB-4EA0-ADCF-8A10EC65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A8BC4-D7E4-42A4-A390-30580C88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9E761-0E88-4A0E-A369-706768D1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A90361-4C75-4266-8AEA-0551C67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3343E1-5D92-4DD9-BDA7-855AE1FB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3685C-5966-4537-AD0A-F830027F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CF8E3-739B-4D3C-B19C-026B9D2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507D5-035C-44E5-98A6-B3342CDF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1F78A-86AC-4ABE-9A6B-D910167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60A0A9-E3E2-4A05-99D3-F5D305B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EA364E-E3B1-4329-A2DC-AAE1CDEF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6974-9E70-4A5A-A661-D8684D76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846BF8-0393-4C19-AAA8-3A2DA5A0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FC37B-23E3-4AD2-AA7D-F6B0344A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EE8F8-8135-48C8-9A55-BBCAC950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59693E-E9CE-4B04-B1A0-A71D18A4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FEC234-685F-4907-96FE-8A7CA4B7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EC9670-2C59-4903-A5A9-983C6AE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7ECACD-02F8-4773-994E-47AFF753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DC8BBA-E5D8-4638-90EA-FB30851A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6861C1-1855-4248-BA48-A63924CC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7AFDCB-07FD-4244-943F-808716D3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D0C0-090F-444D-9A57-2A47B3D8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29A697-B647-47F4-A2A5-BF9F424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C1CD60-1AE7-470B-9DF2-3E646367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3694F8-87BA-46F4-9ED2-B46B9A0E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01583B-65E3-49CD-B7A1-8A8C8347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FF0FAA-3DA5-46F8-A8F1-E3759CDC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710934-E297-49E9-91C9-D5827DD6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4C0AAD-3F1F-4121-AB08-BDF5082E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8D152-885C-409A-9269-B1A15400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8E5A5A-2166-49BF-A67D-EB893B6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2643F-8B54-4DB0-B2EF-1383CF49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692B-42E0-4266-98F1-CB8B5BE2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5BF9A9-BB42-4D05-A794-9BF020B6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A66C9D-146C-485A-AC37-7209031F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CE775E-9592-4240-924F-FD546460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BC744C-B390-41B8-9F55-1E954813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8D79E5-BD39-4C32-A905-1F4DC311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E5BFD1-72FC-4429-B7A0-86864F45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A9B6ED-15EC-491A-8D6D-7DFF981D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FF3A9D-183E-4CCD-AD6E-6974B48A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7F564D-1079-45C6-B6E9-A95A5E8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A034DE-80AD-4BD8-BA02-E7106973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595E-C0AB-423A-A0D3-78603240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C6211C-B799-4011-A8BC-2EEBEFBE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B8DD3C-E251-4B8E-89AC-EBF70AD6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BEED56-D126-4AFE-B6F7-EB71A653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CAD457-A61E-4C09-B832-55715CA8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E5F590-E0BE-4EF5-8EB6-AD480DB2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288D44-4E6D-41E1-A619-1310A159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8AE1EC-42B4-4191-BB50-E993E090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2273AE-28FE-4EF0-BA6A-2F18F10B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AAA0AD-024E-4DEB-96DD-2DA05D7A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5AA7-663F-4901-8D90-FCDDA4C4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251-27FB-4C12-BD40-D67A6B7E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34DF-83EF-4002-8B41-1A9965A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5C70-43A9-472D-ACE7-CAC4FE62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9394-4D48-4EB6-BB80-42C86B9D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DA65-2C1B-4F1A-AB67-D5954ECA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CCAD8-45C3-48E9-AC46-12383EBE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4F47-B58A-49EE-A850-589D4E56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A95A-E129-4E1C-9ED3-60054A22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15D88-F7B7-4D67-88EE-F7F4B0E9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6804B-C6D0-47E7-AF02-9D8F3D6B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C202C-C696-4A92-B9F2-5E66588C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31D-C13C-4BF9-B8A6-D60D6D9B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D7C8-FFD5-4492-82A0-5C8BF739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43E4-4563-4774-B180-8888DE6A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F6D1E-0718-4C96-A30A-C33C7782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49F0-22CC-444B-85B1-07FFE0D8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7DB22-A005-41F5-A32E-C390749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D40B-9A36-4474-ADDA-CAB2F06E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E871-535F-4414-8A74-59C35514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D2EA-B5D6-4BAE-95B2-E8ECA7E1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BD75-19AD-4B73-924A-870239C0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07615-24A5-462C-9D68-CAA1A79A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CB8-06BE-4BBB-B6DF-8B52829C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B700-BFB2-4118-ADCF-3841901F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E1027-3F6E-4E8C-9330-AFA58A02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2B6DA-8FD3-4CDB-B1A6-81233B2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AA1EB-79EB-4049-B31C-373CD29E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64E1-0B37-4E36-B862-7735F42F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B53D-7BEF-4D22-BC4D-C9F102F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41EA0-AFCD-41A9-AA52-EAA8FD7F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010C-E8C1-4963-94DB-2AB9901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6F2D1-862C-4069-A40F-38530874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19F0-FCAE-4D32-9312-43CD9DB3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387-B656-48AA-BDC6-8D4FAB8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29759-BCDB-43AF-A193-A892F88C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1E35F-562D-4B0D-A9C3-7F0DCA43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4044-30F3-447E-88DF-034F4F50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4D11A-8E98-41B4-AA58-327DFB39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E9493-CB19-48D0-95B0-69375F14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450C9-B1F4-4401-AA25-4BE9EC7C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71A2D-00D8-4544-94EF-C27EA93D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AB360-5E47-4D69-9FFB-3E8633D0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E480E-1DCA-489B-80C7-EBEE4AAF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D7255-9851-4DDB-84F6-CF7ED8E1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E01-B1D2-4ECF-A9F2-D48379D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C8DDF-19D7-4784-8054-02278EB5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2FB0E-FBE0-46C6-9C61-3846285A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FECA-8891-41B1-AA83-386BA54A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D6859-C9F5-4750-9B40-1CBACD4C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CB71E-86DC-47E8-AFA8-47F7052D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B4512-4380-4F12-8AB1-7ADC96BD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2050D-536C-438A-9C78-1C7E1C9C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C3219-4A17-4BCB-B748-C8F2996E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32015-B99B-4AC8-8440-1E46A77D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1342F-21BC-4438-A34B-990354C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CB4-3CE4-42CC-84C2-4D8AA3D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89DB-6EF8-4C6B-A7ED-48E9F994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3F4B6-196E-4B0B-899F-476197F9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EFB3-58BF-4318-8496-E8616BBB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FA862-4BC1-410F-AC78-9590D73F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6FDAD-0765-49B8-83C1-5F375E64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0A43B-EDF5-4194-B5A7-703574B2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39960-92C0-4C27-8BB0-4DD30E4C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6572D-8FAA-4080-95B8-45E1C5CF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7E244-6EBB-4BA8-8C68-36986C40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05BF7-C9DE-47B3-9798-EEA3A232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253-13A7-45DF-A3B2-A2C8CBF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2F898-0476-4F32-9005-F27E7F4B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A607E-8BB1-470D-AB25-AFD21F6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E0DCD-64EB-4EA6-ABBC-6624C953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F39F-C776-4792-9E02-B222400F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8C681-2EEA-4551-80FB-95AEE307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B9203-59BF-4C34-9106-9E494B09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493BB-A973-4DE3-984E-7B85B93C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CC103-E8A0-4780-AF57-4C9AA7FF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1D27E-017F-497F-A430-A38093C2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ECAA0-60A2-4F85-B1D5-03DAEFFC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A0B8-AD7C-4F9C-9E41-AED72A95025F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grpSp>
        <p:nvGrpSpPr>
          <p:cNvPr id="44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0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1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2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4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5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6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58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9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60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8716-6039-4425-8B21-81043499FF48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0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98DF-E255-4EB6-A8FC-F4F6E2FB102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5BA3-05EE-49E2-AFF9-4692864DA23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Franklin Gothic Mediu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85A2-023C-4F6D-AD34-CF9093F7272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64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B250-436B-431F-87F5-6349EC57B40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A12-B8FD-4D5A-AF93-2C83CFD7CA2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2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BCF4-12E1-465B-AB6D-06021EA1918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F1A8-119B-4890-B8B9-DD37DBB26E7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9A63-D834-4703-8B08-B1C15226FE6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E5AE-257C-485B-A331-DC0DA998C123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100D-CF21-4A6C-AF9E-C9DB18C116F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grpSp>
        <p:nvGrpSpPr>
          <p:cNvPr id="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5B3B-4B7F-4E45-96BB-75C59414624B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AD6-511B-46DD-A2BA-8A574D94C09B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4FD7-B402-4C59-BFB8-04A1231D1F7C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318D-D585-4FF2-A7B8-5ED7307C075A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CFAB-1E44-4640-A0E9-2BE1DB204B5D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FA1B-DCE5-4242-A108-670BD6910479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2BDB-EF0A-4F50-B11B-CCF1C4D6A26E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4E63-3D25-4C9A-A324-9D03779C1BC7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7B40-3EE9-4405-978A-DD580D73AB73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EFC3-8726-4F81-A403-F299AAE342D1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F85-42C4-45C4-873A-C1987F396EBA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6176-1C92-4ED9-BA6A-BE5901509648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</p:txBody>
      </p:sp>
      <p:pic>
        <p:nvPicPr>
          <p:cNvPr id="1105" name="Picture 2" descr="http://www.uchsc.edu/vivat/2005/September/images/SOD_91504.jpg"/>
          <p:cNvPicPr/>
          <p:nvPr/>
        </p:nvPicPr>
        <p:blipFill>
          <a:blip r:embed="rId2"/>
          <a:stretch/>
        </p:blipFill>
        <p:spPr>
          <a:xfrm>
            <a:off x="2844720" y="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learned about Reciprocals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never knew how to work Xcel and now I know.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learned how to do formulas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was doing really good but then I wa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slaking</a:t>
            </a: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 in my work so I did not get that much done but then after a week I work my best and m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knowledge went back up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Decision Making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I bought stuff that was really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 like a computer so it can help me with my homework and I also bought a apartment so then I have a place to stay while I am going to college.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54Z</dcterms:created>
  <dc:creator>ITSUser</dc:creator>
  <dc:description/>
  <dc:language>en-US</dc:language>
  <cp:lastModifiedBy>ITSUser</cp:lastModifiedBy>
  <dcterms:modified xsi:type="dcterms:W3CDTF">2010-02-17T20:48:16Z</dcterms:modified>
  <cp:revision>8</cp:revision>
  <dc:subject/>
  <dc:title>College Planning Reflection</dc:title>
</cp:coreProperties>
</file>