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CC6AE8-CA44-4084-9E8E-C1C445F885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AFFFB-84AA-4672-B0CB-7AC4D262F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B33D63-751B-40CC-827A-6AFB723247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D8D526-E1F2-413A-ADF5-2A801E52A2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C1A04-7B6E-4D49-A1AA-47E90ABE3D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F7F63-3415-4654-B9EB-F4A026403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1C641-E462-40C9-ACF1-249AF578C9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4B1FF-BD6D-46BD-B03E-4604BC565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F04A5-426C-4FB3-B1B8-A20A98528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CFDAC-526C-4F2F-B6E6-FF7F5470FF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2DA8A-397A-4E0D-AEC7-7BC7F3A1A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D8CFE-EA4B-4948-8734-6D53D79F8D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48729-8CE3-42AA-B788-ECA122CB403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4.bp.blogspot.com/_mg7D3kYysfw/SW2XFRKDc9I/AAAAAAAALew/hJW4Ron5qVs/s400/swastika.png&amp;imgrefurl=http://wwiihistory-b4.blogspot.com/2009/02/hitler-and-nazis_25.html&amp;usg=__6zHZZLBKTT-cIA-EpNWXgMPk7mY=&amp;h=323&amp;w=345&amp;sz=8&amp;hl=en&amp;start=9&amp;um=1&amp;tbnid=-aisgP0orjsHOM:&amp;tbnh=112&amp;tbnw=120&amp;prev=/images%3Fq%3Dswasticka%26hl%3Den%26safe%3Dactive%26rlz%3D1T4SUNA_enUS347US343%26um%3D1" TargetMode="External"/><Relationship Id="rId2" Type="http://schemas.openxmlformats.org/officeDocument/2006/relationships/image" Target="../media/image1.jpeg"/><Relationship Id="rId3" Type="http://schemas.openxmlformats.org/officeDocument/2006/relationships/hyperlink" Target="http://images.google.com/imgres?imgurl=http://people.eku.edu/pedersonn/mongoliaFire/american-flag.gif&amp;imgrefurl=http://people.eku.edu/pedersonn/mongoliaFire/&amp;usg=__dFmFSY8WoVQqapIlVHiMo9blZx8=&amp;h=331&amp;w=470&amp;sz=8&amp;hl=en&amp;start=6&amp;um=1&amp;tbnid=10x5gTu5GmmOHM:&amp;tbnh=91&amp;tbnw=129&amp;prev=/images%3Fq%3Damerican%2Bflag%26hl%3Den%26safe%3Dactive%26rlz%3D1T4SUNA_enUS347US343%26um%3D1" TargetMode="External"/><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4.bp.blogspot.com/_mg7D3kYysfw/SW2XFRKDc9I/AAAAAAAALew/hJW4Ron5qVs/s400/swastika.png&amp;imgrefurl=http://wwiihistory-b4.blogspot.com/2009/02/hitler-and-nazis_25.html&amp;usg=__6zHZZLBKTT-cIA-EpNWXgMPk7mY=&amp;h=323&amp;w=345&amp;sz=8&amp;hl=en&amp;start=9&amp;um=1&amp;tbnid=-aisgP0orjsHOM:&amp;tbnh=112&amp;tbnw=120&amp;prev=/images%3Fq%3Dswasticka%26hl%3Den%26safe%3Dactive%26rlz%3D1T4SUNA_enUS347US343%26um%3D1"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File:Bundesarchiv_Bild_183-H1216-0500-002,_Adolf_Hitler.jp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48a54"/>
                </a:solidFill>
                <a:latin typeface="Calibri"/>
              </a:rPr>
              <a:t>World War II</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Charlie S.</a:t>
            </a:r>
            <a:endParaRPr b="0" lang="en-US" sz="3200" spc="-1" strike="noStrike">
              <a:solidFill>
                <a:srgbClr val="000000"/>
              </a:solidFill>
              <a:latin typeface="Calibri"/>
            </a:endParaRPr>
          </a:p>
        </p:txBody>
      </p:sp>
      <p:pic>
        <p:nvPicPr>
          <p:cNvPr id="43" name="Picture 4" descr="http://t0.gstatic.com/images?q=tbn:-aisgP0orjsHOM%3Ahttp://4.bp.blogspot.com/_mg7D3kYysfw/SW2XFRKDc9I/AAAAAAAALew/hJW4Ron5qVs/s400/swastika.png">
            <a:hlinkClick r:id="rId1"/>
          </p:cNvPr>
          <p:cNvPicPr/>
          <p:nvPr/>
        </p:nvPicPr>
        <p:blipFill>
          <a:blip r:embed="rId2"/>
          <a:stretch/>
        </p:blipFill>
        <p:spPr>
          <a:xfrm>
            <a:off x="380880" y="2514600"/>
            <a:ext cx="2449800" cy="2286000"/>
          </a:xfrm>
          <a:prstGeom prst="rect">
            <a:avLst/>
          </a:prstGeom>
          <a:ln w="0">
            <a:noFill/>
          </a:ln>
        </p:spPr>
      </p:pic>
      <p:pic>
        <p:nvPicPr>
          <p:cNvPr id="44" name="Picture 6" descr="http://t1.gstatic.com/images?q=tbn:10x5gTu5GmmOHM%3Ahttp://people.eku.edu/pedersonn/mongoliaFire/american-flag.gif">
            <a:hlinkClick r:id="rId3"/>
          </p:cNvPr>
          <p:cNvPicPr/>
          <p:nvPr/>
        </p:nvPicPr>
        <p:blipFill>
          <a:blip r:embed="rId4"/>
          <a:stretch/>
        </p:blipFill>
        <p:spPr>
          <a:xfrm>
            <a:off x="6400800" y="2590920"/>
            <a:ext cx="2525760" cy="178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4" descr="http://t0.gstatic.com/images?q=tbn:-aisgP0orjsHOM%3Ahttp://4.bp.blogspot.com/_mg7D3kYysfw/SW2XFRKDc9I/AAAAAAAALew/hJW4Ron5qVs/s400/swastika.png">
            <a:hlinkClick r:id="rId1"/>
          </p:cNvPr>
          <p:cNvPicPr/>
          <p:nvPr/>
        </p:nvPicPr>
        <p:blipFill>
          <a:blip r:embed="rId2"/>
          <a:stretch/>
        </p:blipFill>
        <p:spPr>
          <a:xfrm>
            <a:off x="533520" y="1676520"/>
            <a:ext cx="3592440" cy="3352680"/>
          </a:xfrm>
          <a:prstGeom prst="rect">
            <a:avLst/>
          </a:prstGeom>
          <a:ln w="0">
            <a:noFill/>
          </a:ln>
        </p:spPr>
      </p:pic>
      <p:sp>
        <p:nvSpPr>
          <p:cNvPr id="46" name="TextBox 6"/>
          <p:cNvSpPr/>
          <p:nvPr/>
        </p:nvSpPr>
        <p:spPr>
          <a:xfrm>
            <a:off x="4572000" y="0"/>
            <a:ext cx="403848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wastika symbol was the image used on the flag for the Nazi’s. There still are </a:t>
            </a:r>
            <a:r>
              <a:rPr b="1" lang="en-US" sz="2800" spc="-1" strike="noStrike">
                <a:solidFill>
                  <a:srgbClr val="000000"/>
                </a:solidFill>
                <a:latin typeface="Calibri"/>
              </a:rPr>
              <a:t>neo</a:t>
            </a:r>
            <a:r>
              <a:rPr b="0" lang="en-US" sz="2800" spc="-1" strike="noStrike">
                <a:solidFill>
                  <a:srgbClr val="000000"/>
                </a:solidFill>
                <a:latin typeface="Calibri"/>
              </a:rPr>
              <a:t>-Nazi's in countries today. But the German Nazi’s leader, Adolf Hitler, has died long ago. When he saw his plan was failing, and America and Russia were closing in on him, he shot himself and died on April 30</a:t>
            </a:r>
            <a:r>
              <a:rPr b="0" lang="en-US" sz="2800" spc="-1" strike="noStrike" baseline="30000">
                <a:solidFill>
                  <a:srgbClr val="000000"/>
                </a:solidFill>
                <a:latin typeface="Calibri"/>
              </a:rPr>
              <a:t>th</a:t>
            </a:r>
            <a:r>
              <a:rPr b="0" lang="en-US" sz="2800" spc="-1" strike="noStrike">
                <a:solidFill>
                  <a:srgbClr val="000000"/>
                </a:solidFill>
                <a:latin typeface="Calibri"/>
              </a:rPr>
              <a:t>, 1945. The countries that were in the Axis were:   Germany, Japan, and Italy.</a:t>
            </a:r>
            <a:endParaRPr b="0" lang="en-US" sz="2800" spc="-1" strike="noStrike">
              <a:solidFill>
                <a:srgbClr val="000000"/>
              </a:solidFill>
              <a:latin typeface="Calibri"/>
            </a:endParaRPr>
          </a:p>
        </p:txBody>
      </p:sp>
      <p:sp>
        <p:nvSpPr>
          <p:cNvPr id="47" name="TextBox 7"/>
          <p:cNvSpPr/>
          <p:nvPr/>
        </p:nvSpPr>
        <p:spPr>
          <a:xfrm>
            <a:off x="762120" y="609480"/>
            <a:ext cx="31240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The Swastik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http://upload.wikimedia.org/wikipedia/commons/thumb/a/ab/Bundesarchiv_Bild_183-H1216-0500-002%2C_Adolf_Hitler.jpg/225px-Bundesarchiv_Bild_183-H1216-0500-002%2C_Adolf_Hitler.jpg">
            <a:hlinkClick r:id="rId1"/>
          </p:cNvPr>
          <p:cNvPicPr/>
          <p:nvPr/>
        </p:nvPicPr>
        <p:blipFill>
          <a:blip r:embed="rId2"/>
          <a:stretch/>
        </p:blipFill>
        <p:spPr>
          <a:xfrm>
            <a:off x="838080" y="1600200"/>
            <a:ext cx="2143080" cy="3247920"/>
          </a:xfrm>
          <a:prstGeom prst="rect">
            <a:avLst/>
          </a:prstGeom>
          <a:ln w="0">
            <a:noFill/>
          </a:ln>
        </p:spPr>
      </p:pic>
      <p:sp>
        <p:nvSpPr>
          <p:cNvPr id="49" name="TextBox 2"/>
          <p:cNvSpPr/>
          <p:nvPr/>
        </p:nvSpPr>
        <p:spPr>
          <a:xfrm>
            <a:off x="4800600" y="457200"/>
            <a:ext cx="3733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tler was the leader of the Germans and the overall Axis. He was born April 20</a:t>
            </a:r>
            <a:r>
              <a:rPr b="0" lang="en-US" sz="1800" spc="-1" strike="noStrike" baseline="30000">
                <a:solidFill>
                  <a:srgbClr val="000000"/>
                </a:solidFill>
                <a:latin typeface="Calibri"/>
              </a:rPr>
              <a:t>th</a:t>
            </a:r>
            <a:r>
              <a:rPr b="0" lang="en-US" sz="1800" spc="-1" strike="noStrike">
                <a:solidFill>
                  <a:srgbClr val="000000"/>
                </a:solidFill>
                <a:latin typeface="Calibri"/>
              </a:rPr>
              <a:t>, 1889.</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Box 3"/>
          <p:cNvSpPr/>
          <p:nvPr/>
        </p:nvSpPr>
        <p:spPr>
          <a:xfrm>
            <a:off x="0" y="0"/>
            <a:ext cx="9144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Referenc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http://en.wikipedia.org/wiki/File:Bundesarchiv_Bild_183-H1216-0500-002,_Adolf_Hitler.jpg</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http://4.bp.blogspot.com/_mg7D3kYysfw/SW2XFRKDc9I/AAAAAAAALew/hJW4Ron5qVs/s400/swastika.png</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http://people.eku.edu/pedersonn/mongoliaFire/american-flag.gif</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17:43:52Z</dcterms:created>
  <dc:creator>ITSUser</dc:creator>
  <dc:description/>
  <dc:language>en-US</dc:language>
  <cp:lastModifiedBy>ITSUser</cp:lastModifiedBy>
  <dcterms:modified xsi:type="dcterms:W3CDTF">2010-01-07T18:40:29Z</dcterms:modified>
  <cp:revision>6</cp:revision>
  <dc:subject/>
  <dc:title>World War II</dc:title>
</cp:coreProperties>
</file>