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B3F9B-A4C1-4FA0-AEF9-BF4C7AB75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46FAC-AAB0-4575-9B7E-4ECBB7C74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51CD4-2492-4CAF-828B-486AE43B8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7F297-4428-4F6E-A0A7-8DDE64986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5054F-7680-4D5D-A2D2-5A243B8D3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0E360-0118-40DB-8C70-5C63E50BE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B7177-4198-4439-88C3-C55498CDA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115F3-D7BE-4957-A508-0A0E02EE5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2E497-87C0-4DA7-854A-407385381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B9F99-45AC-42F8-9DD6-7D9CDCF54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280D1-C31A-4062-BE0E-FCECCE707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C4DA4-0B06-4547-A64F-8450CD53B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2F79-48E3-4A32-8D9E-4618FE255B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hyperlink" Target="http://images.google.com/imgres?imgurl=http://people.eku.edu/pedersonn/mongoliaFire/american-flag.gif&amp;imgrefurl=http://people.eku.edu/pedersonn/mongoliaFire/&amp;usg=__dFmFSY8WoVQqapIlVHiMo9blZx8=&amp;h=331&amp;w=470&amp;sz=8&amp;hl=en&amp;start=6&amp;um=1&amp;tbnid=10x5gTu5GmmOHM:&amp;tbnh=91&amp;tbnw=129&amp;prev=/images%3Fq%3Damerican%2Bflag%26hl%3Den%26safe%3Dactive%26rlz%3D1T4SUNA_enUS347US343%26um%3D1"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Bundesarchiv_Bild_183-H1216-0500-002,_Adolf_Hitle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48a54"/>
                </a:solidFill>
                <a:latin typeface="Calibri"/>
              </a:rPr>
              <a:t>World War I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harlie S.</a:t>
            </a:r>
            <a:endParaRPr b="0" lang="en-US" sz="3200" spc="-1" strike="noStrike">
              <a:solidFill>
                <a:srgbClr val="000000"/>
              </a:solidFill>
              <a:latin typeface="Calibri"/>
            </a:endParaRPr>
          </a:p>
        </p:txBody>
      </p:sp>
      <p:pic>
        <p:nvPicPr>
          <p:cNvPr id="43" name="Picture 4" descr="http://t0.gstatic.com/images?q=tbn:-aisgP0orjsHOM%3Ahttp://4.bp.blogspot.com/_mg7D3kYysfw/SW2XFRKDc9I/AAAAAAAALew/hJW4Ron5qVs/s400/swastika.png">
            <a:hlinkClick r:id="rId1"/>
          </p:cNvPr>
          <p:cNvPicPr/>
          <p:nvPr/>
        </p:nvPicPr>
        <p:blipFill>
          <a:blip r:embed="rId2"/>
          <a:stretch/>
        </p:blipFill>
        <p:spPr>
          <a:xfrm>
            <a:off x="380880" y="2514600"/>
            <a:ext cx="2449800" cy="2286000"/>
          </a:xfrm>
          <a:prstGeom prst="rect">
            <a:avLst/>
          </a:prstGeom>
          <a:ln w="0">
            <a:noFill/>
          </a:ln>
        </p:spPr>
      </p:pic>
      <p:pic>
        <p:nvPicPr>
          <p:cNvPr id="44" name="Picture 6" descr="http://t1.gstatic.com/images?q=tbn:10x5gTu5GmmOHM%3Ahttp://people.eku.edu/pedersonn/mongoliaFire/american-flag.gif">
            <a:hlinkClick r:id="rId3"/>
          </p:cNvPr>
          <p:cNvPicPr/>
          <p:nvPr/>
        </p:nvPicPr>
        <p:blipFill>
          <a:blip r:embed="rId4"/>
          <a:stretch/>
        </p:blipFill>
        <p:spPr>
          <a:xfrm>
            <a:off x="6400800" y="2590920"/>
            <a:ext cx="252576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http://t0.gstatic.com/images?q=tbn:-aisgP0orjsHOM%3Ahttp://4.bp.blogspot.com/_mg7D3kYysfw/SW2XFRKDc9I/AAAAAAAALew/hJW4Ron5qVs/s400/swastika.png">
            <a:hlinkClick r:id="rId1"/>
          </p:cNvPr>
          <p:cNvPicPr/>
          <p:nvPr/>
        </p:nvPicPr>
        <p:blipFill>
          <a:blip r:embed="rId2"/>
          <a:stretch/>
        </p:blipFill>
        <p:spPr>
          <a:xfrm>
            <a:off x="533520" y="1676520"/>
            <a:ext cx="3592440" cy="3352680"/>
          </a:xfrm>
          <a:prstGeom prst="rect">
            <a:avLst/>
          </a:prstGeom>
          <a:ln w="0">
            <a:noFill/>
          </a:ln>
        </p:spPr>
      </p:pic>
      <p:sp>
        <p:nvSpPr>
          <p:cNvPr id="46" name="TextBox 6"/>
          <p:cNvSpPr/>
          <p:nvPr/>
        </p:nvSpPr>
        <p:spPr>
          <a:xfrm>
            <a:off x="4572000" y="0"/>
            <a:ext cx="4038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wastika symbol was the image used on the flag for the Nazi’s. There still are </a:t>
            </a:r>
            <a:r>
              <a:rPr b="1" lang="en-US" sz="2800" spc="-1" strike="noStrike">
                <a:solidFill>
                  <a:srgbClr val="000000"/>
                </a:solidFill>
                <a:latin typeface="Calibri"/>
              </a:rPr>
              <a:t>neo</a:t>
            </a:r>
            <a:r>
              <a:rPr b="0" lang="en-US" sz="2800" spc="-1" strike="noStrike">
                <a:solidFill>
                  <a:srgbClr val="000000"/>
                </a:solidFill>
                <a:latin typeface="Calibri"/>
              </a:rPr>
              <a:t>-Nazi's in countries today. But the German Nazi’s leader, Adolf Hitler, has died long ago. When he saw his plan was failing, and America and Russia were closing in on him, he shot himself and died on April 30</a:t>
            </a:r>
            <a:r>
              <a:rPr b="0" lang="en-US" sz="2800" spc="-1" strike="noStrike" baseline="30000">
                <a:solidFill>
                  <a:srgbClr val="000000"/>
                </a:solidFill>
                <a:latin typeface="Calibri"/>
              </a:rPr>
              <a:t>th</a:t>
            </a:r>
            <a:r>
              <a:rPr b="0" lang="en-US" sz="2800" spc="-1" strike="noStrike">
                <a:solidFill>
                  <a:srgbClr val="000000"/>
                </a:solidFill>
                <a:latin typeface="Calibri"/>
              </a:rPr>
              <a:t>, 1945. The countries that were in the Axis were:   Germany, Japan, and Italy.</a:t>
            </a:r>
            <a:endParaRPr b="0" lang="en-US" sz="2800" spc="-1" strike="noStrike">
              <a:solidFill>
                <a:srgbClr val="000000"/>
              </a:solidFill>
              <a:latin typeface="Calibri"/>
            </a:endParaRPr>
          </a:p>
        </p:txBody>
      </p:sp>
      <p:sp>
        <p:nvSpPr>
          <p:cNvPr id="47" name="TextBox 7"/>
          <p:cNvSpPr/>
          <p:nvPr/>
        </p:nvSpPr>
        <p:spPr>
          <a:xfrm>
            <a:off x="762120" y="609480"/>
            <a:ext cx="3124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wasti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upload.wikimedia.org/wikipedia/commons/thumb/a/ab/Bundesarchiv_Bild_183-H1216-0500-002%2C_Adolf_Hitler.jpg/225px-Bundesarchiv_Bild_183-H1216-0500-002%2C_Adolf_Hitler.jpg">
            <a:hlinkClick r:id="rId1"/>
          </p:cNvPr>
          <p:cNvPicPr/>
          <p:nvPr/>
        </p:nvPicPr>
        <p:blipFill>
          <a:blip r:embed="rId2"/>
          <a:stretch/>
        </p:blipFill>
        <p:spPr>
          <a:xfrm>
            <a:off x="838080" y="1600200"/>
            <a:ext cx="2143080" cy="3247920"/>
          </a:xfrm>
          <a:prstGeom prst="rect">
            <a:avLst/>
          </a:prstGeom>
          <a:ln w="0">
            <a:noFill/>
          </a:ln>
        </p:spPr>
      </p:pic>
      <p:sp>
        <p:nvSpPr>
          <p:cNvPr id="49" name="TextBox 2"/>
          <p:cNvSpPr/>
          <p:nvPr/>
        </p:nvSpPr>
        <p:spPr>
          <a:xfrm>
            <a:off x="4800600" y="4572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tler was the leader of the Germans and the overall Axis. He was born April 20</a:t>
            </a:r>
            <a:r>
              <a:rPr b="0" lang="en-US" sz="1800" spc="-1" strike="noStrike" baseline="30000">
                <a:solidFill>
                  <a:srgbClr val="000000"/>
                </a:solidFill>
                <a:latin typeface="Calibri"/>
              </a:rPr>
              <a:t>th</a:t>
            </a:r>
            <a:r>
              <a:rPr b="0" lang="en-US" sz="1800" spc="-1" strike="noStrike">
                <a:solidFill>
                  <a:srgbClr val="000000"/>
                </a:solidFill>
                <a:latin typeface="Calibri"/>
              </a:rPr>
              <a:t>, 188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en.wikipedia.org/wiki/File:Bundesarchiv_Bild_183-H1216-0500-002,_Adolf_Hitler.jp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4.bp.blogspot.com/_mg7D3kYysfw/SW2XFRKDc9I/AAAAAAAALew/hJW4Ron5qVs/s400/swastika.pn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people.eku.edu/pedersonn/mongoliaFire/american-flag.gi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3:52Z</dcterms:created>
  <dc:creator>ITSUser</dc:creator>
  <dc:description/>
  <dc:language>en-US</dc:language>
  <cp:lastModifiedBy>ITSUser</cp:lastModifiedBy>
  <dcterms:modified xsi:type="dcterms:W3CDTF">2010-01-07T18:40:29Z</dcterms:modified>
  <cp:revision>6</cp:revision>
  <dc:subject/>
  <dc:title>World War II</dc:title>
</cp:coreProperties>
</file>