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ndes-18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3A68-31E0-4289-88DC-DE5C675C3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770C-F7F4-426A-BC3E-4AB07256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948C-DD93-4476-8DB2-AD1E58F4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6F5-8C3D-4960-821E-F4D51404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AC3-B2F0-4BD9-A597-65CFCADC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2BF-5E57-42C3-9C71-D810476A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8EC-7E09-4F18-A648-AD321B2C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1C20-4959-4301-AFF4-DACC557F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134F-1AE5-4E4A-A5D3-46A99A11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919-6874-4EC1-9E51-3C88DF5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790-9685-4204-9D3C-9743388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6554-D84C-498A-9783-30DE112F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A525-154B-4B97-A895-5A6E0F3F3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ndes-18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436572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58920" y="2421000"/>
            <a:ext cx="68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Number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11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5877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8000" y="1052640"/>
            <a:ext cx="1800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6560" y="1052640"/>
            <a:ext cx="1440" cy="1728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48000" y="2781360"/>
            <a:ext cx="1728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076720" y="981000"/>
            <a:ext cx="1800" cy="367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4581360"/>
            <a:ext cx="1800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76720" y="3860640"/>
            <a:ext cx="647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76720" y="3860640"/>
            <a:ext cx="0" cy="720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4859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932360" y="26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859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932360" y="2924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27280" y="119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56000" y="25653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84360" y="4005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484360" y="4365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565440" y="47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9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500"/>
                            </p:stCondLst>
                            <p:childTnLst>
                              <p:par>
                                <p:cTn id="60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2500"/>
                            </p:stCondLst>
                            <p:childTnLst>
                              <p:par>
                                <p:cTn id="61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3500"/>
                            </p:stCondLst>
                            <p:childTnLst>
                              <p:par>
                                <p:cTn id="6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4500"/>
                            </p:stCondLst>
                            <p:childTnLst>
                              <p:par>
                                <p:cTn id="62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5500"/>
                            </p:stCondLst>
                            <p:childTnLst>
                              <p:par>
                                <p:cTn id="63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8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8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8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8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8500"/>
                            </p:stCondLst>
                            <p:childTnLst>
                              <p:par>
                                <p:cTn id="6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8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8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9500"/>
                            </p:stCondLst>
                            <p:childTnLst>
                              <p:par>
                                <p:cTn id="6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61128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26920" y="558972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19280" y="191628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And the most interesting and intelligent of all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755640" y="4653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7164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771640" y="1413000"/>
            <a:ext cx="3024360" cy="3384360"/>
          </a:xfrm>
          <a:prstGeom prst="ellipse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2852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Zero angle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0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4360" y="472428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187280" y="5805360"/>
            <a:ext cx="3816360" cy="38448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26920" y="1484280"/>
            <a:ext cx="7490160" cy="21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Moral of the 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Comic Sans MS"/>
              </a:rPr>
              <a:t>It is never late to lear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0000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564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2920" y="227664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hare it with your friends……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484280"/>
            <a:ext cx="813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numbers we write are made up of  algorithms, (1, 2, 3, 4, etc) called arabic </a:t>
            </a:r>
            <a:r>
              <a:rPr b="1" i="1" lang="es-AR" sz="3200" spc="-1" strike="noStrike">
                <a:solidFill>
                  <a:srgbClr val="008000"/>
                </a:solidFill>
                <a:latin typeface="Comic Sans MS"/>
              </a:rPr>
              <a:t>algorithms, to distinguish them from the roman algorithms</a:t>
            </a:r>
            <a:r>
              <a:rPr b="1" i="1" lang="es-AR" sz="3200" spc="-1" strike="noStrike" u="sng">
                <a:solidFill>
                  <a:srgbClr val="008000"/>
                </a:solidFill>
                <a:uFillTx/>
                <a:latin typeface="Comic Sans MS"/>
              </a:rPr>
              <a:t> </a:t>
            </a: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 (I; II; III; IV; etc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9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484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The arabs popularise these algorithms, but their origin goes back to the phenecian merchants that used them to count and do their commercial contabilit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5564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1700280"/>
            <a:ext cx="6480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Have you ever asked the question why 1 is “one”, 2 is “two”, 3 is “three”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4292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566100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03280" y="2205000"/>
            <a:ext cx="59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What is the logic that exist in the arabic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5280" y="450864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148428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Easy, very easy…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19280" y="256536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008000"/>
                </a:solidFill>
                <a:latin typeface="Comic Sans MS"/>
              </a:rPr>
              <a:t>There are angl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4508640"/>
            <a:ext cx="11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16000" y="5734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87280" y="234936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Comic Sans MS"/>
              </a:rPr>
              <a:t>Look at these algorithms written in their primitive form and check it up!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43700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6000" y="3213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777080" y="3213000"/>
            <a:ext cx="1366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00720" y="4292640"/>
            <a:ext cx="151128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93080" y="463248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55640" y="476280"/>
            <a:ext cx="79200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76360" y="476280"/>
            <a:ext cx="7128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932360" y="47628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4787640" y="476280"/>
            <a:ext cx="1368360" cy="2016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2492280"/>
            <a:ext cx="129672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3284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0000" y="5300640"/>
            <a:ext cx="129564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1186920" y="3284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4292640"/>
            <a:ext cx="1008360" cy="1008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35640" y="3141720"/>
            <a:ext cx="0" cy="2374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211640" y="450864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140000" y="3141720"/>
            <a:ext cx="1223640" cy="13669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971640" y="980640"/>
            <a:ext cx="4316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692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5219280" y="220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3429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1640" y="5157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476360" y="4292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788000" y="465264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292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48000" y="4365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292720" y="4365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8360" y="256536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1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637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2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544500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3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27640" y="551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8000"/>
                </a:solidFill>
                <a:latin typeface="Comic Sans MS"/>
              </a:rPr>
              <a:t>4 ang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8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3500"/>
                            </p:stCondLst>
                            <p:childTnLst>
                              <p:par>
                                <p:cTn id="22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500"/>
                            </p:stCondLst>
                            <p:childTnLst>
                              <p:par>
                                <p:cTn id="2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4581360"/>
            <a:ext cx="111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ffffff"/>
                </a:solidFill>
                <a:latin typeface="Arial"/>
              </a:rPr>
              <a:t>01345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20000" y="2637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9600" spc="-1" strike="noStrike">
                <a:solidFill>
                  <a:srgbClr val="b1a481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61440" y="2637000"/>
            <a:ext cx="13665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5000" spc="-1" strike="noStrike">
                <a:solidFill>
                  <a:srgbClr val="c7bea5"/>
                </a:solidFill>
                <a:latin typeface="Times New Roman"/>
                <a:ea typeface="Times New Roman"/>
              </a:rPr>
              <a:t>2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84720" y="3716280"/>
            <a:ext cx="151164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3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77080" y="4056120"/>
            <a:ext cx="1008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4000" spc="-1" strike="noStrike">
                <a:solidFill>
                  <a:srgbClr val="ffffcc"/>
                </a:solidFill>
                <a:latin typeface="Berlin Sans FB Demi"/>
              </a:rPr>
              <a:t>5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4360" y="5950080"/>
            <a:ext cx="3816360" cy="384120"/>
          </a:xfrm>
          <a:custGeom>
            <a:avLst/>
            <a:gdLst/>
            <a:ahLst/>
            <a:rect l="l" t="t" r="r" b="b"/>
            <a:pathLst>
              <a:path w="3447" h="250">
                <a:moveTo>
                  <a:pt x="0" y="151"/>
                </a:moveTo>
                <a:cubicBezTo>
                  <a:pt x="295" y="75"/>
                  <a:pt x="590" y="0"/>
                  <a:pt x="817" y="15"/>
                </a:cubicBezTo>
                <a:cubicBezTo>
                  <a:pt x="1044" y="30"/>
                  <a:pt x="1172" y="235"/>
                  <a:pt x="1361" y="242"/>
                </a:cubicBezTo>
                <a:cubicBezTo>
                  <a:pt x="1550" y="249"/>
                  <a:pt x="1770" y="60"/>
                  <a:pt x="1951" y="60"/>
                </a:cubicBezTo>
                <a:cubicBezTo>
                  <a:pt x="2132" y="60"/>
                  <a:pt x="2290" y="234"/>
                  <a:pt x="2449" y="242"/>
                </a:cubicBezTo>
                <a:cubicBezTo>
                  <a:pt x="2608" y="250"/>
                  <a:pt x="2737" y="106"/>
                  <a:pt x="2903" y="106"/>
                </a:cubicBezTo>
                <a:cubicBezTo>
                  <a:pt x="3069" y="106"/>
                  <a:pt x="3356" y="219"/>
                  <a:pt x="3447" y="242"/>
                </a:cubicBezTo>
              </a:path>
            </a:pathLst>
          </a:custGeom>
          <a:noFill/>
          <a:ln w="57240">
            <a:solidFill>
              <a:srgbClr val="b1a4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620640"/>
            <a:ext cx="0" cy="107964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70028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979640" y="1700280"/>
            <a:ext cx="0" cy="10810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71640" y="2781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971640" y="2276640"/>
            <a:ext cx="0" cy="50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84720" y="620640"/>
            <a:ext cx="0" cy="223200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84720" y="620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84720" y="285264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4720" y="1773360"/>
            <a:ext cx="1008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291280" y="1773360"/>
            <a:ext cx="1440" cy="107928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1332000" y="3500280"/>
            <a:ext cx="792000" cy="180036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3500280"/>
            <a:ext cx="115236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332000" y="4365720"/>
            <a:ext cx="792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5300640"/>
            <a:ext cx="5032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11640" y="3429000"/>
            <a:ext cx="122400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11640" y="5373720"/>
            <a:ext cx="1297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1640" y="3429000"/>
            <a:ext cx="122400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11640" y="3429000"/>
            <a:ext cx="1297080" cy="194472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901800" y="2852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5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3440" y="292428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6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537372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7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6160" y="551664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8000"/>
                </a:solidFill>
                <a:latin typeface="Arial"/>
              </a:rPr>
              <a:t>8 an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186920" y="83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18692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435564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514800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5148000" y="2708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71640" y="1916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1763280" y="263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2637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355640" y="162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0836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708360" y="2708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71640" y="3645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16000" y="4221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5157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834920" y="422100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1547640" y="5157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42920" y="4508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1763640" y="450864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148360" y="3573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08360" y="357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003280" y="436572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067280" y="4365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5148360" y="5229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08360" y="522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788000" y="414972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788000" y="4653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27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500"/>
                            </p:stCondLst>
                            <p:childTnLst>
                              <p:par>
                                <p:cTn id="28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3500"/>
                            </p:stCondLst>
                            <p:childTnLst>
                              <p:par>
                                <p:cTn id="2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5500"/>
                            </p:stCondLst>
                            <p:childTnLst>
                              <p:par>
                                <p:cTn id="30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3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"/>
                            </p:stCondLst>
                            <p:childTnLst>
                              <p:par>
                                <p:cTn id="35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4500"/>
                            </p:stCondLst>
                            <p:childTnLst>
                              <p:par>
                                <p:cTn id="3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5500"/>
                            </p:stCondLst>
                            <p:childTnLst>
                              <p:par>
                                <p:cTn id="37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6500"/>
                            </p:stCondLst>
                            <p:childTnLst>
                              <p:par>
                                <p:cTn id="3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4000"/>
                            </p:stCondLst>
                            <p:childTnLst>
                              <p:par>
                                <p:cTn id="4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6000"/>
                            </p:stCondLst>
                            <p:childTnLst>
                              <p:par>
                                <p:cTn id="4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8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000"/>
                            </p:stCondLst>
                            <p:childTnLst>
                              <p:par>
                                <p:cTn id="4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000"/>
                            </p:stCondLst>
                            <p:childTnLst>
                              <p:par>
                                <p:cTn id="49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4000"/>
                            </p:stCondLst>
                            <p:childTnLst>
                              <p:par>
                                <p:cTn id="51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8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7000"/>
                            </p:stCondLst>
                            <p:childTnLst>
                              <p:par>
                                <p:cTn id="540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8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8000"/>
                            </p:stCondLst>
                            <p:childTnLst>
                              <p:par>
                                <p:cTn id="54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9000"/>
                            </p:stCondLst>
                            <p:childTnLst>
                              <p:par>
                                <p:cTn id="5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37:10Z</dcterms:created>
  <dc:creator>TERM 3</dc:creator>
  <dc:description>Solo para uso didáctico</dc:description>
  <cp:keywords>curiosidades matemáticas</cp:keywords>
  <dc:language>en-US</dc:language>
  <cp:lastModifiedBy>Mereau</cp:lastModifiedBy>
  <dcterms:modified xsi:type="dcterms:W3CDTF">2009-01-29T06:08:31Z</dcterms:modified>
  <cp:revision>4</cp:revision>
  <dc:subject>Curiosidades</dc:subject>
  <dc:title>Diapositiva 1</dc:title>
</cp:coreProperties>
</file>