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ndes-18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74A-2960-477C-9ACD-75A7FA9C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689A-EE07-489F-8AD6-05B0CCF6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6B32-35F6-46C9-9837-2AF6B152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870-BC55-4A0B-8034-B5E453D2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8A9-CDF5-4999-AF07-9A2ACF1B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09E-F727-4369-8A7D-B2DC59FD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4FA-A726-48F1-80FE-6D8AA080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ED0-37F6-4A23-BA15-E69D69BE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2E76-9E54-43B8-8C02-97F9CA0F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B553-3E94-44D6-AD9F-B7AC9DA0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438-E8E1-4D77-A691-A346AAEC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375-97E3-4E7C-B2A4-259CC042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64FD-D9EF-4DC3-9397-F39194275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ndes-18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36572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42100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he Numb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11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5877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1052640"/>
            <a:ext cx="1800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6560" y="1052640"/>
            <a:ext cx="1440" cy="1728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2781360"/>
            <a:ext cx="1728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076720" y="981000"/>
            <a:ext cx="1800" cy="367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4581360"/>
            <a:ext cx="1800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60640"/>
            <a:ext cx="647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860640"/>
            <a:ext cx="0" cy="4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3860640"/>
            <a:ext cx="0" cy="720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859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932360" y="26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859280" y="44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932360" y="2924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27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2565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65440" y="4724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9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500"/>
                            </p:stCondLst>
                            <p:childTnLst>
                              <p:par>
                                <p:cTn id="6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6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8500"/>
                            </p:stCondLst>
                            <p:childTnLst>
                              <p:par>
                                <p:cTn id="6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9500"/>
                            </p:stCondLst>
                            <p:childTnLst>
                              <p:par>
                                <p:cTn id="6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1128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558972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9280" y="19162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And the most interesting and intelligent of all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5564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71640" y="1413000"/>
            <a:ext cx="3024360" cy="3384360"/>
          </a:xfrm>
          <a:prstGeom prst="ellipse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2852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Zero angl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4360" y="472428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87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1484280"/>
            <a:ext cx="749016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Comic Sans MS"/>
              </a:rPr>
              <a:t>Moral of the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8000"/>
                </a:solidFill>
                <a:latin typeface="Comic Sans MS"/>
              </a:rPr>
              <a:t>It is never late to lear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0000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227664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hare it with your friends…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48428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The numbers we write are made up of  algorithms, (1, 2, 3, 4, etc) called arabic </a:t>
            </a:r>
            <a:r>
              <a:rPr b="1" i="1" lang="es-AR" sz="3200" spc="-1" strike="noStrike">
                <a:solidFill>
                  <a:srgbClr val="008000"/>
                </a:solidFill>
                <a:latin typeface="Comic Sans MS"/>
              </a:rPr>
              <a:t>algorithms, to distinguish them from the roman algorithms</a:t>
            </a:r>
            <a:r>
              <a:rPr b="1" i="1" lang="es-AR" sz="3200" spc="-1" strike="noStrike" u="sng">
                <a:solidFill>
                  <a:srgbClr val="008000"/>
                </a:solidFill>
                <a:uFillTx/>
                <a:latin typeface="Comic Sans MS"/>
              </a:rPr>
              <a:t> 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 (I; II; III; IV;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48428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The arabs popularise these algorithms, but their origin goes back to the phenecian merchants that used them to count and do their commercial contabil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5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1700280"/>
            <a:ext cx="64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Have you ever asked the question why 1 is “one”, 2 is “two”, 3 is “three”…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4292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2205000"/>
            <a:ext cx="59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What is the logic that exist in the arabic algorith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484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Easy, very easy…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256536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8000"/>
                </a:solidFill>
                <a:latin typeface="Comic Sans MS"/>
              </a:rPr>
              <a:t>There are angl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450864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234936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Look at these algorithms written in their primitive form and check it up!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55640" y="476280"/>
            <a:ext cx="79200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476360" y="476280"/>
            <a:ext cx="7128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32360" y="47628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787640" y="476280"/>
            <a:ext cx="136836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2492280"/>
            <a:ext cx="1296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3284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300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86920" y="3284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4292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3141720"/>
            <a:ext cx="0" cy="2374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211640" y="450864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40000" y="3141720"/>
            <a:ext cx="1223640" cy="1366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71640" y="980640"/>
            <a:ext cx="431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692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19280" y="220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51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476360" y="4292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788000" y="4652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292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0" y="4365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29272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565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1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63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2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445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3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551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4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20000" y="2637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61440" y="2637000"/>
            <a:ext cx="1366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3716280"/>
            <a:ext cx="151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405612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620640"/>
            <a:ext cx="0" cy="107964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170028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1700280"/>
            <a:ext cx="0" cy="10810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2781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971640" y="2276640"/>
            <a:ext cx="0" cy="50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620640"/>
            <a:ext cx="0" cy="22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852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1773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1280" y="1773360"/>
            <a:ext cx="1440" cy="10792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332000" y="3500280"/>
            <a:ext cx="792000" cy="180036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500280"/>
            <a:ext cx="1152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365720"/>
            <a:ext cx="792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5300640"/>
            <a:ext cx="5032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342900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373720"/>
            <a:ext cx="1297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1640" y="3429000"/>
            <a:ext cx="122400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3429000"/>
            <a:ext cx="129708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1800" y="2852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5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3440" y="2924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6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5373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7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6160" y="5516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8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18692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8692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355640" y="76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148000" y="2708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9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763280" y="26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355640" y="162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08360" y="2708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422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1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834920" y="4221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54764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45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763640" y="4508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14836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003280" y="4365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7280" y="4365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148360" y="522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788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788000" y="465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50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500"/>
                            </p:stCondLst>
                            <p:childTnLst>
                              <p:par>
                                <p:cTn id="3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50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7000"/>
                            </p:stCondLst>
                            <p:childTnLst>
                              <p:par>
                                <p:cTn id="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37:10Z</dcterms:created>
  <dc:creator>TERM 3</dc:creator>
  <dc:description>Solo para uso didáctico</dc:description>
  <cp:keywords>curiosidades matemáticas</cp:keywords>
  <dc:language>en-US</dc:language>
  <cp:lastModifiedBy>Mereau</cp:lastModifiedBy>
  <dcterms:modified xsi:type="dcterms:W3CDTF">2009-01-29T06:08:31Z</dcterms:modified>
  <cp:revision>4</cp:revision>
  <dc:subject>Curiosidades</dc:subject>
  <dc:title>Diapositiva 1</dc:title>
</cp:coreProperties>
</file>