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ndes-18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5E4B-EDDA-4586-A7F3-476E2C5F8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4E3C-2FF6-4FD4-95BE-395D5822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AB56-F1EB-4703-A3D2-66175F408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4420-5393-4635-AF36-FCDFD0B28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C669-EB77-4F02-A514-53C324D3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E676-C408-4886-9497-B6F673340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A0BD-00CE-4045-95DD-A37CB895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D76F-E2E1-43A5-B9DC-41576BAC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C7F2-2EF3-42D4-898E-3E3FC0F0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71B6-05DB-4429-BD83-C8490F23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6D44-87F7-42F8-ABEA-5EB800CF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C0C3-2F86-4259-8027-26EF72F6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770C-79A7-4A82-AF69-E285DEC45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ndes-18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436572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2421000"/>
            <a:ext cx="68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he Numb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11280" y="4508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5877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1052640"/>
            <a:ext cx="180036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6560" y="1052640"/>
            <a:ext cx="1440" cy="1728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2781360"/>
            <a:ext cx="1728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076720" y="981000"/>
            <a:ext cx="1800" cy="367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4581360"/>
            <a:ext cx="1800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3860640"/>
            <a:ext cx="647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3860640"/>
            <a:ext cx="0" cy="43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3860640"/>
            <a:ext cx="0" cy="720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859280" y="119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932360" y="26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859280" y="44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932360" y="2924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27280" y="119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2565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4365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8000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65440" y="4724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9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3500"/>
                            </p:stCondLst>
                            <p:childTnLst>
                              <p:par>
                                <p:cTn id="6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4500"/>
                            </p:stCondLst>
                            <p:childTnLst>
                              <p:par>
                                <p:cTn id="6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500"/>
                            </p:stCondLst>
                            <p:childTnLst>
                              <p:par>
                                <p:cTn id="6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8500"/>
                            </p:stCondLst>
                            <p:childTnLst>
                              <p:par>
                                <p:cTn id="6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9500"/>
                            </p:stCondLst>
                            <p:childTnLst>
                              <p:par>
                                <p:cTn id="6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11280" y="4653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558972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19280" y="19162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And the most interesting and intelligent of all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55640" y="4653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71640" y="1413000"/>
            <a:ext cx="3024360" cy="3384360"/>
          </a:xfrm>
          <a:prstGeom prst="ellipse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2852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Zero angle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4360" y="472428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8728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6920" y="1484280"/>
            <a:ext cx="749016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Comic Sans MS"/>
              </a:rPr>
              <a:t>Moral of the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8000"/>
                </a:solidFill>
                <a:latin typeface="Comic Sans MS"/>
              </a:rPr>
              <a:t>It is never late to lear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00000" y="4581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5661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42920" y="227664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hare it with your friends…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148428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The numbers we write are made up of  algorithms, (1, 2, 3, 4, etc) called arabic </a:t>
            </a:r>
            <a:r>
              <a:rPr b="1" i="1" lang="es-AR" sz="3200" spc="-1" strike="noStrike">
                <a:solidFill>
                  <a:srgbClr val="008000"/>
                </a:solidFill>
                <a:latin typeface="Comic Sans MS"/>
              </a:rPr>
              <a:t>algorithms, to distinguish them from the roman algorithms</a:t>
            </a:r>
            <a:r>
              <a:rPr b="1" i="1" lang="es-AR" sz="3200" spc="-1" strike="noStrike" u="sng">
                <a:solidFill>
                  <a:srgbClr val="008000"/>
                </a:solidFill>
                <a:uFillTx/>
                <a:latin typeface="Comic Sans MS"/>
              </a:rPr>
              <a:t> </a:t>
            </a: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 (I; II; III; IV;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484280"/>
            <a:ext cx="734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The arabs popularise these algorithms, but their origin goes back to the phenecian merchants that used them to count and do their commercial contabili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564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1700280"/>
            <a:ext cx="64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Have you ever asked the question why 1 is “one”, 2 is “two”, 3 is “three”….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4292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5661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3280" y="2205000"/>
            <a:ext cx="59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What is the logic that exist in the arabic algorith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4508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48428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Easy, very easy…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256536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8000"/>
                </a:solidFill>
                <a:latin typeface="Comic Sans MS"/>
              </a:rPr>
              <a:t>There are angl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450864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6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2349360"/>
            <a:ext cx="66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Look at these algorithms written in their primitive form and check it up!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5950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55640" y="476280"/>
            <a:ext cx="79200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476360" y="476280"/>
            <a:ext cx="71280" cy="2016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932360" y="47628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787640" y="476280"/>
            <a:ext cx="1368360" cy="2016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2492280"/>
            <a:ext cx="1296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3284640"/>
            <a:ext cx="1295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5300640"/>
            <a:ext cx="1295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186920" y="3284640"/>
            <a:ext cx="100836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4292640"/>
            <a:ext cx="100836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3141720"/>
            <a:ext cx="0" cy="23749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211640" y="450864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140000" y="3141720"/>
            <a:ext cx="1223640" cy="13669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971640" y="980640"/>
            <a:ext cx="431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692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219280" y="220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34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5157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476360" y="4292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788000" y="4652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292360" y="35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0" y="4365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29272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2565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1 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637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2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5445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3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551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4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581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20000" y="2637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61440" y="2637000"/>
            <a:ext cx="1366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84720" y="3716280"/>
            <a:ext cx="1511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405612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5950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620640"/>
            <a:ext cx="0" cy="107964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170028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620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1700280"/>
            <a:ext cx="0" cy="10810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278136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971640" y="2276640"/>
            <a:ext cx="0" cy="50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620640"/>
            <a:ext cx="0" cy="223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84720" y="620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2852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177336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91280" y="1773360"/>
            <a:ext cx="1440" cy="10792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332000" y="3500280"/>
            <a:ext cx="792000" cy="180036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3500280"/>
            <a:ext cx="115236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4365720"/>
            <a:ext cx="792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5300640"/>
            <a:ext cx="5032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342900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5373720"/>
            <a:ext cx="1297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1640" y="3429000"/>
            <a:ext cx="1224000" cy="194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3429000"/>
            <a:ext cx="1297080" cy="194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1800" y="28526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5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13440" y="2924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6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5373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7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6160" y="55166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8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186920" y="83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8692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355640" y="76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148000" y="19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148000" y="2708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1916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763280" y="263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355640" y="1628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08360" y="2708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364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16000" y="422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5157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834920" y="422100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547640" y="5157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450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763640" y="4508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148360" y="357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08360" y="35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003280" y="4365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67280" y="4365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148360" y="522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08360" y="522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78800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788000" y="4653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500"/>
                            </p:stCondLst>
                            <p:childTnLst>
                              <p:par>
                                <p:cTn id="2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500"/>
                            </p:stCondLst>
                            <p:childTnLst>
                              <p:par>
                                <p:cTn id="3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3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500"/>
                            </p:stCondLst>
                            <p:childTnLst>
                              <p:par>
                                <p:cTn id="3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500"/>
                            </p:stCondLst>
                            <p:childTnLst>
                              <p:par>
                                <p:cTn id="3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500"/>
                            </p:stCondLst>
                            <p:childTnLst>
                              <p:par>
                                <p:cTn id="3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000"/>
                            </p:stCondLst>
                            <p:childTnLst>
                              <p:par>
                                <p:cTn id="4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5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7000"/>
                            </p:stCondLst>
                            <p:childTnLst>
                              <p:par>
                                <p:cTn id="5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37:10Z</dcterms:created>
  <dc:creator>TERM 3</dc:creator>
  <dc:description>Solo para uso didáctico</dc:description>
  <cp:keywords>curiosidades matemáticas</cp:keywords>
  <dc:language>en-US</dc:language>
  <cp:lastModifiedBy>Mereau</cp:lastModifiedBy>
  <dcterms:modified xsi:type="dcterms:W3CDTF">2009-01-29T06:08:31Z</dcterms:modified>
  <cp:revision>4</cp:revision>
  <dc:subject>Curiosidades</dc:subject>
  <dc:title>Diapositiva 1</dc:title>
</cp:coreProperties>
</file>