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Andes-18.wav" ContentType="audio/x-wav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C7BD-2311-4FB4-B190-F8C47773F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E3B0-E5CF-470B-B379-30E828580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DDA0-0FF5-40FE-9E46-939013A09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01F1-41F7-4F34-B065-EA547A93B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BBEE-CEB5-435A-89E5-2A6C557CB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3D8A-08DE-4E7F-BA76-30641CE3A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1838-A3D9-4A91-8163-BAD485BF7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605B-1CD1-40C9-84FC-52A69DE8E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94EC-DE6E-4DBB-8116-9512BEEC2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458A-83FC-485A-8C94-2638F23AC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D2C6-5747-4614-BD15-790C920AD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3533-5A74-4CDA-BBA6-492AB2148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A6106-4C4D-45A5-9179-34C205BDD2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Andes-18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4365720"/>
            <a:ext cx="11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013456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236000" y="3213000"/>
            <a:ext cx="79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600" spc="-1" strike="noStrike">
                <a:solidFill>
                  <a:srgbClr val="b1a481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777080" y="3213000"/>
            <a:ext cx="1366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0" spc="-1" strike="noStrike">
                <a:solidFill>
                  <a:srgbClr val="c7bea5"/>
                </a:solidFill>
                <a:latin typeface="Times New Roman"/>
                <a:ea typeface="Times New Roman"/>
              </a:rPr>
              <a:t>2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300720" y="4292640"/>
            <a:ext cx="151128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3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093080" y="4632480"/>
            <a:ext cx="10080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4000" spc="-1" strike="noStrike">
                <a:solidFill>
                  <a:srgbClr val="ffffcc"/>
                </a:solidFill>
                <a:latin typeface="Berlin Sans FB Demi"/>
              </a:rPr>
              <a:t>5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258920" y="2421000"/>
            <a:ext cx="6840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66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The Number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805360"/>
            <a:ext cx="3816360" cy="384480"/>
          </a:xfrm>
          <a:custGeom>
            <a:avLst/>
            <a:gdLst/>
            <a:ahLst/>
            <a:rect l="l" t="t" r="r" b="b"/>
            <a:pathLst>
              <a:path w="3447" h="250">
                <a:moveTo>
                  <a:pt x="0" y="151"/>
                </a:moveTo>
                <a:cubicBezTo>
                  <a:pt x="295" y="75"/>
                  <a:pt x="590" y="0"/>
                  <a:pt x="817" y="15"/>
                </a:cubicBezTo>
                <a:cubicBezTo>
                  <a:pt x="1044" y="30"/>
                  <a:pt x="1172" y="235"/>
                  <a:pt x="1361" y="242"/>
                </a:cubicBezTo>
                <a:cubicBezTo>
                  <a:pt x="1550" y="249"/>
                  <a:pt x="1770" y="60"/>
                  <a:pt x="1951" y="60"/>
                </a:cubicBezTo>
                <a:cubicBezTo>
                  <a:pt x="2132" y="60"/>
                  <a:pt x="2290" y="234"/>
                  <a:pt x="2449" y="242"/>
                </a:cubicBezTo>
                <a:cubicBezTo>
                  <a:pt x="2608" y="250"/>
                  <a:pt x="2737" y="106"/>
                  <a:pt x="2903" y="106"/>
                </a:cubicBezTo>
                <a:cubicBezTo>
                  <a:pt x="3069" y="106"/>
                  <a:pt x="3356" y="219"/>
                  <a:pt x="3447" y="242"/>
                </a:cubicBezTo>
              </a:path>
            </a:pathLst>
          </a:custGeom>
          <a:noFill/>
          <a:ln w="57240">
            <a:solidFill>
              <a:srgbClr val="b1a4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3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3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611280" y="4508640"/>
            <a:ext cx="11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013456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236000" y="3213000"/>
            <a:ext cx="79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600" spc="-1" strike="noStrike">
                <a:solidFill>
                  <a:srgbClr val="b1a481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777080" y="3213000"/>
            <a:ext cx="1366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0" spc="-1" strike="noStrike">
                <a:solidFill>
                  <a:srgbClr val="c7bea5"/>
                </a:solidFill>
                <a:latin typeface="Times New Roman"/>
                <a:ea typeface="Times New Roman"/>
              </a:rPr>
              <a:t>2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300720" y="4292640"/>
            <a:ext cx="151128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3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093080" y="4632480"/>
            <a:ext cx="10080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4000" spc="-1" strike="noStrike">
                <a:solidFill>
                  <a:srgbClr val="ffffcc"/>
                </a:solidFill>
                <a:latin typeface="Berlin Sans FB Demi"/>
              </a:rPr>
              <a:t>5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971640" y="5877000"/>
            <a:ext cx="3816360" cy="384120"/>
          </a:xfrm>
          <a:custGeom>
            <a:avLst/>
            <a:gdLst/>
            <a:ahLst/>
            <a:rect l="l" t="t" r="r" b="b"/>
            <a:pathLst>
              <a:path w="3447" h="250">
                <a:moveTo>
                  <a:pt x="0" y="151"/>
                </a:moveTo>
                <a:cubicBezTo>
                  <a:pt x="295" y="75"/>
                  <a:pt x="590" y="0"/>
                  <a:pt x="817" y="15"/>
                </a:cubicBezTo>
                <a:cubicBezTo>
                  <a:pt x="1044" y="30"/>
                  <a:pt x="1172" y="235"/>
                  <a:pt x="1361" y="242"/>
                </a:cubicBezTo>
                <a:cubicBezTo>
                  <a:pt x="1550" y="249"/>
                  <a:pt x="1770" y="60"/>
                  <a:pt x="1951" y="60"/>
                </a:cubicBezTo>
                <a:cubicBezTo>
                  <a:pt x="2132" y="60"/>
                  <a:pt x="2290" y="234"/>
                  <a:pt x="2449" y="242"/>
                </a:cubicBezTo>
                <a:cubicBezTo>
                  <a:pt x="2608" y="250"/>
                  <a:pt x="2737" y="106"/>
                  <a:pt x="2903" y="106"/>
                </a:cubicBezTo>
                <a:cubicBezTo>
                  <a:pt x="3069" y="106"/>
                  <a:pt x="3356" y="219"/>
                  <a:pt x="3447" y="242"/>
                </a:cubicBezTo>
              </a:path>
            </a:pathLst>
          </a:custGeom>
          <a:noFill/>
          <a:ln w="57240">
            <a:solidFill>
              <a:srgbClr val="b1a4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348000" y="1052640"/>
            <a:ext cx="180036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346560" y="1052640"/>
            <a:ext cx="1440" cy="172872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348000" y="2781360"/>
            <a:ext cx="172872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5076720" y="981000"/>
            <a:ext cx="1800" cy="367200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276720" y="4581360"/>
            <a:ext cx="180000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276720" y="3860640"/>
            <a:ext cx="64764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924360" y="3860640"/>
            <a:ext cx="0" cy="43200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276720" y="3860640"/>
            <a:ext cx="0" cy="72072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4859280" y="119700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4932360" y="263700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4859280" y="443700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4932360" y="292428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627280" y="119700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556000" y="256536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484360" y="400536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484360" y="436572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780000" y="3429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565440" y="472428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8000"/>
                </a:solidFill>
                <a:latin typeface="Arial"/>
              </a:rPr>
              <a:t>9 ang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0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500"/>
                            </p:stCondLst>
                            <p:childTnLst>
                              <p:par>
                                <p:cTn id="59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4" dur="8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5" dur="8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8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8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1500"/>
                            </p:stCondLst>
                            <p:childTnLst>
                              <p:par>
                                <p:cTn id="60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8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4" dur="8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8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8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2500"/>
                            </p:stCondLst>
                            <p:childTnLst>
                              <p:par>
                                <p:cTn id="61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8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3" dur="8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8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8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3500"/>
                            </p:stCondLst>
                            <p:childTnLst>
                              <p:par>
                                <p:cTn id="61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1" dur="8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2" dur="8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8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8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4500"/>
                            </p:stCondLst>
                            <p:childTnLst>
                              <p:par>
                                <p:cTn id="62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8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1" dur="8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8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8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5500"/>
                            </p:stCondLst>
                            <p:childTnLst>
                              <p:par>
                                <p:cTn id="63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9" dur="8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0" dur="8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8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8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6500"/>
                            </p:stCondLst>
                            <p:childTnLst>
                              <p:par>
                                <p:cTn id="64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8" dur="8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9" dur="8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8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8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7500"/>
                            </p:stCondLst>
                            <p:childTnLst>
                              <p:par>
                                <p:cTn id="65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7" dur="8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8" dur="8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8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8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8500"/>
                            </p:stCondLst>
                            <p:childTnLst>
                              <p:par>
                                <p:cTn id="66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6" dur="8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7" dur="8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8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8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9500"/>
                            </p:stCondLst>
                            <p:childTnLst>
                              <p:par>
                                <p:cTn id="67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5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611280" y="4653000"/>
            <a:ext cx="11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013456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236000" y="3213000"/>
            <a:ext cx="79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600" spc="-1" strike="noStrike">
                <a:solidFill>
                  <a:srgbClr val="b1a481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7080" y="3213000"/>
            <a:ext cx="1366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0" spc="-1" strike="noStrike">
                <a:solidFill>
                  <a:srgbClr val="c7bea5"/>
                </a:solidFill>
                <a:latin typeface="Times New Roman"/>
                <a:ea typeface="Times New Roman"/>
              </a:rPr>
              <a:t>2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00720" y="4292640"/>
            <a:ext cx="151128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3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093080" y="4632480"/>
            <a:ext cx="10080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4000" spc="-1" strike="noStrike">
                <a:solidFill>
                  <a:srgbClr val="ffffcc"/>
                </a:solidFill>
                <a:latin typeface="Berlin Sans FB Demi"/>
              </a:rPr>
              <a:t>5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26920" y="5589720"/>
            <a:ext cx="3816360" cy="384120"/>
          </a:xfrm>
          <a:custGeom>
            <a:avLst/>
            <a:gdLst/>
            <a:ahLst/>
            <a:rect l="l" t="t" r="r" b="b"/>
            <a:pathLst>
              <a:path w="3447" h="250">
                <a:moveTo>
                  <a:pt x="0" y="151"/>
                </a:moveTo>
                <a:cubicBezTo>
                  <a:pt x="295" y="75"/>
                  <a:pt x="590" y="0"/>
                  <a:pt x="817" y="15"/>
                </a:cubicBezTo>
                <a:cubicBezTo>
                  <a:pt x="1044" y="30"/>
                  <a:pt x="1172" y="235"/>
                  <a:pt x="1361" y="242"/>
                </a:cubicBezTo>
                <a:cubicBezTo>
                  <a:pt x="1550" y="249"/>
                  <a:pt x="1770" y="60"/>
                  <a:pt x="1951" y="60"/>
                </a:cubicBezTo>
                <a:cubicBezTo>
                  <a:pt x="2132" y="60"/>
                  <a:pt x="2290" y="234"/>
                  <a:pt x="2449" y="242"/>
                </a:cubicBezTo>
                <a:cubicBezTo>
                  <a:pt x="2608" y="250"/>
                  <a:pt x="2737" y="106"/>
                  <a:pt x="2903" y="106"/>
                </a:cubicBezTo>
                <a:cubicBezTo>
                  <a:pt x="3069" y="106"/>
                  <a:pt x="3356" y="219"/>
                  <a:pt x="3447" y="242"/>
                </a:cubicBezTo>
              </a:path>
            </a:pathLst>
          </a:custGeom>
          <a:noFill/>
          <a:ln w="57240">
            <a:solidFill>
              <a:srgbClr val="b1a4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619280" y="1916280"/>
            <a:ext cx="655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8000"/>
                </a:solidFill>
                <a:latin typeface="Comic Sans MS"/>
              </a:rPr>
              <a:t>And the most interesting and intelligent of all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fill="hold">
                      <p:stCondLst>
                        <p:cond delay="0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5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755640" y="4653000"/>
            <a:ext cx="11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013456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236000" y="3213000"/>
            <a:ext cx="79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600" spc="-1" strike="noStrike">
                <a:solidFill>
                  <a:srgbClr val="b1a481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7080" y="3213000"/>
            <a:ext cx="1366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0" spc="-1" strike="noStrike">
                <a:solidFill>
                  <a:srgbClr val="c7bea5"/>
                </a:solidFill>
                <a:latin typeface="Times New Roman"/>
                <a:ea typeface="Times New Roman"/>
              </a:rPr>
              <a:t>2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300720" y="4292640"/>
            <a:ext cx="151128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3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093080" y="4632480"/>
            <a:ext cx="10080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4000" spc="-1" strike="noStrike">
                <a:solidFill>
                  <a:srgbClr val="ffffcc"/>
                </a:solidFill>
                <a:latin typeface="Berlin Sans FB Demi"/>
              </a:rPr>
              <a:t>5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71640" y="5805360"/>
            <a:ext cx="3816360" cy="384480"/>
          </a:xfrm>
          <a:custGeom>
            <a:avLst/>
            <a:gdLst/>
            <a:ahLst/>
            <a:rect l="l" t="t" r="r" b="b"/>
            <a:pathLst>
              <a:path w="3447" h="250">
                <a:moveTo>
                  <a:pt x="0" y="151"/>
                </a:moveTo>
                <a:cubicBezTo>
                  <a:pt x="295" y="75"/>
                  <a:pt x="590" y="0"/>
                  <a:pt x="817" y="15"/>
                </a:cubicBezTo>
                <a:cubicBezTo>
                  <a:pt x="1044" y="30"/>
                  <a:pt x="1172" y="235"/>
                  <a:pt x="1361" y="242"/>
                </a:cubicBezTo>
                <a:cubicBezTo>
                  <a:pt x="1550" y="249"/>
                  <a:pt x="1770" y="60"/>
                  <a:pt x="1951" y="60"/>
                </a:cubicBezTo>
                <a:cubicBezTo>
                  <a:pt x="2132" y="60"/>
                  <a:pt x="2290" y="234"/>
                  <a:pt x="2449" y="242"/>
                </a:cubicBezTo>
                <a:cubicBezTo>
                  <a:pt x="2608" y="250"/>
                  <a:pt x="2737" y="106"/>
                  <a:pt x="2903" y="106"/>
                </a:cubicBezTo>
                <a:cubicBezTo>
                  <a:pt x="3069" y="106"/>
                  <a:pt x="3356" y="219"/>
                  <a:pt x="3447" y="242"/>
                </a:cubicBezTo>
              </a:path>
            </a:pathLst>
          </a:custGeom>
          <a:noFill/>
          <a:ln w="57240">
            <a:solidFill>
              <a:srgbClr val="b1a4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771640" y="1413000"/>
            <a:ext cx="3024360" cy="3384360"/>
          </a:xfrm>
          <a:prstGeom prst="ellipse">
            <a:avLst/>
          </a:prstGeom>
          <a:noFill/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916360" y="2852640"/>
            <a:ext cx="27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8000"/>
                </a:solidFill>
                <a:latin typeface="Comic Sans MS"/>
              </a:rPr>
              <a:t>Zero angle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fill="hold">
                      <p:stCondLst>
                        <p:cond delay="0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6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684360" y="4724280"/>
            <a:ext cx="11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013456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236000" y="3213000"/>
            <a:ext cx="79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600" spc="-1" strike="noStrike">
                <a:solidFill>
                  <a:srgbClr val="b1a481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777080" y="3213000"/>
            <a:ext cx="1366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0" spc="-1" strike="noStrike">
                <a:solidFill>
                  <a:srgbClr val="c7bea5"/>
                </a:solidFill>
                <a:latin typeface="Times New Roman"/>
                <a:ea typeface="Times New Roman"/>
              </a:rPr>
              <a:t>2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300720" y="4292640"/>
            <a:ext cx="151128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3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093080" y="4632480"/>
            <a:ext cx="10080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4000" spc="-1" strike="noStrike">
                <a:solidFill>
                  <a:srgbClr val="ffffcc"/>
                </a:solidFill>
                <a:latin typeface="Berlin Sans FB Demi"/>
              </a:rPr>
              <a:t>5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187280" y="5805360"/>
            <a:ext cx="3816360" cy="384480"/>
          </a:xfrm>
          <a:custGeom>
            <a:avLst/>
            <a:gdLst/>
            <a:ahLst/>
            <a:rect l="l" t="t" r="r" b="b"/>
            <a:pathLst>
              <a:path w="3447" h="250">
                <a:moveTo>
                  <a:pt x="0" y="151"/>
                </a:moveTo>
                <a:cubicBezTo>
                  <a:pt x="295" y="75"/>
                  <a:pt x="590" y="0"/>
                  <a:pt x="817" y="15"/>
                </a:cubicBezTo>
                <a:cubicBezTo>
                  <a:pt x="1044" y="30"/>
                  <a:pt x="1172" y="235"/>
                  <a:pt x="1361" y="242"/>
                </a:cubicBezTo>
                <a:cubicBezTo>
                  <a:pt x="1550" y="249"/>
                  <a:pt x="1770" y="60"/>
                  <a:pt x="1951" y="60"/>
                </a:cubicBezTo>
                <a:cubicBezTo>
                  <a:pt x="2132" y="60"/>
                  <a:pt x="2290" y="234"/>
                  <a:pt x="2449" y="242"/>
                </a:cubicBezTo>
                <a:cubicBezTo>
                  <a:pt x="2608" y="250"/>
                  <a:pt x="2737" y="106"/>
                  <a:pt x="2903" y="106"/>
                </a:cubicBezTo>
                <a:cubicBezTo>
                  <a:pt x="3069" y="106"/>
                  <a:pt x="3356" y="219"/>
                  <a:pt x="3447" y="242"/>
                </a:cubicBezTo>
              </a:path>
            </a:pathLst>
          </a:custGeom>
          <a:noFill/>
          <a:ln w="57240">
            <a:solidFill>
              <a:srgbClr val="b1a4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826920" y="1484280"/>
            <a:ext cx="7490160" cy="21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3200" spc="-1" strike="noStrike">
                <a:solidFill>
                  <a:srgbClr val="008000"/>
                </a:solidFill>
                <a:latin typeface="Comic Sans MS"/>
              </a:rPr>
              <a:t>Moral of the st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8000"/>
                </a:solidFill>
                <a:latin typeface="Comic Sans MS"/>
              </a:rPr>
              <a:t>It is never late to learn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fill="hold">
                      <p:stCondLst>
                        <p:cond delay="0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7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900000" y="4581360"/>
            <a:ext cx="11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013456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236000" y="3213000"/>
            <a:ext cx="79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600" spc="-1" strike="noStrike">
                <a:solidFill>
                  <a:srgbClr val="b1a481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777080" y="3213000"/>
            <a:ext cx="1366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0" spc="-1" strike="noStrike">
                <a:solidFill>
                  <a:srgbClr val="c7bea5"/>
                </a:solidFill>
                <a:latin typeface="Times New Roman"/>
                <a:ea typeface="Times New Roman"/>
              </a:rPr>
              <a:t>2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300720" y="4292640"/>
            <a:ext cx="151128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3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093080" y="4632480"/>
            <a:ext cx="10080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4000" spc="-1" strike="noStrike">
                <a:solidFill>
                  <a:srgbClr val="ffffcc"/>
                </a:solidFill>
                <a:latin typeface="Berlin Sans FB Demi"/>
              </a:rPr>
              <a:t>5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55640" y="5661000"/>
            <a:ext cx="3816360" cy="384120"/>
          </a:xfrm>
          <a:custGeom>
            <a:avLst/>
            <a:gdLst/>
            <a:ahLst/>
            <a:rect l="l" t="t" r="r" b="b"/>
            <a:pathLst>
              <a:path w="3447" h="250">
                <a:moveTo>
                  <a:pt x="0" y="151"/>
                </a:moveTo>
                <a:cubicBezTo>
                  <a:pt x="295" y="75"/>
                  <a:pt x="590" y="0"/>
                  <a:pt x="817" y="15"/>
                </a:cubicBezTo>
                <a:cubicBezTo>
                  <a:pt x="1044" y="30"/>
                  <a:pt x="1172" y="235"/>
                  <a:pt x="1361" y="242"/>
                </a:cubicBezTo>
                <a:cubicBezTo>
                  <a:pt x="1550" y="249"/>
                  <a:pt x="1770" y="60"/>
                  <a:pt x="1951" y="60"/>
                </a:cubicBezTo>
                <a:cubicBezTo>
                  <a:pt x="2132" y="60"/>
                  <a:pt x="2290" y="234"/>
                  <a:pt x="2449" y="242"/>
                </a:cubicBezTo>
                <a:cubicBezTo>
                  <a:pt x="2608" y="250"/>
                  <a:pt x="2737" y="106"/>
                  <a:pt x="2903" y="106"/>
                </a:cubicBezTo>
                <a:cubicBezTo>
                  <a:pt x="3069" y="106"/>
                  <a:pt x="3356" y="219"/>
                  <a:pt x="3447" y="242"/>
                </a:cubicBezTo>
              </a:path>
            </a:pathLst>
          </a:custGeom>
          <a:noFill/>
          <a:ln w="57240">
            <a:solidFill>
              <a:srgbClr val="b1a4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042920" y="2276640"/>
            <a:ext cx="741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6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Share it with your friends……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fill="hold">
                      <p:stCondLst>
                        <p:cond delay="0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4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8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9640" y="1484280"/>
            <a:ext cx="8136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8000"/>
                </a:solidFill>
                <a:latin typeface="Comic Sans MS"/>
              </a:rPr>
              <a:t>The numbers we write are made up of  algorithms, (1, 2, 3, 4, etc) called arabic </a:t>
            </a:r>
            <a:r>
              <a:rPr b="1" i="1" lang="es-AR" sz="3200" spc="-1" strike="noStrike">
                <a:solidFill>
                  <a:srgbClr val="008000"/>
                </a:solidFill>
                <a:latin typeface="Comic Sans MS"/>
              </a:rPr>
              <a:t>algorithms, to distinguish them from the roman algorithms</a:t>
            </a:r>
            <a:r>
              <a:rPr b="1" i="1" lang="es-AR" sz="3200" spc="-1" strike="noStrike" u="sng">
                <a:solidFill>
                  <a:srgbClr val="008000"/>
                </a:solidFill>
                <a:uFillTx/>
                <a:latin typeface="Comic Sans MS"/>
              </a:rPr>
              <a:t> </a:t>
            </a:r>
            <a:r>
              <a:rPr b="1" lang="es-AR" sz="3200" spc="-1" strike="noStrike">
                <a:solidFill>
                  <a:srgbClr val="008000"/>
                </a:solidFill>
                <a:latin typeface="Comic Sans MS"/>
              </a:rPr>
              <a:t> (I; II; III; IV; etc.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4437000"/>
            <a:ext cx="11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013456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236000" y="3213000"/>
            <a:ext cx="79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600" spc="-1" strike="noStrike">
                <a:solidFill>
                  <a:srgbClr val="b1a481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777080" y="3213000"/>
            <a:ext cx="1366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0" spc="-1" strike="noStrike">
                <a:solidFill>
                  <a:srgbClr val="c7bea5"/>
                </a:solidFill>
                <a:latin typeface="Times New Roman"/>
                <a:ea typeface="Times New Roman"/>
              </a:rPr>
              <a:t>2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300720" y="4292640"/>
            <a:ext cx="151128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3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093080" y="4632480"/>
            <a:ext cx="10080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4000" spc="-1" strike="noStrike">
                <a:solidFill>
                  <a:srgbClr val="ffffcc"/>
                </a:solidFill>
                <a:latin typeface="Berlin Sans FB Demi"/>
              </a:rPr>
              <a:t>5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26920" y="5734080"/>
            <a:ext cx="3816360" cy="384120"/>
          </a:xfrm>
          <a:custGeom>
            <a:avLst/>
            <a:gdLst/>
            <a:ahLst/>
            <a:rect l="l" t="t" r="r" b="b"/>
            <a:pathLst>
              <a:path w="3447" h="250">
                <a:moveTo>
                  <a:pt x="0" y="151"/>
                </a:moveTo>
                <a:cubicBezTo>
                  <a:pt x="295" y="75"/>
                  <a:pt x="590" y="0"/>
                  <a:pt x="817" y="15"/>
                </a:cubicBezTo>
                <a:cubicBezTo>
                  <a:pt x="1044" y="30"/>
                  <a:pt x="1172" y="235"/>
                  <a:pt x="1361" y="242"/>
                </a:cubicBezTo>
                <a:cubicBezTo>
                  <a:pt x="1550" y="249"/>
                  <a:pt x="1770" y="60"/>
                  <a:pt x="1951" y="60"/>
                </a:cubicBezTo>
                <a:cubicBezTo>
                  <a:pt x="2132" y="60"/>
                  <a:pt x="2290" y="234"/>
                  <a:pt x="2449" y="242"/>
                </a:cubicBezTo>
                <a:cubicBezTo>
                  <a:pt x="2608" y="250"/>
                  <a:pt x="2737" y="106"/>
                  <a:pt x="2903" y="106"/>
                </a:cubicBezTo>
                <a:cubicBezTo>
                  <a:pt x="3069" y="106"/>
                  <a:pt x="3356" y="219"/>
                  <a:pt x="3447" y="242"/>
                </a:cubicBezTo>
              </a:path>
            </a:pathLst>
          </a:custGeom>
          <a:noFill/>
          <a:ln w="57240">
            <a:solidFill>
              <a:srgbClr val="b1a4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39640" y="4437000"/>
            <a:ext cx="11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013456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236000" y="3213000"/>
            <a:ext cx="79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600" spc="-1" strike="noStrike">
                <a:solidFill>
                  <a:srgbClr val="b1a481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777080" y="3213000"/>
            <a:ext cx="1366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0" spc="-1" strike="noStrike">
                <a:solidFill>
                  <a:srgbClr val="c7bea5"/>
                </a:solidFill>
                <a:latin typeface="Times New Roman"/>
                <a:ea typeface="Times New Roman"/>
              </a:rPr>
              <a:t>2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300720" y="4292640"/>
            <a:ext cx="151128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3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093080" y="4632480"/>
            <a:ext cx="10080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4000" spc="-1" strike="noStrike">
                <a:solidFill>
                  <a:srgbClr val="ffffcc"/>
                </a:solidFill>
                <a:latin typeface="Berlin Sans FB Demi"/>
              </a:rPr>
              <a:t>5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55640" y="5734080"/>
            <a:ext cx="3816360" cy="384120"/>
          </a:xfrm>
          <a:custGeom>
            <a:avLst/>
            <a:gdLst/>
            <a:ahLst/>
            <a:rect l="l" t="t" r="r" b="b"/>
            <a:pathLst>
              <a:path w="3447" h="250">
                <a:moveTo>
                  <a:pt x="0" y="151"/>
                </a:moveTo>
                <a:cubicBezTo>
                  <a:pt x="295" y="75"/>
                  <a:pt x="590" y="0"/>
                  <a:pt x="817" y="15"/>
                </a:cubicBezTo>
                <a:cubicBezTo>
                  <a:pt x="1044" y="30"/>
                  <a:pt x="1172" y="235"/>
                  <a:pt x="1361" y="242"/>
                </a:cubicBezTo>
                <a:cubicBezTo>
                  <a:pt x="1550" y="249"/>
                  <a:pt x="1770" y="60"/>
                  <a:pt x="1951" y="60"/>
                </a:cubicBezTo>
                <a:cubicBezTo>
                  <a:pt x="2132" y="60"/>
                  <a:pt x="2290" y="234"/>
                  <a:pt x="2449" y="242"/>
                </a:cubicBezTo>
                <a:cubicBezTo>
                  <a:pt x="2608" y="250"/>
                  <a:pt x="2737" y="106"/>
                  <a:pt x="2903" y="106"/>
                </a:cubicBezTo>
                <a:cubicBezTo>
                  <a:pt x="3069" y="106"/>
                  <a:pt x="3356" y="219"/>
                  <a:pt x="3447" y="242"/>
                </a:cubicBezTo>
              </a:path>
            </a:pathLst>
          </a:custGeom>
          <a:noFill/>
          <a:ln w="57240">
            <a:solidFill>
              <a:srgbClr val="b1a4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55640" y="1484280"/>
            <a:ext cx="7345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8000"/>
                </a:solidFill>
                <a:latin typeface="Comic Sans MS"/>
              </a:rPr>
              <a:t>The arabs popularise these algorithms, but their origin goes back to the phenecian merchants that used them to count and do their commercial contability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755640" y="4437000"/>
            <a:ext cx="11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013456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236000" y="3213000"/>
            <a:ext cx="79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600" spc="-1" strike="noStrike">
                <a:solidFill>
                  <a:srgbClr val="b1a481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777080" y="3213000"/>
            <a:ext cx="1366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0" spc="-1" strike="noStrike">
                <a:solidFill>
                  <a:srgbClr val="c7bea5"/>
                </a:solidFill>
                <a:latin typeface="Times New Roman"/>
                <a:ea typeface="Times New Roman"/>
              </a:rPr>
              <a:t>2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300720" y="4292640"/>
            <a:ext cx="151128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3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93080" y="4632480"/>
            <a:ext cx="10080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4000" spc="-1" strike="noStrike">
                <a:solidFill>
                  <a:srgbClr val="ffffcc"/>
                </a:solidFill>
                <a:latin typeface="Berlin Sans FB Demi"/>
              </a:rPr>
              <a:t>5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900000" y="5734080"/>
            <a:ext cx="3816360" cy="384120"/>
          </a:xfrm>
          <a:custGeom>
            <a:avLst/>
            <a:gdLst/>
            <a:ahLst/>
            <a:rect l="l" t="t" r="r" b="b"/>
            <a:pathLst>
              <a:path w="3447" h="250">
                <a:moveTo>
                  <a:pt x="0" y="151"/>
                </a:moveTo>
                <a:cubicBezTo>
                  <a:pt x="295" y="75"/>
                  <a:pt x="590" y="0"/>
                  <a:pt x="817" y="15"/>
                </a:cubicBezTo>
                <a:cubicBezTo>
                  <a:pt x="1044" y="30"/>
                  <a:pt x="1172" y="235"/>
                  <a:pt x="1361" y="242"/>
                </a:cubicBezTo>
                <a:cubicBezTo>
                  <a:pt x="1550" y="249"/>
                  <a:pt x="1770" y="60"/>
                  <a:pt x="1951" y="60"/>
                </a:cubicBezTo>
                <a:cubicBezTo>
                  <a:pt x="2132" y="60"/>
                  <a:pt x="2290" y="234"/>
                  <a:pt x="2449" y="242"/>
                </a:cubicBezTo>
                <a:cubicBezTo>
                  <a:pt x="2608" y="250"/>
                  <a:pt x="2737" y="106"/>
                  <a:pt x="2903" y="106"/>
                </a:cubicBezTo>
                <a:cubicBezTo>
                  <a:pt x="3069" y="106"/>
                  <a:pt x="3356" y="219"/>
                  <a:pt x="3447" y="242"/>
                </a:cubicBezTo>
              </a:path>
            </a:pathLst>
          </a:custGeom>
          <a:noFill/>
          <a:ln w="57240">
            <a:solidFill>
              <a:srgbClr val="b1a4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403280" y="1700280"/>
            <a:ext cx="648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8000"/>
                </a:solidFill>
                <a:latin typeface="Comic Sans MS"/>
              </a:rPr>
              <a:t>Have you ever asked the question why 1 is “one”, 2 is “two”, 3 is “three”…..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84360" y="4292640"/>
            <a:ext cx="11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013456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6000" y="3213000"/>
            <a:ext cx="79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600" spc="-1" strike="noStrike">
                <a:solidFill>
                  <a:srgbClr val="b1a481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777080" y="3213000"/>
            <a:ext cx="1366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0" spc="-1" strike="noStrike">
                <a:solidFill>
                  <a:srgbClr val="c7bea5"/>
                </a:solidFill>
                <a:latin typeface="Times New Roman"/>
                <a:ea typeface="Times New Roman"/>
              </a:rPr>
              <a:t>2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300720" y="4292640"/>
            <a:ext cx="151128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3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093080" y="4632480"/>
            <a:ext cx="10080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4000" spc="-1" strike="noStrike">
                <a:solidFill>
                  <a:srgbClr val="ffffcc"/>
                </a:solidFill>
                <a:latin typeface="Berlin Sans FB Demi"/>
              </a:rPr>
              <a:t>5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26920" y="5661000"/>
            <a:ext cx="3816360" cy="384120"/>
          </a:xfrm>
          <a:custGeom>
            <a:avLst/>
            <a:gdLst/>
            <a:ahLst/>
            <a:rect l="l" t="t" r="r" b="b"/>
            <a:pathLst>
              <a:path w="3447" h="250">
                <a:moveTo>
                  <a:pt x="0" y="151"/>
                </a:moveTo>
                <a:cubicBezTo>
                  <a:pt x="295" y="75"/>
                  <a:pt x="590" y="0"/>
                  <a:pt x="817" y="15"/>
                </a:cubicBezTo>
                <a:cubicBezTo>
                  <a:pt x="1044" y="30"/>
                  <a:pt x="1172" y="235"/>
                  <a:pt x="1361" y="242"/>
                </a:cubicBezTo>
                <a:cubicBezTo>
                  <a:pt x="1550" y="249"/>
                  <a:pt x="1770" y="60"/>
                  <a:pt x="1951" y="60"/>
                </a:cubicBezTo>
                <a:cubicBezTo>
                  <a:pt x="2132" y="60"/>
                  <a:pt x="2290" y="234"/>
                  <a:pt x="2449" y="242"/>
                </a:cubicBezTo>
                <a:cubicBezTo>
                  <a:pt x="2608" y="250"/>
                  <a:pt x="2737" y="106"/>
                  <a:pt x="2903" y="106"/>
                </a:cubicBezTo>
                <a:cubicBezTo>
                  <a:pt x="3069" y="106"/>
                  <a:pt x="3356" y="219"/>
                  <a:pt x="3447" y="242"/>
                </a:cubicBezTo>
              </a:path>
            </a:pathLst>
          </a:custGeom>
          <a:noFill/>
          <a:ln w="57240">
            <a:solidFill>
              <a:srgbClr val="b1a4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03280" y="2205000"/>
            <a:ext cx="597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8000"/>
                </a:solidFill>
                <a:latin typeface="Comic Sans MS"/>
              </a:rPr>
              <a:t>What is the logic that exist in the arabic algorith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95280" y="4508640"/>
            <a:ext cx="11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013456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236000" y="3213000"/>
            <a:ext cx="79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600" spc="-1" strike="noStrike">
                <a:solidFill>
                  <a:srgbClr val="b1a481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777080" y="3213000"/>
            <a:ext cx="1366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0" spc="-1" strike="noStrike">
                <a:solidFill>
                  <a:srgbClr val="c7bea5"/>
                </a:solidFill>
                <a:latin typeface="Times New Roman"/>
                <a:ea typeface="Times New Roman"/>
              </a:rPr>
              <a:t>2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300720" y="4292640"/>
            <a:ext cx="151128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3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93080" y="4632480"/>
            <a:ext cx="10080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4000" spc="-1" strike="noStrike">
                <a:solidFill>
                  <a:srgbClr val="ffffcc"/>
                </a:solidFill>
                <a:latin typeface="Berlin Sans FB Demi"/>
              </a:rPr>
              <a:t>5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900000" y="5734080"/>
            <a:ext cx="3816360" cy="384120"/>
          </a:xfrm>
          <a:custGeom>
            <a:avLst/>
            <a:gdLst/>
            <a:ahLst/>
            <a:rect l="l" t="t" r="r" b="b"/>
            <a:pathLst>
              <a:path w="3447" h="250">
                <a:moveTo>
                  <a:pt x="0" y="151"/>
                </a:moveTo>
                <a:cubicBezTo>
                  <a:pt x="295" y="75"/>
                  <a:pt x="590" y="0"/>
                  <a:pt x="817" y="15"/>
                </a:cubicBezTo>
                <a:cubicBezTo>
                  <a:pt x="1044" y="30"/>
                  <a:pt x="1172" y="235"/>
                  <a:pt x="1361" y="242"/>
                </a:cubicBezTo>
                <a:cubicBezTo>
                  <a:pt x="1550" y="249"/>
                  <a:pt x="1770" y="60"/>
                  <a:pt x="1951" y="60"/>
                </a:cubicBezTo>
                <a:cubicBezTo>
                  <a:pt x="2132" y="60"/>
                  <a:pt x="2290" y="234"/>
                  <a:pt x="2449" y="242"/>
                </a:cubicBezTo>
                <a:cubicBezTo>
                  <a:pt x="2608" y="250"/>
                  <a:pt x="2737" y="106"/>
                  <a:pt x="2903" y="106"/>
                </a:cubicBezTo>
                <a:cubicBezTo>
                  <a:pt x="3069" y="106"/>
                  <a:pt x="3356" y="219"/>
                  <a:pt x="3447" y="242"/>
                </a:cubicBezTo>
              </a:path>
            </a:pathLst>
          </a:custGeom>
          <a:noFill/>
          <a:ln w="57240">
            <a:solidFill>
              <a:srgbClr val="b1a4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547640" y="148428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8000"/>
                </a:solidFill>
                <a:latin typeface="Comic Sans MS"/>
              </a:rPr>
              <a:t>Easy, very easy…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619280" y="2565360"/>
            <a:ext cx="540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5400" spc="-1" strike="noStrike">
                <a:solidFill>
                  <a:srgbClr val="008000"/>
                </a:solidFill>
                <a:latin typeface="Comic Sans MS"/>
              </a:rPr>
              <a:t>There are angles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826920" y="4508640"/>
            <a:ext cx="11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013456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236000" y="3213000"/>
            <a:ext cx="79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600" spc="-1" strike="noStrike">
                <a:solidFill>
                  <a:srgbClr val="b1a481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777080" y="3213000"/>
            <a:ext cx="1366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0" spc="-1" strike="noStrike">
                <a:solidFill>
                  <a:srgbClr val="c7bea5"/>
                </a:solidFill>
                <a:latin typeface="Times New Roman"/>
                <a:ea typeface="Times New Roman"/>
              </a:rPr>
              <a:t>2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00720" y="4292640"/>
            <a:ext cx="151128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3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093080" y="4632480"/>
            <a:ext cx="10080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4000" spc="-1" strike="noStrike">
                <a:solidFill>
                  <a:srgbClr val="ffffcc"/>
                </a:solidFill>
                <a:latin typeface="Berlin Sans FB Demi"/>
              </a:rPr>
              <a:t>5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116000" y="5734080"/>
            <a:ext cx="3816360" cy="384120"/>
          </a:xfrm>
          <a:custGeom>
            <a:avLst/>
            <a:gdLst/>
            <a:ahLst/>
            <a:rect l="l" t="t" r="r" b="b"/>
            <a:pathLst>
              <a:path w="3447" h="250">
                <a:moveTo>
                  <a:pt x="0" y="151"/>
                </a:moveTo>
                <a:cubicBezTo>
                  <a:pt x="295" y="75"/>
                  <a:pt x="590" y="0"/>
                  <a:pt x="817" y="15"/>
                </a:cubicBezTo>
                <a:cubicBezTo>
                  <a:pt x="1044" y="30"/>
                  <a:pt x="1172" y="235"/>
                  <a:pt x="1361" y="242"/>
                </a:cubicBezTo>
                <a:cubicBezTo>
                  <a:pt x="1550" y="249"/>
                  <a:pt x="1770" y="60"/>
                  <a:pt x="1951" y="60"/>
                </a:cubicBezTo>
                <a:cubicBezTo>
                  <a:pt x="2132" y="60"/>
                  <a:pt x="2290" y="234"/>
                  <a:pt x="2449" y="242"/>
                </a:cubicBezTo>
                <a:cubicBezTo>
                  <a:pt x="2608" y="250"/>
                  <a:pt x="2737" y="106"/>
                  <a:pt x="2903" y="106"/>
                </a:cubicBezTo>
                <a:cubicBezTo>
                  <a:pt x="3069" y="106"/>
                  <a:pt x="3356" y="219"/>
                  <a:pt x="3447" y="242"/>
                </a:cubicBezTo>
              </a:path>
            </a:pathLst>
          </a:custGeom>
          <a:noFill/>
          <a:ln w="57240">
            <a:solidFill>
              <a:srgbClr val="b1a4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87280" y="2349360"/>
            <a:ext cx="6697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8000"/>
                </a:solidFill>
                <a:latin typeface="Comic Sans MS"/>
              </a:rPr>
              <a:t>Look at these algorithms written in their primitive form and check it up!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4437000"/>
            <a:ext cx="11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013456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236000" y="3213000"/>
            <a:ext cx="79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600" spc="-1" strike="noStrike">
                <a:solidFill>
                  <a:srgbClr val="b1a481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777080" y="3213000"/>
            <a:ext cx="1366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0" spc="-1" strike="noStrike">
                <a:solidFill>
                  <a:srgbClr val="c7bea5"/>
                </a:solidFill>
                <a:latin typeface="Times New Roman"/>
                <a:ea typeface="Times New Roman"/>
              </a:rPr>
              <a:t>2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300720" y="4292640"/>
            <a:ext cx="151128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3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093080" y="4632480"/>
            <a:ext cx="10080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4000" spc="-1" strike="noStrike">
                <a:solidFill>
                  <a:srgbClr val="ffffcc"/>
                </a:solidFill>
                <a:latin typeface="Berlin Sans FB Demi"/>
              </a:rPr>
              <a:t>5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68360" y="5950080"/>
            <a:ext cx="3816360" cy="384120"/>
          </a:xfrm>
          <a:custGeom>
            <a:avLst/>
            <a:gdLst/>
            <a:ahLst/>
            <a:rect l="l" t="t" r="r" b="b"/>
            <a:pathLst>
              <a:path w="3447" h="250">
                <a:moveTo>
                  <a:pt x="0" y="151"/>
                </a:moveTo>
                <a:cubicBezTo>
                  <a:pt x="295" y="75"/>
                  <a:pt x="590" y="0"/>
                  <a:pt x="817" y="15"/>
                </a:cubicBezTo>
                <a:cubicBezTo>
                  <a:pt x="1044" y="30"/>
                  <a:pt x="1172" y="235"/>
                  <a:pt x="1361" y="242"/>
                </a:cubicBezTo>
                <a:cubicBezTo>
                  <a:pt x="1550" y="249"/>
                  <a:pt x="1770" y="60"/>
                  <a:pt x="1951" y="60"/>
                </a:cubicBezTo>
                <a:cubicBezTo>
                  <a:pt x="2132" y="60"/>
                  <a:pt x="2290" y="234"/>
                  <a:pt x="2449" y="242"/>
                </a:cubicBezTo>
                <a:cubicBezTo>
                  <a:pt x="2608" y="250"/>
                  <a:pt x="2737" y="106"/>
                  <a:pt x="2903" y="106"/>
                </a:cubicBezTo>
                <a:cubicBezTo>
                  <a:pt x="3069" y="106"/>
                  <a:pt x="3356" y="219"/>
                  <a:pt x="3447" y="242"/>
                </a:cubicBezTo>
              </a:path>
            </a:pathLst>
          </a:custGeom>
          <a:noFill/>
          <a:ln w="57240">
            <a:solidFill>
              <a:srgbClr val="b1a4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755640" y="476280"/>
            <a:ext cx="792000" cy="100800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1476360" y="476280"/>
            <a:ext cx="71280" cy="201600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4932360" y="476280"/>
            <a:ext cx="122400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4787640" y="476280"/>
            <a:ext cx="1368360" cy="201600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2492280"/>
            <a:ext cx="129672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900000" y="3284640"/>
            <a:ext cx="129564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00000" y="5300640"/>
            <a:ext cx="129564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1186920" y="3284640"/>
            <a:ext cx="1008360" cy="100800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187280" y="4292640"/>
            <a:ext cx="1008360" cy="100800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435640" y="3141720"/>
            <a:ext cx="0" cy="237492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4211640" y="4508640"/>
            <a:ext cx="122400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4140000" y="3141720"/>
            <a:ext cx="1223640" cy="136692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971640" y="980640"/>
            <a:ext cx="43164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0" y="69228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5219280" y="220500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26920" y="342900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71640" y="5157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1476360" y="429264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4788000" y="465264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5292360" y="357336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348000" y="436572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5292720" y="436572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8360" y="256536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8000"/>
                </a:solidFill>
                <a:latin typeface="Comic Sans MS"/>
              </a:rPr>
              <a:t>1 ang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0" y="263700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8000"/>
                </a:solidFill>
                <a:latin typeface="Comic Sans MS"/>
              </a:rPr>
              <a:t>2 ang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55640" y="544500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8000"/>
                </a:solidFill>
                <a:latin typeface="Comic Sans MS"/>
              </a:rPr>
              <a:t>3 ang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427640" y="551664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8000"/>
                </a:solidFill>
                <a:latin typeface="Comic Sans MS"/>
              </a:rPr>
              <a:t>4 ang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8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000"/>
                            </p:stCondLst>
                            <p:childTnLst>
                              <p:par>
                                <p:cTn id="9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8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8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8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8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8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8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8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8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8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8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8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8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500"/>
                            </p:stCondLst>
                            <p:childTnLst>
                              <p:par>
                                <p:cTn id="16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8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8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8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8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500"/>
                            </p:stCondLst>
                            <p:childTnLst>
                              <p:par>
                                <p:cTn id="17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8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8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8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8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500"/>
                            </p:stCondLst>
                            <p:childTnLst>
                              <p:par>
                                <p:cTn id="18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8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8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8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8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500"/>
                            </p:stCondLst>
                            <p:childTnLst>
                              <p:par>
                                <p:cTn id="20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8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8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8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8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2500"/>
                            </p:stCondLst>
                            <p:childTnLst>
                              <p:par>
                                <p:cTn id="21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8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3500"/>
                            </p:stCondLst>
                            <p:childTnLst>
                              <p:par>
                                <p:cTn id="22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8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4500"/>
                            </p:stCondLst>
                            <p:childTnLst>
                              <p:par>
                                <p:cTn id="23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4581360"/>
            <a:ext cx="11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013456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020000" y="2637000"/>
            <a:ext cx="79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600" spc="-1" strike="noStrike">
                <a:solidFill>
                  <a:srgbClr val="b1a481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561440" y="2637000"/>
            <a:ext cx="13665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0" spc="-1" strike="noStrike">
                <a:solidFill>
                  <a:srgbClr val="c7bea5"/>
                </a:solidFill>
                <a:latin typeface="Times New Roman"/>
                <a:ea typeface="Times New Roman"/>
              </a:rPr>
              <a:t>2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84720" y="3716280"/>
            <a:ext cx="151164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3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877080" y="4056120"/>
            <a:ext cx="10080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4000" spc="-1" strike="noStrike">
                <a:solidFill>
                  <a:srgbClr val="ffffcc"/>
                </a:solidFill>
                <a:latin typeface="Berlin Sans FB Demi"/>
              </a:rPr>
              <a:t>5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4360" y="5950080"/>
            <a:ext cx="3816360" cy="384120"/>
          </a:xfrm>
          <a:custGeom>
            <a:avLst/>
            <a:gdLst/>
            <a:ahLst/>
            <a:rect l="l" t="t" r="r" b="b"/>
            <a:pathLst>
              <a:path w="3447" h="250">
                <a:moveTo>
                  <a:pt x="0" y="151"/>
                </a:moveTo>
                <a:cubicBezTo>
                  <a:pt x="295" y="75"/>
                  <a:pt x="590" y="0"/>
                  <a:pt x="817" y="15"/>
                </a:cubicBezTo>
                <a:cubicBezTo>
                  <a:pt x="1044" y="30"/>
                  <a:pt x="1172" y="235"/>
                  <a:pt x="1361" y="242"/>
                </a:cubicBezTo>
                <a:cubicBezTo>
                  <a:pt x="1550" y="249"/>
                  <a:pt x="1770" y="60"/>
                  <a:pt x="1951" y="60"/>
                </a:cubicBezTo>
                <a:cubicBezTo>
                  <a:pt x="2132" y="60"/>
                  <a:pt x="2290" y="234"/>
                  <a:pt x="2449" y="242"/>
                </a:cubicBezTo>
                <a:cubicBezTo>
                  <a:pt x="2608" y="250"/>
                  <a:pt x="2737" y="106"/>
                  <a:pt x="2903" y="106"/>
                </a:cubicBezTo>
                <a:cubicBezTo>
                  <a:pt x="3069" y="106"/>
                  <a:pt x="3356" y="219"/>
                  <a:pt x="3447" y="242"/>
                </a:cubicBezTo>
              </a:path>
            </a:pathLst>
          </a:custGeom>
          <a:noFill/>
          <a:ln w="57240">
            <a:solidFill>
              <a:srgbClr val="b1a4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71640" y="620640"/>
            <a:ext cx="0" cy="107964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71640" y="1700280"/>
            <a:ext cx="100800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71640" y="620640"/>
            <a:ext cx="100800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979640" y="1700280"/>
            <a:ext cx="0" cy="108108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971640" y="2781360"/>
            <a:ext cx="100800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971640" y="2276640"/>
            <a:ext cx="0" cy="50472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84720" y="620640"/>
            <a:ext cx="0" cy="223200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284720" y="620640"/>
            <a:ext cx="100800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284720" y="2852640"/>
            <a:ext cx="100800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284720" y="1773360"/>
            <a:ext cx="100800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91280" y="1773360"/>
            <a:ext cx="1440" cy="107928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1332000" y="3500280"/>
            <a:ext cx="792000" cy="180036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971640" y="3500280"/>
            <a:ext cx="115236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332000" y="4365720"/>
            <a:ext cx="79200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116000" y="5300640"/>
            <a:ext cx="50328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211640" y="3429000"/>
            <a:ext cx="122400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211640" y="5373720"/>
            <a:ext cx="129708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211640" y="3429000"/>
            <a:ext cx="1224000" cy="194472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211640" y="3429000"/>
            <a:ext cx="1297080" cy="194472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901800" y="285264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8000"/>
                </a:solidFill>
                <a:latin typeface="Arial"/>
              </a:rPr>
              <a:t>5 ang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213440" y="292428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8000"/>
                </a:solidFill>
                <a:latin typeface="Arial"/>
              </a:rPr>
              <a:t>6 ang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85800" y="537372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8000"/>
                </a:solidFill>
                <a:latin typeface="Arial"/>
              </a:rPr>
              <a:t>7 ang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86160" y="551664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8000"/>
                </a:solidFill>
                <a:latin typeface="Arial"/>
              </a:rPr>
              <a:t>8 ang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1186920" y="83664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1186920" y="148428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4355640" y="76500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5148000" y="191628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5148000" y="270828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971640" y="191628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1763280" y="263700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2637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4355640" y="162864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0836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708360" y="2708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71640" y="364500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116000" y="422100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39640" y="515772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1834920" y="4221000"/>
            <a:ext cx="64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1547640" y="515772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042920" y="450864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1763640" y="4508640"/>
            <a:ext cx="649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5148360" y="357336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708360" y="357336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5003280" y="436572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067280" y="436572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5148360" y="522936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08360" y="522936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4788000" y="414972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4788000" y="465300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8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8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8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8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500"/>
                            </p:stCondLst>
                            <p:childTnLst>
                              <p:par>
                                <p:cTn id="27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8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8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8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8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2500"/>
                            </p:stCondLst>
                            <p:childTnLst>
                              <p:par>
                                <p:cTn id="28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8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8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8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8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3500"/>
                            </p:stCondLst>
                            <p:childTnLst>
                              <p:par>
                                <p:cTn id="28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8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4500"/>
                            </p:stCondLst>
                            <p:childTnLst>
                              <p:par>
                                <p:cTn id="29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8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8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8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8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5500"/>
                            </p:stCondLst>
                            <p:childTnLst>
                              <p:par>
                                <p:cTn id="30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500"/>
                            </p:stCondLst>
                            <p:childTnLst>
                              <p:par>
                                <p:cTn id="33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8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8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8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8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500"/>
                            </p:stCondLst>
                            <p:childTnLst>
                              <p:par>
                                <p:cTn id="34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8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8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8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8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3500"/>
                            </p:stCondLst>
                            <p:childTnLst>
                              <p:par>
                                <p:cTn id="35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8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8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8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8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4500"/>
                            </p:stCondLst>
                            <p:childTnLst>
                              <p:par>
                                <p:cTn id="36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8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8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8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8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5500"/>
                            </p:stCondLst>
                            <p:childTnLst>
                              <p:par>
                                <p:cTn id="37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8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8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8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8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6500"/>
                            </p:stCondLst>
                            <p:childTnLst>
                              <p:par>
                                <p:cTn id="38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1000"/>
                            </p:stCondLst>
                            <p:childTnLst>
                              <p:par>
                                <p:cTn id="40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8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8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8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8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2000"/>
                            </p:stCondLst>
                            <p:childTnLst>
                              <p:par>
                                <p:cTn id="41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8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3000"/>
                            </p:stCondLst>
                            <p:childTnLst>
                              <p:par>
                                <p:cTn id="42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8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5" dur="8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8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8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4000"/>
                            </p:stCondLst>
                            <p:childTnLst>
                              <p:par>
                                <p:cTn id="43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8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8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8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8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5000"/>
                            </p:stCondLst>
                            <p:childTnLst>
                              <p:par>
                                <p:cTn id="44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8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8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8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8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6000"/>
                            </p:stCondLst>
                            <p:childTnLst>
                              <p:par>
                                <p:cTn id="44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8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" dur="8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8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8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8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8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8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8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7000"/>
                            </p:stCondLst>
                            <p:childTnLst>
                              <p:par>
                                <p:cTn id="46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1000"/>
                            </p:stCondLst>
                            <p:childTnLst>
                              <p:par>
                                <p:cTn id="48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8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8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8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8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2000"/>
                            </p:stCondLst>
                            <p:childTnLst>
                              <p:par>
                                <p:cTn id="49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8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" dur="8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8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8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3000"/>
                            </p:stCondLst>
                            <p:childTnLst>
                              <p:par>
                                <p:cTn id="50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8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8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8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8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4000"/>
                            </p:stCondLst>
                            <p:childTnLst>
                              <p:par>
                                <p:cTn id="51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8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6" dur="8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8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8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5000"/>
                            </p:stCondLst>
                            <p:childTnLst>
                              <p:par>
                                <p:cTn id="52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8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5" dur="8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8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8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6000"/>
                            </p:stCondLst>
                            <p:childTnLst>
                              <p:par>
                                <p:cTn id="53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8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4" dur="8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8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8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7000"/>
                            </p:stCondLst>
                            <p:childTnLst>
                              <p:par>
                                <p:cTn id="54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8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3" dur="8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8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8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8000"/>
                            </p:stCondLst>
                            <p:childTnLst>
                              <p:par>
                                <p:cTn id="54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8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2" dur="8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8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8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9000"/>
                            </p:stCondLst>
                            <p:childTnLst>
                              <p:par>
                                <p:cTn id="55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2T18:37:10Z</dcterms:created>
  <dc:creator>TERM 3</dc:creator>
  <dc:description>Solo para uso didáctico</dc:description>
  <cp:keywords>curiosidades matemáticas</cp:keywords>
  <dc:language>en-US</dc:language>
  <cp:lastModifiedBy>Mereau</cp:lastModifiedBy>
  <dcterms:modified xsi:type="dcterms:W3CDTF">2009-01-29T06:08:31Z</dcterms:modified>
  <cp:revision>4</cp:revision>
  <dc:subject>Curiosidades</dc:subject>
  <dc:title>Diapositiva 1</dc:title>
</cp:coreProperties>
</file>