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4439-04F5-4054-B8DF-0F23BCA4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96DD-4986-4D89-B9B3-1BFE7071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99BB3-0137-4D9D-B25E-3F8344B1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3670C-94E3-4D4B-A73B-F99F669A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16153-819F-49F1-B351-922E2865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E4583-B109-4DB4-8DA6-CAD85687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AD3D3-8221-45AC-AC18-507A4A8D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2BD1A-3454-4167-8518-BA030CE2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25ADC-AC52-4BD3-BADC-47D10DE3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99B8B-7A6C-450B-B6D5-35AC96EC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BE68E-E216-4F57-8492-2B6D5409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CED4-3A07-4B41-A683-9D449C42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0F5A-3D30-4019-88A0-8C831028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CA8F-8719-4B22-93FE-3605EE50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AAD5-7067-4D6E-8861-EC0543D9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353A-840F-4709-BABF-11320054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0969-F855-4538-8A51-FBF8F603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1E61-8B91-4FB5-AF35-66F9CF5F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5899-6B9D-4BA1-856A-56D4CD34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8042-68FC-4D96-990D-929530BB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CE94-6201-4FCA-956D-4BC760ED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E8A2-BA4A-4158-A516-1701F4B5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88DC-5846-4AE1-966D-07726FA1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CCFE-2CFE-46B1-BCE4-3C5BBB7F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3DA4-FE3F-462C-AB3F-6994EA7C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D773-48AC-4DAB-9318-20320E2B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BD4F8-7BA9-4987-AD6F-459E38F1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D05B2-491A-4064-9A6C-B6B7C9E3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2E77E-98D1-4DE8-86EA-65E2AED4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E5704-89B9-4AA0-8314-20CC3540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D0225-6D02-4F09-9BC7-1F539C1C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AF42-90E8-4774-9E9B-92472694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468DC-FAB1-47A6-AC6E-78EAC539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30ACA-D127-4D7F-9B60-0F9207BC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43482-42F8-4939-B404-094EAF97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00A48-E528-4DB4-8735-3A41F852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33A29-65D6-4505-AA17-03CFB4F5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EE7D5-8512-4F09-8C33-08E6572E6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08112-A13C-49D5-8C68-054C63D1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3FA46-0603-4C77-8FB6-48940DF5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F409C-C199-4BDF-B71C-CFCFFBE8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6B248-D21D-481A-920B-250BF9BD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FDF0-02B3-4110-9ADA-2748971B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DDDA5-E1C6-46AA-B25E-DEB23B39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1A84D-FBA1-4A26-A541-EABCB449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3109C-F907-4781-AA30-9A58AA36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92B36-B287-406E-A7C1-E87B9CB8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F8062-487F-424D-B65C-21A0CFDA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41132-10C9-44DC-8089-F625D6CF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73317-1698-4AFC-A6E1-963A1CBE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2DF64-249C-49A3-8DAD-E4A597F6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71C78-4A63-4D39-B352-64C6A7E4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FF9DD-4564-4215-840C-1465CB9D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AFF8-F7A1-4B20-B4B0-7233BD51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E171A-369E-434C-844D-76311A68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2AEBC-0911-472A-8150-CF7C753E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98DD5-25DD-4C37-8D99-7B076C48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69507-771E-4EAB-92E2-B664A00D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1C32A-C351-4EDE-ABB6-3C7A0BBB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793FE-038C-42A4-B76D-B6E9A257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472F4-E779-4A30-8B20-0DC1C3F4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0C61D-A4C8-4963-A109-45F3B8E0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BDC87-48B0-422B-8A94-EE6D4CB1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005D6-62C1-467B-8E9A-A9660209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2CB1-4CF5-48CA-8DF2-0132EF35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BF1E6-7B3C-456D-9DA5-BB5AB2F0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15346-35D7-464C-8C63-A24747A2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5E390-E44E-4327-A156-7B97B6C3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797C3-31CB-467E-B539-4681C60E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93527-5C02-49D4-8344-C88498BB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86A94-B8F8-4966-9044-027CB8D8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58453-1B82-4B2A-A594-EB97B6CA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CD2CF-1645-4CE8-AFA7-E710882E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CE3B3-14CA-4266-92FC-A011D9F2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D66E9-B6ED-4910-B9F0-B658E19E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8944-2FC5-428B-B04F-40000B2D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95B04-5AC7-4632-8FE7-30C0BC08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4791F-18B6-491F-9EE8-1530A978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9713F-16F9-46F0-9AE6-79CBEA78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E6411-E8AE-4DA6-A9D6-108E7F73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F1746-28F6-4E41-829C-CB9BCD57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412D4-F8C9-428D-9B96-FDD590E2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5A44E-CC43-4D19-A843-CEFC1EAC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20196-58E3-4A89-B151-F3642BA0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9F977-8A16-4D81-910E-3F727359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7071A-6CBA-4AD7-96AF-0051555B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D17A-1E33-44D0-AA4A-5CBE30D4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4FAAA-686C-492C-8F83-3FF36A52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F1419-05BA-4CE3-BF79-E192722E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91B6B-7D92-43BD-927D-64D24F1A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1B32C-DEC6-4A33-8612-ADF091A7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825A9-CD37-46FD-98D3-516972D3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BEFCF-4142-41C8-8723-CCA642E7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CEB63-EDEE-4EC8-B0DD-6D1E6EEE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C1B69-1FF2-4A05-B52C-1305D4DB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02537-4942-4FC9-8660-221216AA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30ECB-0161-47ED-8E7D-4949C30B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465C-EC5C-4103-9E0D-D560E286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A4348-0C5D-4DC0-BA03-C341DD9F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937B2-35D3-4FEA-897E-DD51C636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C23F3-A8C5-4556-981B-EBCD6865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EA605-3EA8-4A17-B6F3-C4E2A0D8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C52A5-2260-474C-89EB-1309BAFE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ED194-F333-4356-9D9F-B27E83A64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B2E01-D94A-4419-9951-B04BC18A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C0255-0756-4344-B35A-2B9DC22F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02C19-756F-49AC-ADB8-89662A3F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B10F3-B9E0-4BB8-AA68-25AA15E6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9CD3-9CA7-4D4B-945D-90378D1345D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B1F2-4E3F-4B62-892D-88F682CACA1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29AA-515C-4F48-93C7-B0848CA5CC2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4EA7-317D-4F6F-8712-4814E8602D4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3D5F-903E-4871-89F4-50A87C27E5C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41CC-C2B6-41C5-AA87-E0255608B10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BBD3-0257-41C4-80E2-4E37DB77365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074C-8FBC-469A-B20E-9D8F59F0967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4436-589A-47CC-8B0B-6E5C936924C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2840" y="4681440"/>
            <a:ext cx="8802720" cy="2536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7529"/>
                </a:solidFill>
                <a:latin typeface="Franklin Gothic Book"/>
              </a:rPr>
              <a:t>By: Rya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0" y="7621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I learned how to do formulas, for example  when I did = D3*D4 Enter then the computer magically did all the math for me. l learned how to research for things for collage, like backpacks, beds, and of course food. Last I learned how to ask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"/>
          <p:cNvSpPr/>
          <p:nvPr/>
        </p:nvSpPr>
        <p:spPr>
          <a:xfrm>
            <a:off x="0" y="6858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echnology I learned short cuts, for example control s is save, control c is copy, control z is undo, control p is print, and control v is paste. Also I found out how to insert formulas for the SUM or produced. Last I learned how to get the calculator on my computer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ive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"/>
          <p:cNvSpPr/>
          <p:nvPr/>
        </p:nvSpPr>
        <p:spPr>
          <a:xfrm>
            <a:off x="152280" y="533520"/>
            <a:ext cx="89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ject has changed me so much. For example at the beginning of the year I was a no nothing about computers, but now I feel like I know everything about computers. Plus now I feel like I am ready for collage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0" y="6094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decided to buy only the things I needed like a bed, computer, and backpack. I only bought the things I need because I would want money left over. Last I did not buy the most expensive computer, backpack, or bed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1:24Z</dcterms:created>
  <dc:creator>ITSUser</dc:creator>
  <dc:description/>
  <dc:language>en-US</dc:language>
  <cp:lastModifiedBy>ITSUser</cp:lastModifiedBy>
  <dcterms:modified xsi:type="dcterms:W3CDTF">2010-02-10T21:04:10Z</dcterms:modified>
  <cp:revision>8</cp:revision>
  <dc:subject/>
  <dc:title>College Planning Reflection</dc:title>
</cp:coreProperties>
</file>