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6A16-2F70-44BA-ADFB-9D37BA239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A3A8-6DB8-4E57-8BBB-E9AA45018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76D8C5-1357-4874-A1CA-8DB88B07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1C511-AF90-4E38-A8F6-6F0E18E9A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D2E4B-8E05-472F-8C2C-EEEE0A575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5FCFB-582F-4852-9D0A-BFF9952D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0CE0F3-7F4E-4C0B-BD19-19E202CC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AEA39-3139-479A-AEF8-20D74175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4AB68D-192F-44AA-AB2E-163213F2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64AC3-A743-47C1-84A0-54DFB43A6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4B129-6975-49C4-AD95-1CE139A7F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187-5AD1-4AB5-954A-1267B89C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DADB-95AC-4ECE-8D47-1C0F448F3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9DC4-5F97-460D-BF41-DCD437E13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29753-1CF5-47D9-9CE9-FA5A2360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96B1E-C1E3-494C-9D2F-B953B2CE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7227-BEBF-47A6-85D5-3871480D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D720-F2B0-405E-B4FF-DDAE1008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0AEF-A226-4AF3-95C2-AB00DF6E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B903-0B67-451B-894A-35977DDF0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8597-3C3A-4C83-8A6F-0F961EDE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5C91-7937-4455-850F-DF23CB58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8D993-2753-4F8E-A7CC-390E033F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4E11-175B-4BC7-8742-FA69B8F4D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4D3AE-8FD2-4747-BE01-F17E25F0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51BB-B359-431E-AE54-6D0486E63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A3752-9AC0-4D96-8458-1EA0E345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F75F-0C3B-41A4-9B8E-38169B3F2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B4904-6415-4787-96D2-4BA8DC2A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9D58A-C3BB-4A61-9869-2D60C6C3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A7F63-10EE-4EB3-946E-903F8591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37D0-6510-43D4-90B2-311B3E87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A0304-F13C-4866-97CC-A27DE66A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57B8D-FF11-4A67-BB97-40DEAE17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3A9AB-53B0-4E25-8AC5-F444A9BD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ECFE5-0E7C-4AC5-8AEE-5FF13597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A297-32AE-4283-AAF2-49326CDB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1DB0B-CACE-40A6-A56A-3335A0E2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F859B-9FE2-4106-9056-CB1A17B73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50271-DCFC-48BD-B6D9-5E902C18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BC86F-E9ED-43FB-A6FD-916633B1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F908F-BA37-4F12-914E-E3B82725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34A5-7E7F-47F5-BCE4-37FB774F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B08D-5809-4061-B6AD-3A792139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96133-F51F-4CF1-8976-A55A5858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FC0E1-965F-4AF1-B51C-BA1ECA7A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3268F-8A94-45E2-94C8-D1AA3A96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05B7B-D59B-4BB7-82DF-71B5F652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9E5E6-987D-45AC-91D5-D8FE7EB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6B75D3-FB04-40BB-8719-3B7D72D29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0FFE2-955E-4651-8AE4-B7690691B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4FDFD-FCF3-43E6-B304-417EF0AE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0C709-BB47-407B-9E6C-B8715788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02EE-A064-4746-A1E4-1111E469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5575-0F82-474A-9012-B56C2674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386E7-E28C-4F61-9E5E-6F6FA66A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78C48-84DB-47E8-99A9-D1FE3B02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91A8B-9571-4BD3-A495-86E08336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6DC42-10D4-4EDA-9844-AC6A4F01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46212A-0B5C-460D-82A6-C82461E0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576641-06AD-44F2-962A-BAFD8506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FE44F-5DBD-4813-92DC-B66A58B87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D7138E-572D-4448-9B98-C945FE089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731D6-E8ED-4936-BE5B-B6625A0F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9ABA-5900-4360-AC39-538873E1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1C44-D0E0-49AB-88AA-9F0CBA17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C088-11E7-48DF-9743-9D2977F9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C6077-B4E7-4FEF-8D68-6CF8F9B3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B4156-D128-4005-8906-05D84B19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0F741-2156-4967-BE1F-315C1BE2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D202E-1D62-475B-8E29-E60C522A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2A139-A0F0-4795-9BA3-378C62195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F34AC-B30F-4D53-8F03-D43FBFA4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1E913-3403-43BC-8ECC-5C17A9C0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F18C1-2DBF-467E-AC0D-88F22CCE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9CE-1707-4A9C-AFA2-564E0B46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87C0C-D3F1-47DD-8900-25335E9CD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9A09A-A339-49CE-9D7E-F7E5B102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B0A9-7153-48FB-B57A-BA67BB56C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D52D7-6C99-4FF6-9CF6-71365C1DB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36187-E68E-4B75-8BED-55501A31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17B7F-63DA-4EBD-92A6-678925C5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7A2E1-67EC-4E5B-A607-F046A2BC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678C4-989A-4F0E-BC81-751E1EF9B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4891C-C8A0-491B-B3C9-2D841053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F7E68-ED44-4D40-951D-8609F615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E12-0991-412F-8187-94692657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BCE91-9AC3-4122-A1A1-5A6C0F1F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DD16F-8724-45AF-9CDE-6DA834A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E683C-AC72-414C-B3BE-F4FC372D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20CAE-F4DD-4882-B3BE-C431C43D5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A07FF-E885-42FF-8937-08189439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4317E-EDA3-41CF-8C13-65313AD99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5579F-11EB-4E70-98BC-B27F4594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B50DB1-FD38-4B90-ACC7-CAF790F8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1CDF8-E34C-4E43-B40F-ADE3D544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599E1-A679-4173-A096-8D5CE1E4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3EAB-8F49-41C0-A5CB-6A700437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F0E26-6E1F-4C8F-8240-0C3BE6BB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999F5B-C2C4-4CB8-8724-4887ACCF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2D21F-3A79-453E-B36F-B289340C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62C8C-B1E6-4438-9353-F96057B9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F259-6315-4AA9-A636-B937116A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C60370-655B-4210-A3D0-C00CE8315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E489B-1E64-4EBE-BB06-4A4B03A46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F510E9-3E2B-46DA-8104-E6094B8F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2F4EBA-B59D-4770-B6F0-2B72A2EF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B5A1B-3C5C-48B9-BE66-E300512A4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11E2-E2FA-472C-8910-485EB2DDC5B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7C244-8B41-4C7E-B165-18C9D7F8776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7364-4C8E-4DFB-A510-AA27AB2F141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D5673-9692-4A60-9448-D4D0A56B721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DB5EB-EDDD-45FA-867C-A87B27534F2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113F-8646-4002-B6BE-2E22FCF0B3B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E5BE-A967-45A0-B6AA-45B8782196F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CAC5-AB59-4BC5-B164-1DC4D31921C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9277-4BD2-4898-93A7-F096DFDCD86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2840" y="4681440"/>
            <a:ext cx="8802720" cy="253692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80520" y="38862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7529"/>
                </a:solidFill>
                <a:latin typeface="Franklin Gothic Book"/>
              </a:rPr>
              <a:t>By: Ryan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Box 1"/>
          <p:cNvSpPr/>
          <p:nvPr/>
        </p:nvSpPr>
        <p:spPr>
          <a:xfrm>
            <a:off x="0" y="152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Mathem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0" y="76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 learned how to do formulas, for example  when I did = D3*D4 Enter then the computer magically did all the math for me. l learned how to research for things for collage, like backpacks, beds, and of course food. Last I learned how to 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"/>
          <p:cNvSpPr/>
          <p:nvPr/>
        </p:nvSpPr>
        <p:spPr>
          <a:xfrm>
            <a:off x="0" y="45720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"/>
          <p:cNvSpPr/>
          <p:nvPr/>
        </p:nvSpPr>
        <p:spPr>
          <a:xfrm>
            <a:off x="0" y="68580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echnology I learned short cuts, for example control s is save, control c is copy, control z is undo, control p is print, and control v is paste. Also I found out how to insert formulas for the SUM or produced. Last I learned how to get the calculator on my computer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iv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2280" y="53352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project has changed me so much. For example at the beginning of the year I was a no nothing about computers, but now I feel like I know everything about computers. Plus now I feel like I am ready for collage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Box 1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"/>
          <p:cNvSpPr/>
          <p:nvPr/>
        </p:nvSpPr>
        <p:spPr>
          <a:xfrm>
            <a:off x="0" y="6094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decided to buy only the things I needed like a bed, computer, and backpack. I only bought the things I need because I would want money left over. Last I did not buy the most expensive computer, backpack, or bed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1:24Z</dcterms:created>
  <dc:creator>ITSUser</dc:creator>
  <dc:description/>
  <dc:language>en-US</dc:language>
  <cp:lastModifiedBy>ITSUser</cp:lastModifiedBy>
  <dcterms:modified xsi:type="dcterms:W3CDTF">2010-02-10T21:04:10Z</dcterms:modified>
  <cp:revision>8</cp:revision>
  <dc:subject/>
  <dc:title>College Planning Reflection</dc:title>
</cp:coreProperties>
</file>