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D72C-2F7C-42EB-8C64-F4FE2EC7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56E-35ED-4BDB-A2CA-AC679F04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6038-8AC7-440D-8D3B-A90C3214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BC7-6581-4FC2-80F6-C5C08515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40A1-1627-4846-A36C-1CA2A655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0CA9-AC14-47DC-84E7-3973399C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90B9-90BA-4AA5-8CF2-B9137DEA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4B5D-1218-4B27-AC52-4E7E11F6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63C-6C20-42DE-AA82-5A7022DC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41E3-30E5-4406-AB4A-1A9629C6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141-0513-4ECC-A81A-32ABE8EA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7261-2E94-42F8-9DBB-03B222FD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7312-56B6-4031-AF9F-FB8AF8D3B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 Essay Ref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Rachel Kel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0" y="5335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tics of the genr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0" y="1066680"/>
            <a:ext cx="838188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 focused on wolves and ther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y audience was Mrs. Arezberger and the GT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mentor text that inspired my work was that animals all over the world are being abused so I had to make a differ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0" y="2209680"/>
            <a:ext cx="66294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riting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 thought about my favorite animal and what matters to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 searched on Google images and put the movie on photo story and thought about mus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0" y="3962520"/>
            <a:ext cx="56386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chn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 had to know were it was and how to do certain things with the comp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0" y="5181480"/>
            <a:ext cx="6934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ive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learned that I can help the world as a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152280" y="5867280"/>
            <a:ext cx="762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think I used my heart more than my m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m proud of how fast I finishe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as afraid I would never fi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ould like to create some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7:18:05Z</dcterms:created>
  <dc:creator>ITSUser</dc:creator>
  <dc:description/>
  <dc:language>en-US</dc:language>
  <cp:lastModifiedBy>ITSUser</cp:lastModifiedBy>
  <dcterms:modified xsi:type="dcterms:W3CDTF">2010-02-11T17:44:12Z</dcterms:modified>
  <cp:revision>7</cp:revision>
  <dc:subject/>
  <dc:title>Photo Essay Reflection</dc:title>
</cp:coreProperties>
</file>