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F3D2-5B0A-4B33-96EC-B0C72933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95C5-2BFF-421D-8F2A-A6F284551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42E1-F8DF-4482-A225-B31C9985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B2EF-FE50-487A-BEE7-5C8F2A89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7E55-F104-4C68-8146-DF454344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F4CE-CE9D-4466-A0B8-F48F28A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94C1-AF1F-44AC-BBC4-D51BFC5BE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6075-EBA5-4A8C-B845-E77B70DC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C71-3026-49B9-A0C7-D349F86D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FF6B-6D66-40D8-97BF-9AF7B41C3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D9A8-98A7-427F-830D-F5FBC8D29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EFC-7DCE-42E1-9EEC-DAE70D15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9762-8F30-4C53-9F93-0883222ECC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hoto Essay Ref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y Rachel Kell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0" y="5335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acteristics of the genr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0" y="1066680"/>
            <a:ext cx="838188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focused on wolves and there 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y audience was Mrs. Arezberger and the GT 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mentor text that inspired my work was that animals all over the world are being abused so I had to make a differen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0" y="2209680"/>
            <a:ext cx="66294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riting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thought about my favorite animal and what matters to 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searched on Google images and put the movie on photo story and thought about mus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Handwriting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0" y="3962520"/>
            <a:ext cx="56386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chnolog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 had to know were it was and how to do certain things with the compu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0" y="5181480"/>
            <a:ext cx="69343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fective 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learned that I can help the world as a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152280" y="5867280"/>
            <a:ext cx="7620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think I used my heart more than my m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am proud of how fast I finishe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s afraid I would never fin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ould like to create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7:18:05Z</dcterms:created>
  <dc:creator>ITSUser</dc:creator>
  <dc:description/>
  <dc:language>en-US</dc:language>
  <cp:lastModifiedBy>ITSUser</cp:lastModifiedBy>
  <dcterms:modified xsi:type="dcterms:W3CDTF">2010-02-11T17:44:12Z</dcterms:modified>
  <cp:revision>7</cp:revision>
  <dc:subject/>
  <dc:title>Photo Essay Reflection</dc:title>
</cp:coreProperties>
</file>