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838A-174D-407C-961C-743A1FB6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0BF1-3AE1-46EB-ABF1-9C8FAF63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336B-5D80-4E9C-88BC-3B27D7AE6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0773-0DB2-45C8-8F3D-B40D4F38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F39-1152-4BB7-956D-A3EF4513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0AD1-6AD1-4C6E-9827-DCA3A414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74C9-83F2-480C-A39E-70839801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2814-A941-4CAB-A68C-5F2C6E1F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2F1C-659E-4C9F-B21A-4A587C13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F6DA-D5D6-46FA-ADF4-D7872FD4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928A-82D2-41C2-831B-EDAEB284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C13E-C66D-42CF-8401-50EF1666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8062-74DF-4561-9BA6-AE041E9B5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to Essay Ref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Rachel Kel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0" y="5335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stics of the genr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0" y="1066680"/>
            <a:ext cx="838188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 focused on wolves and ther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y audience was Mrs. Arezberger and the GT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mentor text that inspired my work was that animals all over the world are being abused so I had to make a differ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0" y="2209680"/>
            <a:ext cx="66294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riting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 thought about my favorite animal and what matters to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 searched on Google images and put the movie on photo story and thought about mus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0" y="3962520"/>
            <a:ext cx="56386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chn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 had to know were it was and how to do certain things with the comp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0" y="5181480"/>
            <a:ext cx="6934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ective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learned that I can help the world as a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152280" y="5867280"/>
            <a:ext cx="762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think I used my heart more than my m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m proud of how fast I finishe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as afraid I would never fi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ould like to create some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7:18:05Z</dcterms:created>
  <dc:creator>ITSUser</dc:creator>
  <dc:description/>
  <dc:language>en-US</dc:language>
  <cp:lastModifiedBy>ITSUser</cp:lastModifiedBy>
  <dcterms:modified xsi:type="dcterms:W3CDTF">2010-02-11T17:44:12Z</dcterms:modified>
  <cp:revision>7</cp:revision>
  <dc:subject/>
  <dc:title>Photo Essay Reflection</dc:title>
</cp:coreProperties>
</file>