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501-967D-4861-BA7D-739111AE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9A51-76F4-4457-BBDD-BAC50EF62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85C5-0E11-4877-B539-E5EE198B8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3A35-67DD-48ED-BF8D-388B5BC9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0B6D-F512-4892-8FA2-A3262ADC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2B64-9FD5-4EEF-9589-D14DC94A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32C5-7651-4DE4-B317-9DD24B2B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5800-33CC-4337-93EC-70D71FF8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EC98-7C78-4430-9D09-7D07397DF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E9EF-6AD8-4F64-B01D-12789EDE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4FFF-FF0A-4CEF-89C7-191BF7C3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3C51-1723-4CF6-8683-BE339102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3B04-8FA3-4652-A29C-B5D3E22A5B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 Essay 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Rachel Kel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0" y="5335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 of the genr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0" y="1066680"/>
            <a:ext cx="838188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focused on wolves and ther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y audience was Mrs. Arezberger and the GT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mentor text that inspired my work was that animals all over the world are being abused so I had to make a differ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0" y="2209680"/>
            <a:ext cx="66294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riting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thought about my favorite animal and what matters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searched on Google images and put the movie on photo story and thought about mu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0" y="3962520"/>
            <a:ext cx="56386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had to know were it was and how to do certain things with the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0" y="5181480"/>
            <a:ext cx="6934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ive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learned that I can help the world as a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152280" y="5867280"/>
            <a:ext cx="762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think I used my heart more than my m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m proud of how fast I finishe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as afraid I would never fi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ould like to create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7:18:05Z</dcterms:created>
  <dc:creator>ITSUser</dc:creator>
  <dc:description/>
  <dc:language>en-US</dc:language>
  <cp:lastModifiedBy>ITSUser</cp:lastModifiedBy>
  <dcterms:modified xsi:type="dcterms:W3CDTF">2010-02-11T17:44:12Z</dcterms:modified>
  <cp:revision>7</cp:revision>
  <dc:subject/>
  <dc:title>Photo Essay Reflection</dc:title>
</cp:coreProperties>
</file>