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A671-4F71-4435-9A82-2DCDAA4F1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7457-17E8-4E0F-B5DA-CAEA014B9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636E21-7109-4AC0-9B57-533B35D0D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6D6E91-B88C-4577-8222-5DDD40E49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1F2652-BA38-427B-9A0D-64A87BA5A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1E72F2-DE1C-43D7-BE86-01DE9BB5D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359DE1-8077-47C1-9D1B-A58E450AA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ED2F26-DCE0-4AD2-B449-B07AA6D7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F31418-71F0-40DC-ABDA-487CA9B51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BE7103-6F08-4C9A-A0E3-B60F124E9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FA79B4-1BD7-44CD-8772-2C4242C51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1D843B-A20B-4447-B240-0796AE434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68C5-8A21-450C-893F-0F9BE4E0B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07DF13-AB8D-4816-ACA7-750C620C4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2D267B-E420-407D-9750-AB40C7C7A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5A2004-4ED9-4138-8F5B-498DEE31C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213B1E-8029-4858-99B1-4C325540A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7C799B-AA10-4A1E-B65F-2E6585426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E31801-DBDA-4038-BB94-4797AD2C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6CA625-BF61-417F-A4F3-789767D0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F50BCD-2064-4F56-80D1-AB13006F7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3C0035-E6A3-4AAA-ABBD-7693A6A2B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A89771-DA30-4332-B030-7DF975891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5D8A-11FD-4A2E-90FC-6C7F6D601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6D9CF5-8E23-4FC0-A0FA-C815E96CD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51EA87-1F19-42DA-9DFF-AE61BFFC6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43812A-B5F1-417F-AF48-09142339D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443614-62EB-44FE-A6FB-9CE13C351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CFD11E-99E5-4954-BD19-0522A63F1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D3A490-F865-4B26-9492-2466618C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D50371-9602-4330-BF68-67B67BF45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2689FD-A92F-4F7C-82F6-5C4C073A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AF9D3B-59F3-48E8-B2B4-794C9CBD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A32FE0-91EE-4CD4-B1E3-3D65BF998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4E25A-7001-4269-B736-B0672E3CB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A8A001-2276-45BE-B9AA-9537FA451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023161-09F4-457D-B08F-9AF9C2469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5B236F-E32B-41CE-9A9C-A38DF8016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B7A29A0-F716-427A-A404-773986743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9E8AFD-4B91-4749-838C-7435393F2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547FD7-8F54-4A26-B769-F02D254B7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90CC06-6684-42ED-96C2-00EE5F44C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28F4ED-3BE9-430A-9852-573CC3A87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3C74A4-42E9-40D8-B52B-3A8D8E220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938426-B016-4173-B80E-0C06B8B8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64BFC-04D2-469D-82F6-8D246DF73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53612E-F8E0-4834-B93A-77FCB1E05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4660DF-702C-4924-BB67-230122CE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249B55-4CFC-4132-8FB5-15E8929A9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68F3DD-C026-4BE0-8358-6A17B35E3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13083E-FCD3-4BDF-973C-775994725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04537-B0C4-45A5-9360-821DEF2A8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FAB3A-BADD-406E-A522-8186C9D5A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38B57-E80E-42C6-BDC7-3179D890C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4E914-CF07-4B5C-B9B7-90D55F93D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C58B3-B982-4971-B9CA-E5FCE5424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1F84-472A-4C39-9381-DA77CB64A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7D992-39CF-4146-A6B6-C0AFBA3E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1F261-9BCC-445C-9540-0C2531D0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BFEC2-A9FB-454B-B963-EE48B69A9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09A93-0E75-4CF9-9A49-11145874F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9DA02-B4C7-4AFA-8D4B-86EB20FA0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6AE33-1AFB-4E03-88B1-B326F8364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1B309-B1F5-46FF-A90D-AB18ED35C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B9652-7F4E-4D2E-A358-FD2778D36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2DD13-0EF5-4C71-93C3-63F43DDAB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FBE01-1988-4D90-9FBB-337662AE2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7C4A-4D1F-4123-97C9-CF04EC7C3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87C89-014C-4DBD-AC79-3AEAE6964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915BF-65C3-406E-A610-8A42EE1D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062D5-7F9E-4118-9DDA-9F54242B2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4357C-ADE8-457C-A6BF-BE959682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23B52-DF19-4921-8D77-1C8466A64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1841E8-124A-4F60-AB47-CDB74E4C8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45F0D-08AC-4F1A-837F-357D0A431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DFEA1-D85D-4E0A-A23D-504994ABD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5ABCEF-04E0-4182-AC2E-B0B763605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2356D-76E4-493B-9FDF-E7E2C7196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FDAB-27AC-4D52-8494-B58E5B93E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9666C-C9E9-4137-A773-272D8A6EB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4CCEF-1D22-4A4B-8C70-BEBC916CB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CCB9E-F1BB-4C70-8C02-A1D8E79B5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07ECE-53A1-43D0-BDE5-41EE061B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D4EE9-CD08-4BB5-91F9-21227535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77F26-658A-4706-92C2-3812710B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A64A8-693C-4730-991C-929038324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43009-26BF-4674-A266-C37A67120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8B1A5-9F7B-407A-A9A6-C8198D133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BC848-2EDF-463A-AA99-3C10D9771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2D43-835D-42C0-B548-62259C909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3B150-FE21-4AE5-865B-1F0D5890A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78E15-EBF2-40EA-9967-DD1CC7DEE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99367-B905-4AAA-B64B-44CAACBC4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D6ADB-1491-4943-BC0E-FE5C59546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1AC6B-664D-4233-B3F4-52C8EAA62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EF480-050E-455D-81E7-CC28211A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CFF63-8337-4870-AF87-499780E52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0F68B-24DE-43D8-9137-4E7F8205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AED70-496C-43AF-B2B7-9DD745983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95F47-872D-4E36-AEF2-8115B9A2E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3CF0-78F9-4815-A602-A6BC5C7B3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F5E45-8FBA-47D2-B19A-9A41A4828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90F4A7-0BED-4968-9964-7BD24D558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6EADA-9979-45B0-B5D5-B8BE3D911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90F54-5DFD-41A2-AC66-A373883CB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FE9A9D-3131-454E-A610-2A7C59B23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BC791-D75C-4613-94AA-0653CF439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C8A09-9FFD-41B0-B3DE-375521420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7A58C4-04F2-47BB-A84C-B775E92AA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3C4587-925A-479D-9DA2-89A2BC2C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087B13-6AD3-4374-B5D4-95EF7E9B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C094-B6FA-4616-AF6C-A2F607CA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2BFB42-3E54-4C5B-A0FF-2E1BD9893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77AE3-6566-4EA0-85A0-5BA819D97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30CB7-408D-4E02-9A92-8C1643DBA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1D1C8-52C3-4C10-8CD4-D7F8D5E5F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45629-C249-490E-A128-2CA416AB9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0918A-C81F-4E73-B53A-D5A694192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788FF7-8B85-451D-9443-CACD812CF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D2B62-E226-4985-9DBB-BE0B6B1FE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DFFE87-F50D-4450-94AC-F1815B76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7E311-478A-4E13-B62D-CD787180F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2DEE-5B49-4358-BC24-9A7C5ED4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7C069-DC22-4D15-8DC9-139E6386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2C1AE-54A2-465E-B9CB-645E5476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281DE2-CBCF-498B-98BC-BAADBDB65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96160-1710-485E-B630-502377837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8B7D3-5B8E-4866-822F-B12C261E9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C38B6A-6745-4A74-9366-AC75DA83A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D69BE3-C700-4F93-BC8C-BA1642F37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A777BC-0D53-4D4B-AEEB-E2DA5A6E7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2FF6E-8408-48C3-95D2-C1866DCCB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BA3F78-5F5D-4C18-95CB-0E49C89C8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A2D1-983F-4976-AD1E-DCC16030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3D5EA9-5C77-4CC6-9817-46E44C073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716D1E-EBBE-45A3-B917-5ED58514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976489-D0BD-4427-A7F8-42B3EF2E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FACDD2-59EC-4AF3-901C-B36A704BA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165021-4ED0-4A27-B71E-DE5AD423B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3F733-11B6-4638-A637-529580FC1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010A65-31DE-43D8-9DCF-9C17469B9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6B063C-76D7-45AD-866D-634FF79C4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58F50F-4306-476B-8E66-D43893169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10C686-412A-4A82-B441-033342F1E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AE3DD-C6DB-43E0-AF5A-37452F8E725C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FF85D-7640-401B-B81A-FBB82A038B52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60686-46B3-4E85-8345-3A446761A8AA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E19DE-E1C9-4BB3-9E67-C012E0FFE8C8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72D35-F14E-4BE6-948C-F200384D8519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1BCC-8132-4578-90B5-2DB9BD8F3475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44C3C-865B-4508-8456-1B48F2B2F72D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79B87-697B-4B5C-B777-526940576660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DADA4-6ABA-4724-B69B-4C1D39AFA501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07C1B-A7C4-4B8E-AEF7-4F34BA140045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D6C50-B0BC-486E-92CE-C0623E36B40B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0F7FE-7220-4992-AB5E-384A8D847493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46b86"/>
                </a:solidFill>
                <a:latin typeface="Georgia"/>
              </a:rPr>
              <a:t>BY KYLE BOTEN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d16349"/>
                </a:solidFill>
                <a:latin typeface="Georgia"/>
              </a:rPr>
              <a:t>Photo Essay Evaluation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8" name="Picture 2" descr="http://www.smh.com.au/ffximage/2007/10/31/sony_wideweb__470x399,0.jpg"/>
          <p:cNvPicPr/>
          <p:nvPr/>
        </p:nvPicPr>
        <p:blipFill>
          <a:blip r:embed="rId1"/>
          <a:stretch/>
        </p:blipFill>
        <p:spPr>
          <a:xfrm>
            <a:off x="2541600" y="3633840"/>
            <a:ext cx="410832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haracteristics of the Genr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characteristics I focused on were to make the audience feel uplifting and joyous. I also wanted the audience to feel as though they were traveling the globe at sporting events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y audience for the piece was my GT class and teacher of the class and (possibly in the future) parents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me mentor texts that inspired me to create this were biographies of famous sport players and books of different cultures studies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1" name="Picture 2" descr="C:\Documents and Settings\Twlab\Local Settings\Temporary Internet Files\Content.IE5\4P02585H\MCj04238420000[1].wmf"/>
          <p:cNvPicPr/>
          <p:nvPr/>
        </p:nvPicPr>
        <p:blipFill>
          <a:blip r:embed="rId1"/>
          <a:stretch/>
        </p:blipFill>
        <p:spPr>
          <a:xfrm>
            <a:off x="3670200" y="4419720"/>
            <a:ext cx="180360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Writing Process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680" y="1294920"/>
            <a:ext cx="40384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idea for this piece started when I was looking at photo essays online when I saw one for food people eat across the globe. I thought an around the world type essay would be a great idea. I also read and article about Brazil winning a soccer tournament when the two articles combined into my photo essay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 had to research sports from corners of the globe and learn how they were played by using Google.  I found my images by figuring out the name of sports and Google-ing  the sport name. I also searched for uplifting music to fit my genre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4" name="Picture 2" descr="C:\Documents and Settings\Twlab\Local Settings\Temporary Internet Files\Content.IE5\QPAYIMES\MCj04417320000[1].png"/>
          <p:cNvPicPr/>
          <p:nvPr/>
        </p:nvPicPr>
        <p:blipFill>
          <a:blip r:embed="rId1"/>
          <a:stretch/>
        </p:blipFill>
        <p:spPr>
          <a:xfrm>
            <a:off x="4741920" y="1828800"/>
            <a:ext cx="39625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TextBox 7"/>
          <p:cNvSpPr/>
          <p:nvPr/>
        </p:nvSpPr>
        <p:spPr>
          <a:xfrm>
            <a:off x="457200" y="228600"/>
            <a:ext cx="8229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46b86"/>
                </a:solidFill>
                <a:latin typeface="Geo Sans Light NWEA"/>
              </a:rPr>
              <a:t>Technology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8"/>
          <p:cNvSpPr/>
          <p:nvPr/>
        </p:nvSpPr>
        <p:spPr>
          <a:xfrm>
            <a:off x="380880" y="990720"/>
            <a:ext cx="85345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echnology skills I applied during this project were learning how to use PhotoStory 3 and learning what kinds of music fit moods. For example, when I wanted my slides to feel uplifting, I didn’t want to make it sound like the commercials for abused animals. I had to learn what was best fitting by searching uplifting on FreePlayMusic.com. When I was learning how to use PhotoStory 3, I had to think of it as something other than a new program, but one that I know how to 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1" descr="C:\Documents and Settings\Twlab\Local Settings\Temporary Internet Files\Content.IE5\EN1IA72F\MCj04404540000[1].wmf"/>
          <p:cNvPicPr/>
          <p:nvPr/>
        </p:nvPicPr>
        <p:blipFill>
          <a:blip r:embed="rId1"/>
          <a:stretch/>
        </p:blipFill>
        <p:spPr>
          <a:xfrm>
            <a:off x="3124080" y="3124080"/>
            <a:ext cx="2306880" cy="2986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2" descr="C:\Documents and Settings\Twlab\Local Settings\Temporary Internet Files\Content.IE5\6R6I2CM4\MCj04418840000[1].wmf"/>
          <p:cNvPicPr/>
          <p:nvPr/>
        </p:nvPicPr>
        <p:blipFill>
          <a:blip r:embed="rId1"/>
          <a:stretch/>
        </p:blipFill>
        <p:spPr>
          <a:xfrm>
            <a:off x="3678120" y="4724280"/>
            <a:ext cx="1787760" cy="1447920"/>
          </a:xfrm>
          <a:prstGeom prst="rect">
            <a:avLst/>
          </a:prstGeom>
          <a:ln w="0">
            <a:noFill/>
          </a:ln>
        </p:spPr>
      </p:pic>
      <p:sp>
        <p:nvSpPr>
          <p:cNvPr id="619" name="TextBox 4"/>
          <p:cNvSpPr/>
          <p:nvPr/>
        </p:nvSpPr>
        <p:spPr>
          <a:xfrm>
            <a:off x="533520" y="380880"/>
            <a:ext cx="86104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646b86"/>
                </a:solidFill>
                <a:latin typeface="Jokerman"/>
              </a:rPr>
              <a:t>Affective Developmen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5"/>
          <p:cNvSpPr/>
          <p:nvPr/>
        </p:nvSpPr>
        <p:spPr>
          <a:xfrm>
            <a:off x="380880" y="1143000"/>
            <a:ext cx="8534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 learned that I like sports more than I really thought. For example, I would only play tag and think that football was a sport for jocks. Know I know that sports are actually one of my core values. I have now realized that I enjoy photos more than I used to. For example, when I looked at photos, I saw them as pictures and not mom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Evaluatio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2" name="TextBox 2"/>
          <p:cNvSpPr/>
          <p:nvPr/>
        </p:nvSpPr>
        <p:spPr>
          <a:xfrm>
            <a:off x="304920" y="1523880"/>
            <a:ext cx="8534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 think my work was very amazing and that the effort I put it paid off at the end of it all. In 1 to 10 scale I’d say 8.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 am proud of my musical choices because they were very happy and enjoyable. I am proud of these because it took a lot of time to find the music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me of the challenges I faced were narrating while many others were too. I had to wait my turn even when others didn’t notice I was work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r my next project, I’d like to use PhotoStory again but to summarize a book (just an idea) with pictures and narration. I would like this because while PhotoStory 3 is fresh in my mind, and I’m interested in pictures and reading nove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2" descr="C:\Documents and Settings\Twlab\Local Settings\Temporary Internet Files\Content.IE5\CM01TH7Z\MPj04432510000[1].jpg"/>
          <p:cNvPicPr/>
          <p:nvPr/>
        </p:nvPicPr>
        <p:blipFill>
          <a:blip r:embed="rId1"/>
          <a:stretch/>
        </p:blipFill>
        <p:spPr>
          <a:xfrm>
            <a:off x="5638680" y="5105520"/>
            <a:ext cx="11700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7:55:26Z</dcterms:created>
  <dc:creator>ITSUser</dc:creator>
  <dc:description/>
  <dc:language>en-US</dc:language>
  <cp:lastModifiedBy>ITSUser</cp:lastModifiedBy>
  <dcterms:modified xsi:type="dcterms:W3CDTF">2010-02-04T18:37:50Z</dcterms:modified>
  <cp:revision>8</cp:revision>
  <dc:subject/>
  <dc:title>Photo Essay Evaluation</dc:title>
</cp:coreProperties>
</file>