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E09-BEEB-4CF1-85E6-225EF7CE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145-5849-40AC-B3C6-1AB6A289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C9747-D12B-4FB8-BCFC-BB455891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B0FE18-D56A-4E04-85F3-C24B5CAD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89B44-4D76-4192-9AE1-77F9801D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C95CA-3A44-4828-AD92-57027F43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D98351-B481-4767-9777-9F320802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B4482-6D91-418F-B772-B8A05F94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4429F-695B-4A81-8C8D-F3245C7E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483BA-8654-4BF5-88A8-D50F931B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4C050-02C4-47A3-AAC9-CC1522F4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7FE7C-1347-4CDE-85B3-4DF49E4D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0ED-55C3-44F7-BA13-6B7387EB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A923E-2239-4695-B124-3D74E0C1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54804-C6C1-4B77-B736-82575497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3A847-005C-4E98-BE2C-FC86DB0C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C0DAE-28C6-4B8F-9D6A-D23494B6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54255-3D06-45BC-92B4-F2A819DC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E26F4A-FAEF-4654-B14E-FA4F3DD9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5D8D0-3460-4AF4-9BFF-DA87D493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55BC9-4550-4301-BD1C-65DB0EFF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7047B-1E84-4E82-B371-9DC2CBBD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07BC6-D6C2-43C6-B762-348E42D1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8DF-130F-496E-9D2F-1ACAC1EB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B4DA7-F9CC-4AFC-8CEF-6AEC1A81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9FA56-8143-4F44-8A9B-61FBB6B2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86F08-57D3-41DA-ADA3-0FF7196E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0BC5A-404E-4FD8-9BD3-DA49D9A8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A6E29-401B-4BD5-A641-3A953FE7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787B9-A859-4890-81A4-1350D804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A3537-FC41-4195-9B97-FCE0D232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316F5-5A30-4A86-8529-BB2C1EB0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26045-780D-4969-8A04-B87714FB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5456B-E7D2-43B5-B977-873809C0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C7B1-62C9-4890-8782-3FF8E49D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D6D72-2A81-4BD0-8DF9-1A01B291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A1C8E-E837-48D2-90F5-CA7F927A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B0138-C902-443C-BD14-70510563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5251F-AC45-430E-8BE9-D2068510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C0BA2-2442-4E7D-B21E-1128B6E0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1F164-884B-49F4-BBDF-FB7ECFF0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FF5C5-2382-4C7B-BFFC-DF4F0D41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22820-3D81-44F1-B270-47957FE2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59047-337D-4808-9269-46342315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ED8D4-D4BE-4EFE-80F1-624BD46D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B480-ADF4-40FF-8845-ACB0148E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3D6E7-4BED-4D3F-866F-83A1C105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0371E-12EC-4FD5-8A07-46724CCE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5D4747-8459-4981-AB34-3065832A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7E816-DE27-4788-B3AD-99A0101E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E0AFB-2D39-4DDB-BB1C-74D8B5C0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1F1F-66E6-4C62-BC8C-6DB15783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D325-BC03-41EE-8B38-492EA0FB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D08F-3E81-4F19-83D3-863161CC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0D8D-141F-4EAC-ACB3-D373DCBC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AF66-2B3F-4A20-A5F7-621B9348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01F-C7A9-4E72-8AAA-C4FE9194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6A53-CA6B-4372-996E-9C93F468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4B55-C3BF-4331-9F00-5CBAB702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8F16-9813-4A87-B790-0171B188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D691-6C23-46F2-9A2D-E6AFF30F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DDE4-8D31-4ED2-8297-0E84B6D8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FAF5E-937A-419B-9288-424F8AF1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955B2-229B-4A63-B17C-6089EB68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B2C2-43E3-470C-9886-45A03EEA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3691D-FAB1-4711-B54A-227E6CED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7060-AA1B-47EB-B93A-5881D9D8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B55-A438-4E73-9939-2D166C83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59D2-2157-4CEF-A33E-4761E6A3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71263-C9C9-4C8E-82ED-42D657D1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0925-C01C-498C-985D-AB9890CF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D5346-11FD-489C-AEC1-CD2DD1D6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D7125-3B08-444C-8F1E-D2AC660F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EE531-203B-412E-9554-14C6747B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2A9D2-1094-4870-81DF-1092D49C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00C90-5A4B-404D-AFE9-96629A3D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5A8A8-1218-4EAB-BD76-40876D7A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3E69F-3ECD-4617-9344-9DD66CC1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858-06B0-4EA9-8583-B7C1FBF2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3933D-FD76-45CE-9EA6-3BC2EC07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C0C0A-DC3A-42E8-B0B9-A1A1B0E2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13273-4404-4E16-A4DC-28E47457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51DC1-D8C1-4BBA-A66C-C905304A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108F5-D477-4843-9C62-BF84B9BD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16885-DA38-4B39-ACA8-9026DECD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D45CB-983E-4C5E-ACA5-BA074D3B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C43DC-8708-4CE9-B870-0FA07DEC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B816C-0AC5-4DDE-9D19-948476F8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FAB89-8839-4DEF-AEC5-BFAFD946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8DB-54D4-41F8-9CDA-1B012429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011C7-B585-482D-A54D-3F762F4D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E99C7-271D-4CC6-960C-ACA99195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81E58-EB57-4F10-A8C2-11921801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2CF34-29BF-4FE4-B7E3-6C5A7DE3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20FD4-C0E4-4597-8FD6-1B92FDDD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D6E65-32E7-4138-9A18-CC6A5A29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6EC11-9E7A-48E7-94BE-4681CDF0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E19C7-366E-4C31-BAD4-B72D9FC4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05E3B-D762-4EA1-866F-305F3BA2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8D6D0-BDBC-4A87-9AB6-0C74D2C9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E0A-D078-4EE9-B194-BCBC2AF7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C5297-2044-4CE6-A5B7-A3418A72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AD2A3-0678-4BD7-8EF3-C2433C40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E79F7-8421-450D-A81D-770B2444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0FA2A-1F91-4BB3-B6AD-95EFC9BF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76F35-094C-4230-A222-9F0F4DA0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BA30F-21C3-469E-87C5-3292BD58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717E2-4419-4DFA-8176-B4AA29BF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75AC5-0699-4215-B4EC-84478FF0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35F1F-47DE-45C0-90EF-36E9E972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9D5DB-CD22-45E9-A045-E6514DF1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3FB-4129-43E3-8EF4-AE24A7EF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04E3C-C33C-4534-A5CC-96687167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BB5F0-7A43-44D6-B77F-133552C9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B27BD-6C5A-4DEF-99AF-528FABB4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725FB-843C-4808-9941-C6CDBD45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31D0D-4F71-4585-AF25-0FCE9164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3CF39-D118-4522-A841-6DF416D8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A29C9-9B30-46A3-861E-472A01D1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432C4-2B0E-4EC1-9B28-4B976A93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F0C44-140A-441C-A75C-1A5D2D9E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43A02-2DD5-490D-AC61-C1BCE9BB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466-EDE4-4F05-A4F4-D0E62B0E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C0117-2AB2-4B8D-BDCC-54403EB9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0FCDB-933A-4FB4-B84A-D1552950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9369D-95D8-4388-8B2F-9DE4AF20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C16E2-20F2-4D85-B2A3-A28CEC62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9494F-2DA6-4607-A525-E01735E8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5AFD5-6242-4612-ABE9-159092E5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D5A81-B16C-4A0A-B5F7-9008762E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76BA8-8717-428F-8D78-83573BE7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A238E-D478-4A4B-AF1F-AD85A451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C6659-3371-47E4-B2CF-679F4789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5C2-DB34-4B20-8C73-7BAF9062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B94E0-536D-4768-91EC-E6B77C6B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63ACB-9D62-4A54-8511-44A9A2BB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4E38B-0F19-4175-AD75-03442C38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EDA0A-7065-4E2F-B5B5-99744147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B6C60-1094-433E-BC26-E0B5C315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B95C9-6749-4234-BB60-0386805F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3C686-9A4D-4DC4-9442-56CC5668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3F289-5FAA-428F-9FEB-23E087C6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F6DE4-2C3B-49FB-8D34-CB1CB00F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37B54-71C2-40BF-95E0-DA074F19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730E-8E0A-425E-8DBF-EB4CBFB8955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D264-3AAC-4FB1-AB79-A2BC1AFAD28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B19D-B6F1-4E35-8565-8C30960C6B2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FC7C-C590-4525-85A5-AA37EA7C0B8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36E4-BA4E-4664-BF8C-6D7CA5605F9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96A7-1436-4BBB-B687-14F62988FA4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0959-DD78-4428-A1D3-EA6EACE39FF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8ABC-AAC8-42FB-8C26-E470E688813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4057-784E-4D65-B1C5-73F4DDFD389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F20F-B6F4-41AC-9DED-D604B1546C2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F482-1974-4FEC-8402-975C21842C9B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00BA-8AE7-4256-8A6A-081FFFAD7FB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 KYLE BOTE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hoto Essay Evalua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2" descr="http://www.smh.com.au/ffximage/2007/10/31/sony_wideweb__470x399,0.jpg"/>
          <p:cNvPicPr/>
          <p:nvPr/>
        </p:nvPicPr>
        <p:blipFill>
          <a:blip r:embed="rId1"/>
          <a:stretch/>
        </p:blipFill>
        <p:spPr>
          <a:xfrm>
            <a:off x="2541600" y="3633840"/>
            <a:ext cx="4108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racteristics of the Gen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haracteristics I focused on were to make the audience feel uplifting and joyous. I also wanted the audience to feel as though they were traveling the globe at sporting ev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y audience for the piece was my GT class and teacher of the class and (possibly in the future) par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mentor texts that inspired me to create this were biographies of famous sport players and books of different cultures studie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C:\Documents and Settings\Twlab\Local Settings\Temporary Internet Files\Content.IE5\4P02585H\MCj04238420000[1].wmf"/>
          <p:cNvPicPr/>
          <p:nvPr/>
        </p:nvPicPr>
        <p:blipFill>
          <a:blip r:embed="rId1"/>
          <a:stretch/>
        </p:blipFill>
        <p:spPr>
          <a:xfrm>
            <a:off x="3670200" y="4419720"/>
            <a:ext cx="1803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riting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680" y="12949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idea for this piece started when I was looking at photo essays online when I saw one for food people eat across the globe. I thought an around the world type essay would be a great idea. I also read and article about Brazil winning a soccer tournament when the two articles combined into my photo essay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had to research sports from corners of the globe and learn how they were played by using Google.  I found my images by figuring out the name of sports and Google-ing  the sport name. I also searched for uplifting music to fit my genr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2" descr="C:\Documents and Settings\Twlab\Local Settings\Temporary Internet Files\Content.IE5\QPAYIMES\MCj04417320000[1].png"/>
          <p:cNvPicPr/>
          <p:nvPr/>
        </p:nvPicPr>
        <p:blipFill>
          <a:blip r:embed="rId1"/>
          <a:stretch/>
        </p:blipFill>
        <p:spPr>
          <a:xfrm>
            <a:off x="4741920" y="18288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7"/>
          <p:cNvSpPr/>
          <p:nvPr/>
        </p:nvSpPr>
        <p:spPr>
          <a:xfrm>
            <a:off x="457200" y="228600"/>
            <a:ext cx="822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b86"/>
                </a:solidFill>
                <a:latin typeface="Geo Sans Light NWEA"/>
              </a:rPr>
              <a:t>Technolog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380880" y="990720"/>
            <a:ext cx="853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chnology skills I applied during this project were learning how to use PhotoStory 3 and learning what kinds of music fit moods. For example, when I wanted my slides to feel uplifting, I didn’t want to make it sound like the commercials for abused animals. I had to learn what was best fitting by searching uplifting on FreePlayMusic.com. When I was learning how to use PhotoStory 3, I had to think of it as something other than a new program, but one that I know how 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" descr="C:\Documents and Settings\Twlab\Local Settings\Temporary Internet Files\Content.IE5\EN1IA72F\MCj04404540000[1].wmf"/>
          <p:cNvPicPr/>
          <p:nvPr/>
        </p:nvPicPr>
        <p:blipFill>
          <a:blip r:embed="rId1"/>
          <a:stretch/>
        </p:blipFill>
        <p:spPr>
          <a:xfrm>
            <a:off x="3124080" y="3124080"/>
            <a:ext cx="2306880" cy="29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C:\Documents and Settings\Twlab\Local Settings\Temporary Internet Files\Content.IE5\6R6I2CM4\MCj04418840000[1].wmf"/>
          <p:cNvPicPr/>
          <p:nvPr/>
        </p:nvPicPr>
        <p:blipFill>
          <a:blip r:embed="rId1"/>
          <a:stretch/>
        </p:blipFill>
        <p:spPr>
          <a:xfrm>
            <a:off x="3678120" y="4724280"/>
            <a:ext cx="1787760" cy="1447920"/>
          </a:xfrm>
          <a:prstGeom prst="rect">
            <a:avLst/>
          </a:prstGeom>
          <a:ln w="0">
            <a:noFill/>
          </a:ln>
        </p:spPr>
      </p:pic>
      <p:sp>
        <p:nvSpPr>
          <p:cNvPr id="619" name="TextBox 4"/>
          <p:cNvSpPr/>
          <p:nvPr/>
        </p:nvSpPr>
        <p:spPr>
          <a:xfrm>
            <a:off x="533520" y="380880"/>
            <a:ext cx="861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b86"/>
                </a:solidFill>
                <a:latin typeface="Jokerman"/>
              </a:rPr>
              <a:t>Affective Develop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380880" y="11430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learned that I like sports more than I really thought. For example, I would only play tag and think that football was a sport for jocks. Know I know that sports are actually one of my core values. I have now realized that I enjoy photos more than I used to. For example, when I looked at photos, I saw them as pictures and not mo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valu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TextBox 2"/>
          <p:cNvSpPr/>
          <p:nvPr/>
        </p:nvSpPr>
        <p:spPr>
          <a:xfrm>
            <a:off x="304920" y="1523880"/>
            <a:ext cx="85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think my work was very amazing and that the effort I put it paid off at the end of it all. In 1 to 10 scale I’d say 8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am proud of my musical choices because they were very happy and enjoyable. I am proud of these because it took a lot of time to find the music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of the challenges I faced were narrating while many others were too. I had to wait my turn even when others didn’t notice I was wor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my next project, I’d like to use PhotoStory again but to summarize a book (just an idea) with pictures and narration. I would like this because while PhotoStory 3 is fresh in my mind, and I’m interested in pictures and reading no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C:\Documents and Settings\Twlab\Local Settings\Temporary Internet Files\Content.IE5\CM01TH7Z\MPj04432510000[1].jpg"/>
          <p:cNvPicPr/>
          <p:nvPr/>
        </p:nvPicPr>
        <p:blipFill>
          <a:blip r:embed="rId1"/>
          <a:stretch/>
        </p:blipFill>
        <p:spPr>
          <a:xfrm>
            <a:off x="5638680" y="5105520"/>
            <a:ext cx="117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55:26Z</dcterms:created>
  <dc:creator>ITSUser</dc:creator>
  <dc:description/>
  <dc:language>en-US</dc:language>
  <cp:lastModifiedBy>ITSUser</cp:lastModifiedBy>
  <dcterms:modified xsi:type="dcterms:W3CDTF">2010-02-04T18:37:50Z</dcterms:modified>
  <cp:revision>8</cp:revision>
  <dc:subject/>
  <dc:title>Photo Essay Evaluation</dc:title>
</cp:coreProperties>
</file>