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576C-8F42-44D9-9CA1-2AB943BD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F2E5-1180-4C88-A296-7A44E448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85981-8C7F-4E26-AA10-E986FB15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1ABE47-EC23-494A-BB84-E11AD7F5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AB84DA-BDD7-4EB5-AEB5-1A1EE79B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CB253-A301-4347-A17B-BA074F38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3F9F88-2C1C-44E5-9BF6-764ED5E9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2870E6-DB8F-48E2-B6E3-44601A70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D8237-06B4-4F6D-B56A-EFC7921B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62D1C0-6088-403C-B4D1-E07F1D3E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14859-9753-4BE8-A669-9D55463FA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A2F439-C491-4B91-A898-15D350B9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7B10-145E-4DA0-B982-EB1EA45EB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A9520C-0709-47F2-9F10-78FED78F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13EFBC-17C3-40FE-B596-B5F9F5A68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CA0F72-AB98-4DC3-839D-5369F3AE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99E8E9-7173-46CC-83B5-2E42A7647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18914E-979F-4C89-B1B4-0877A554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7F8B4D-933C-4984-A8CC-82C85C49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F7859-D37D-4139-9432-916A648B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1E8E7E-082A-4176-AA95-F19EDE2C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0C6477-F7C1-4A22-B558-A572508A3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F7CA35F-923B-4C6B-BEAA-184CA764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202E-265C-4188-A5E8-AF134263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BEBA2C-6920-4897-9734-48B1A7BD8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55FB16-E83A-4F53-A191-B872F9F0C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A3EA3-8EC0-4DF7-A0B9-D40C01833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CA25F7-AF44-4C01-8D2F-66CCFA01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740F9-1AE0-4BC1-AA32-09F618FC2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DD564-6E28-4701-BF07-881EDB6A3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AEED03-8FB7-4475-92CB-ED0C57810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EBCFE-47DA-4998-90B2-6FF1A681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B21FB-3BAF-4A4B-B662-0912D825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6B770-E706-4F50-A887-FD0D2DA6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92C5-3885-4F21-8CC0-4C3034BC0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C5FAF8-77CB-42D4-B187-3123E4F7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284EFE-91BC-49B7-801F-6284AB60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425A9-FF50-426E-A116-DE45669ED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954863-3CED-4B50-9DE0-9B6343B2C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A8DBE-DC70-4AAE-9936-4AA01DFB8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587CEF-FF84-4CF0-A675-AE4DCD66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A3617-EB93-4E42-B781-452AD560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DCCA3B-8772-46F2-9310-02913B744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A29EBD-316A-4598-88AF-92303C73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016A94-9337-45F4-86AC-93138843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4E747-A3EB-456E-89FF-C30CB213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0CA69B-A0CB-4AAB-9BFB-9193DE40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D5EB19-4781-48B4-932E-7ECD314C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028787-6C4B-4033-8D2E-BA83E8DD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53F64C-77DA-4141-B764-B3D8B0568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15B1A9-E458-4AA1-B449-8EC1BFC5D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3B2DC-2A7E-435B-8CB7-4BCE78E1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A645-62BC-4C40-B4F1-63E239D6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E018-AB95-4604-9D93-1DE1BCA1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CCA5-1E26-4C0E-BB21-1C5836C0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B9465-A437-4255-A7C7-1113A0B8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D98F-9D03-4A60-AB1B-EE86BAB3B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EFDA-5E6B-420A-8A20-138AE431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5692-E3B3-41F8-BD59-0C5F58BA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70A69-D77F-40E2-8CCD-904B4EB6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E573-5A37-4193-A1C0-99EB5908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A068-6847-4376-96E6-DAA1F164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D2151-9B6E-4303-986A-5F76B6B03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3C9AA-4A84-4AB1-BE26-2524716B1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808A6-CA45-4559-9F25-E0D363F0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CB2D3-3D43-4F7C-9D4E-D7793DE1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993E4-C7AF-4C95-8D98-3F59B622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75E9-832F-4EDE-A308-4AD2A4ECC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80DAE-9DD4-44A6-94E0-639FB4F9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B73A4-C5A8-44B9-A62D-6AA6B517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BE4DE-B5E0-474A-8740-3D6C6DDE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A6217-3CFE-4C60-BA14-7D3B1324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68C02-A35A-4967-9518-27AB4068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D10EC7-28CA-4170-90C5-DDFD673F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4076D-1502-46DE-90B3-184D9A90D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F4CCD-D453-49A6-A432-6D303DDF9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4D8A0-3B69-4982-A98F-B3F0F8BC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F8B31-97D9-444E-9A36-79330BD7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0B2-15BC-4900-AE79-DE1980D7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7FBF6-5858-4650-BF1B-A798D0AB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5B291-BF3C-4EC1-8290-72679A98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82FC9-2FE7-4166-80AD-3580DC84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E1689-E32F-476C-AC98-CC7B90F6B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176A2-76AE-4096-8A6D-3E9480EF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D9C05-C523-477D-A80E-C9B0D182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AFC86-8C3D-47DF-B455-A63C1317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08ABD-32FE-4370-AD24-364063F5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25F43-1147-4348-A5EF-51FE054D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FDC600-367A-4726-BB3A-EA571D9EA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AA33-04F2-4033-9893-7C162A5DB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14E6F-3A4D-4172-AFF5-3B05D418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B6871-585B-4698-8D29-E286886C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25443-571F-4A96-B117-719AF828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E9EB3-8E1D-4DEA-A908-BCBF8BF4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FF9F9-0408-4E70-B5CC-F3167A093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A3C18-DF0F-4130-8C7C-DAADC4A3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C4D5B-AC57-4747-85B5-83AB972C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1B81C1-404F-4E42-87B8-20F7C12B9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7CA8C-F76B-4D5F-A71A-5F052593C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81CAA-F278-4547-959F-D287B3992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D15-038C-46F0-953C-13FB8944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892A1-C3AF-488D-9330-D05254FFD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8C813-1FCA-46D1-A74C-87B8BA42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134FF1-68CE-4DC7-8A5E-6F4005EA4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62956-8211-4FE2-9813-24964E204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EC819-D25D-4362-8FF3-9DA195A1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EDF423-8DC1-4EAA-94C3-5174DEE3B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3F4E0-5F2B-4A21-9BD2-04E38B96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5AFEB-11C1-4741-A891-F8FC47A3A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91D51-A802-4ED5-847F-ADE43EC5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30328-EE7E-437C-94E7-13DC9B12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DDC6-30F3-47BC-A97F-CCF4D6F5D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8FDA6-5107-4E56-93DC-0953EDE5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FE3B0-0580-4CFD-98EE-7B76956F6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6CE63-0CD9-4A32-984C-AFC41968C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82C51-40E8-4EA5-A54D-2A3C03E3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BDA5D-7EEC-4096-9AB5-6B1E5622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9DD970-A728-4F66-9733-990E2C07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85DCC-B9D7-4F1E-BA61-3C46BB01A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5B163-D544-475C-8851-EA6430E9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4C85F-C848-4451-BC2F-B499B1A8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92F06-48CB-4090-9078-5A4D9FB4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772C-4A4C-49B0-BD13-13FF74141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7F8D9F-0DFD-44D7-9D61-B78E619C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02B99-41DA-4ED0-B89A-608F8B12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94869-1B19-422E-9257-0BEBA001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1BD5E-1F5A-40AA-B4BF-60AB2CA39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31255B-E86B-485A-99C8-33E2F36C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68D2A-F32B-4043-B047-D8CF447BD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090E7-C9D9-4EE8-818F-EF744862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F7C46-3A72-4C56-A3DF-90B78F54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7B493-DEA3-404A-B1D2-A741D6CF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6994F-212C-4B6E-9E71-67388047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0ED-C427-468F-8FDD-7633AD27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9D1931-5942-4AD2-82C0-217CEC71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593CB-5646-473D-87FB-C6E9A31A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E90DA-58C2-47AC-95E1-47761854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54D24-DFF1-4322-B32A-C80ACBE5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AA1D2-C2F7-409D-8E99-FB9DC0F85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39640B-4E55-4E30-A36E-113DF5E0F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B3C32-5754-4DB7-B8CA-59B86223D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2B2AF2-2641-4C7C-A841-30C7C804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20CC04-C9BD-4151-80CD-567109A8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5BA159-8E70-4973-A1A8-00FA61DD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123F-E759-4471-B7E6-F4AEADAFB94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862A-8BC0-4F65-876F-C8AA6F83F0A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F91A5-2CD5-4E5B-84E7-CE0AE1349DF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3A73-6E23-444A-B639-3F7B21B6E87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DA2C-FB9C-4256-860B-CFB23F957B0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D95D-12B2-487A-923F-CB9D3C03ADE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F13D-B2C4-4069-AE64-7F9B8BEDC0DF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3BE6-37C8-4A26-A63B-DEE22F087B2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FDC5-5DB2-4DFF-9F26-D0BA539ABF9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436E-E3E3-4DAD-8923-AC84C1274C9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8DA4-43F3-4904-BACC-2B44ABE9DACE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310A-2C75-4DF5-9D2D-069915490DB7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Y KYLE BOTE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hoto Essay Evaluat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2" descr="http://www.smh.com.au/ffximage/2007/10/31/sony_wideweb__470x399,0.jpg"/>
          <p:cNvPicPr/>
          <p:nvPr/>
        </p:nvPicPr>
        <p:blipFill>
          <a:blip r:embed="rId1"/>
          <a:stretch/>
        </p:blipFill>
        <p:spPr>
          <a:xfrm>
            <a:off x="2541600" y="3633840"/>
            <a:ext cx="41083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aracteristics of the Gen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haracteristics I focused on were to make the audience feel uplifting and joyous. I also wanted the audience to feel as though they were traveling the globe at sporting even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y audience for the piece was my GT class and teacher of the class and (possibly in the future) paren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mentor texts that inspired me to create this were biographies of famous sport players and books of different cultures studie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Picture 2" descr="C:\Documents and Settings\Twlab\Local Settings\Temporary Internet Files\Content.IE5\4P02585H\MCj04238420000[1].wmf"/>
          <p:cNvPicPr/>
          <p:nvPr/>
        </p:nvPicPr>
        <p:blipFill>
          <a:blip r:embed="rId1"/>
          <a:stretch/>
        </p:blipFill>
        <p:spPr>
          <a:xfrm>
            <a:off x="3670200" y="4419720"/>
            <a:ext cx="18036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riting Proc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680" y="12949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idea for this piece started when I was looking at photo essays online when I saw one for food people eat across the globe. I thought an around the world type essay would be a great idea. I also read and article about Brazil winning a soccer tournament when the two articles combined into my photo essay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had to research sports from corners of the globe and learn how they were played by using Google.  I found my images by figuring out the name of sports and Google-ing  the sport name. I also searched for uplifting music to fit my genre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2" descr="C:\Documents and Settings\Twlab\Local Settings\Temporary Internet Files\Content.IE5\QPAYIMES\MCj04417320000[1].png"/>
          <p:cNvPicPr/>
          <p:nvPr/>
        </p:nvPicPr>
        <p:blipFill>
          <a:blip r:embed="rId1"/>
          <a:stretch/>
        </p:blipFill>
        <p:spPr>
          <a:xfrm>
            <a:off x="4741920" y="18288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7"/>
          <p:cNvSpPr/>
          <p:nvPr/>
        </p:nvSpPr>
        <p:spPr>
          <a:xfrm>
            <a:off x="457200" y="228600"/>
            <a:ext cx="8229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b86"/>
                </a:solidFill>
                <a:latin typeface="Geo Sans Light NWEA"/>
              </a:rPr>
              <a:t>Technolog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"/>
          <p:cNvSpPr/>
          <p:nvPr/>
        </p:nvSpPr>
        <p:spPr>
          <a:xfrm>
            <a:off x="380880" y="990720"/>
            <a:ext cx="8534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chnology skills I applied during this project were learning how to use PhotoStory 3 and learning what kinds of music fit moods. For example, when I wanted my slides to feel uplifting, I didn’t want to make it sound like the commercials for abused animals. I had to learn what was best fitting by searching uplifting on FreePlayMusic.com. When I was learning how to use PhotoStory 3, I had to think of it as something other than a new program, but one that I know how to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1" descr="C:\Documents and Settings\Twlab\Local Settings\Temporary Internet Files\Content.IE5\EN1IA72F\MCj04404540000[1].wmf"/>
          <p:cNvPicPr/>
          <p:nvPr/>
        </p:nvPicPr>
        <p:blipFill>
          <a:blip r:embed="rId1"/>
          <a:stretch/>
        </p:blipFill>
        <p:spPr>
          <a:xfrm>
            <a:off x="3124080" y="3124080"/>
            <a:ext cx="2306880" cy="29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C:\Documents and Settings\Twlab\Local Settings\Temporary Internet Files\Content.IE5\6R6I2CM4\MCj04418840000[1].wmf"/>
          <p:cNvPicPr/>
          <p:nvPr/>
        </p:nvPicPr>
        <p:blipFill>
          <a:blip r:embed="rId1"/>
          <a:stretch/>
        </p:blipFill>
        <p:spPr>
          <a:xfrm>
            <a:off x="3678120" y="4724280"/>
            <a:ext cx="1787760" cy="1447920"/>
          </a:xfrm>
          <a:prstGeom prst="rect">
            <a:avLst/>
          </a:prstGeom>
          <a:ln w="0">
            <a:noFill/>
          </a:ln>
        </p:spPr>
      </p:pic>
      <p:sp>
        <p:nvSpPr>
          <p:cNvPr id="619" name="TextBox 4"/>
          <p:cNvSpPr/>
          <p:nvPr/>
        </p:nvSpPr>
        <p:spPr>
          <a:xfrm>
            <a:off x="533520" y="380880"/>
            <a:ext cx="861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b86"/>
                </a:solidFill>
                <a:latin typeface="Jokerman"/>
              </a:rPr>
              <a:t>Affective Develop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380880" y="114300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learned that I like sports more than I really thought. For example, I would only play tag and think that football was a sport for jocks. Know I know that sports are actually one of my core values. I have now realized that I enjoy photos more than I used to. For example, when I looked at photos, I saw them as pictures and not mo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valu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TextBox 2"/>
          <p:cNvSpPr/>
          <p:nvPr/>
        </p:nvSpPr>
        <p:spPr>
          <a:xfrm>
            <a:off x="304920" y="1523880"/>
            <a:ext cx="853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think my work was very amazing and that the effort I put it paid off at the end of it all. In 1 to 10 scale I’d say 8.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am proud of my musical choices because they were very happy and enjoyable. I am proud of these because it took a lot of time to find the music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of the challenges I faced were narrating while many others were too. I had to wait my turn even when others didn’t notice I was wor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my next project, I’d like to use PhotoStory again but to summarize a book (just an idea) with pictures and narration. I would like this because while PhotoStory 3 is fresh in my mind, and I’m interested in pictures and reading no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C:\Documents and Settings\Twlab\Local Settings\Temporary Internet Files\Content.IE5\CM01TH7Z\MPj04432510000[1].jpg"/>
          <p:cNvPicPr/>
          <p:nvPr/>
        </p:nvPicPr>
        <p:blipFill>
          <a:blip r:embed="rId1"/>
          <a:stretch/>
        </p:blipFill>
        <p:spPr>
          <a:xfrm>
            <a:off x="5638680" y="5105520"/>
            <a:ext cx="1170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55:26Z</dcterms:created>
  <dc:creator>ITSUser</dc:creator>
  <dc:description/>
  <dc:language>en-US</dc:language>
  <cp:lastModifiedBy>ITSUser</cp:lastModifiedBy>
  <dcterms:modified xsi:type="dcterms:W3CDTF">2010-02-04T18:37:50Z</dcterms:modified>
  <cp:revision>8</cp:revision>
  <dc:subject/>
  <dc:title>Photo Essay Evaluation</dc:title>
</cp:coreProperties>
</file>