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0423-D818-4306-807A-000D86430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917F-4AC5-4773-9D72-AFC67225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45AB72-145B-4AAE-AFAB-7EB9E1A6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9B6A8C-1C95-4726-8708-023DADD8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F57407-58A1-4A08-8ABE-442EA6B1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774D3E-0D68-497B-9351-1F2B67C2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14D337-D027-4584-9579-0E7F3CB1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DD81D6-964D-424F-824C-F3CF5233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F819AB-1250-4913-BC70-E9FCA9CB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6881A3-9381-4BC5-99B2-C4B81082D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622DF6-4A84-47DF-9353-C8F1C7C35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483A55-8E20-4AB7-96E4-FFCA496EA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0965-CA4D-4E61-B539-7DE44D10E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D2077C-B2D7-44C1-BA24-3F89190E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1DC9A7-0C15-43BA-9D5E-4B6EC3D8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852543-F88B-4713-8A3C-33D59AAB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3F0B38-4350-4169-BA10-6D8477E9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AA531E-1327-4616-A2EB-E70FD1EB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749700-3983-4FF8-A03B-BEC6DCC9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C86DFC-346A-4EF5-B4B8-5B78E9FE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B6AACB-3DF9-4AB8-968B-D3C5BDD2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E84F2E-4256-4BFF-90AC-20677D97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F09386-EA8E-4F6C-BC1D-3FDB4D5BB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5981-81CE-4351-95E7-086A15048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6CA136-8F28-49F1-9AA9-5813C3C81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D1933-CDAC-402D-A47E-9BD8F86C3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9AE6CE-CB17-4281-A6D1-E8830B08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E5313-DFEA-4ABE-9FF4-6CC2DCE8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8EFB9-B172-4E92-B0A0-CD2E2F79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53957-DDCB-462F-B8ED-67640F47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24F61-9613-453B-9825-5CCD343F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CF2E3-A822-464B-AFCF-1548CB00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3B80D-D0DE-48A6-8AFC-0CCF104E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4DBCA-6938-4C63-93C1-60FFBD9D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E22E-D4D0-47A5-AEBC-E017A5624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E7C3F-C38E-4128-AFF6-6098A1BD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7EC5C-18F4-4FFD-8565-2DEEC9230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FDAA4-03CE-47AD-812C-14ACCA86E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99E589-2A33-48B0-A5D2-DC9A2EB61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9785B2-C734-487F-9DC0-7714180E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B5E514-BD8F-4831-B8F4-1E684565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540F3F-2052-47D4-8CC0-A3AD5A55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5B8DDB-D918-4E6B-9EB2-4764F62D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13F829-8E87-46F5-8718-3396CF04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3EDB77-FCFF-4751-A740-10B1531F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1E03-3DBD-420A-8E20-2DF1FC00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4F9FE1-233A-4605-8DE0-359A1AAF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6CF2C2-5618-46AE-B567-33A9F672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3E6F05-248B-49F6-ABC6-E3656902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4554DC-19BC-4D62-866D-14C5066D5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F96607-E61A-4E23-8406-F5902BB92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A788-D3F2-4A1D-8CCF-0C73D7F3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B936-6336-40FE-BA88-DEC4D162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C226-4AF6-4CA4-AFA7-5929115E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601A-DB2A-4688-AF48-21C6E0CE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86AA-902E-4C5C-AF3D-9BA6D39C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36B6-DA94-492B-8EB8-5743D366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5FC5-B460-4A34-B0FB-7D057F29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A316-C295-4978-BB4A-7DC815A8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C2A9-CCF6-4011-B25E-029A6EC6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6D5A-C256-47BB-B63A-A3C1A3ED3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00D0-A310-4FEE-84F4-107D924A9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B82BF-07FA-4158-A3B6-A810649D7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4EAFF-5CF1-4B29-AE63-501806EB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722C9-F6B1-46B2-B67F-A0CFA011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2DEF0-07DE-4498-A7B4-054DB4AB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0ECEE-2042-4AF7-841B-93256CA1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EFB3-8B5C-4437-9559-14774647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1D312-5F0C-458E-82F3-E473AEAB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E0A6F-487A-4C90-A814-330D2D97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92D11-D2AB-449F-95B6-33555BE5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9795E-D8DB-4E37-B9D0-E1E47402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BFC13-52D7-43EB-84C1-53C293C8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24C97-BB40-4F68-B8E7-D6672DE95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56EBE-ACE9-4C50-B9D7-63750DD47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636AB-BC71-481F-BF9A-FE5990B7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75A6A-9217-4AB9-A98E-511265A3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F8C85-6D14-4CDB-8F5E-D5CC3646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ED39-A621-4139-8973-FDFA3B4E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AC8FB-5F93-4F43-AEA5-C96C61CD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FB460-0F13-465A-ACE3-1B83EC38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8D2D5-D053-4207-A051-C52A337C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84013-E416-4550-97FF-AE9C2825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FE9B7-1D48-40EA-87A1-5EE1991E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C252D-52E9-4F54-9DA1-EB4ABB43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8A396-6ACC-48E0-A5B9-7E352F4B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83137-3F4D-401F-9B17-CCA902303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36014-1FF3-4FA8-883E-9CF686A11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B9A19-BEAE-4930-BB13-131AC1A8A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26B9-A8F3-4144-AC23-497CC411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1DE9C-A934-4FB1-A0F5-EE1BE8CB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FB3E2-FEC3-41D7-997E-55FD10DB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EE0FF-3B59-43DC-83AC-234B93A8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FA698-9094-4D0F-A76A-BA6B6D1C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97535-A8F5-425A-A3A3-85E41144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8A8BA-E0D8-4F47-B179-73DA3676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CDF37-39DA-4D72-A3BD-17DCCB81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ACAB9-C01C-4D25-9291-79596DC5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547F5-3189-42E5-9429-10727E33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98E32-D250-4F14-8732-EAE3FDB3C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5BF2-DB0A-4C0E-A602-EF238C33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D8922-C09D-4E34-AA5B-123366495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2FC07-1FC4-43AE-92AD-D2E4C48A5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0B35F-D3CB-49D9-9ADE-9E622CA9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B8042-C3E8-4EE8-9069-6383D604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FEEE4-CE6C-4EE4-A3A0-D73A5F82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F9527-E172-4B89-80C7-F734207F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2A356-4A1E-4BE4-8C97-6EE031B5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65D22-4946-412D-912F-148EBDED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18732-0E70-44FB-8D8F-08F25B0A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EFBF5-96AF-4460-A943-BE1F0B35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1437-EE66-471A-AAC9-4D9BA895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1C192-8854-468F-87C7-8C116D9A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E3F00-9D21-4054-A18F-9503C8B98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81AB6-6944-4ADA-A406-AAAF8F10D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78CB1-CC81-48DA-9EBB-A123DD348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C6070-4F4F-4E8F-8E75-65847022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A22B0-3BFB-44F0-9CD4-EBD545F8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2D8ED-32A6-420A-916A-EE362709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7ABC0-3F71-4321-8DC6-A50EBC38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B0435-46C7-4933-BAC0-AD6121CB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7534A-083B-4CCA-BF2C-07FCFD90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7A63-18F0-473D-960C-41866612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D13C9-9F63-485B-886D-F783A6B1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6918B-4122-4778-A3D6-522472FB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C1DB8-DF4F-471A-9534-E32B169C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4DCD7-C936-42FB-B278-47B5726C0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021C5-3F31-43D3-A3ED-62562BBF2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E3DBD-0E42-4AF6-982F-1D68EE7BF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BBF1C-6CBF-4345-9858-97105EBD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40F43-57F8-41DE-92A1-9711A0B8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36EE0-0B10-46EE-833D-A58C65AA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558F9-3B28-4B5C-BB2C-64A84D39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1885-A24E-41B0-A007-8D4876DE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1B822-E551-4566-A988-E90BF4E0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D7074-53DB-4AE3-B48F-1E8C97EA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8B43B-1DE2-4AA9-89C7-361249B7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50375-F2CF-485B-AE8D-33CF6599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3100E-1EA8-48C7-A4D4-8D5E6B7E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BAC67-EECA-4C88-B332-55BF70D68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47B23-CBFE-4F39-AE71-BC69BC9B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F4D5C6-D319-419B-91C0-F3C9D3F53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705B14-7024-4CB3-BCCC-DEF0A7F2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BFDBF1-A64C-49F7-9333-2BCC1D90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9BC9-0CA7-41E1-957F-609555478B6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0929-8038-40AF-9DA2-0A531FA809C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205E-6C2E-4D57-A56C-8C7BB20442B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EFCF-0E78-4924-BCDC-13352D55417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D8D4-0986-48D2-AD07-F31693268B1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C8E2-5E97-4B19-9C32-D7DF5A6C5E6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1F92-1D21-46F0-9F4E-E9A66C8F14A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0C54-E58A-4A8D-B0D7-8EBA27B3B57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10EC-AF72-4450-9C95-8CE98E1C432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77F7-E6E6-43EF-96E0-E87F0486E54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A8D3-CB38-4028-A766-C2DF21F42D01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77BB-4B98-4A90-B390-EBD3EBDB870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BY KYLE BOTE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Photo Essay Evaluation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Picture 2" descr="http://www.smh.com.au/ffximage/2007/10/31/sony_wideweb__470x399,0.jpg"/>
          <p:cNvPicPr/>
          <p:nvPr/>
        </p:nvPicPr>
        <p:blipFill>
          <a:blip r:embed="rId1"/>
          <a:stretch/>
        </p:blipFill>
        <p:spPr>
          <a:xfrm>
            <a:off x="2541600" y="3633840"/>
            <a:ext cx="41083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haracteristics of the Genr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characteristics I focused on were to make the audience feel uplifting and joyous. I also wanted the audience to feel as though they were traveling the globe at sporting events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y audience for the piece was my GT class and teacher of the class and (possibly in the future) parents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me mentor texts that inspired me to create this were biographies of famous sport players and books of different cultures studies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1" name="Picture 2" descr="C:\Documents and Settings\Twlab\Local Settings\Temporary Internet Files\Content.IE5\4P02585H\MCj04238420000[1].wmf"/>
          <p:cNvPicPr/>
          <p:nvPr/>
        </p:nvPicPr>
        <p:blipFill>
          <a:blip r:embed="rId1"/>
          <a:stretch/>
        </p:blipFill>
        <p:spPr>
          <a:xfrm>
            <a:off x="3670200" y="4419720"/>
            <a:ext cx="18036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riting Proces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680" y="1294920"/>
            <a:ext cx="4038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idea for this piece started when I was looking at photo essays online when I saw one for food people eat across the globe. I thought an around the world type essay would be a great idea. I also read and article about Brazil winning a soccer tournament when the two articles combined into my photo essay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had to research sports from corners of the globe and learn how they were played by using Google.  I found my images by figuring out the name of sports and Google-ing  the sport name. I also searched for uplifting music to fit my genre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4" name="Picture 2" descr="C:\Documents and Settings\Twlab\Local Settings\Temporary Internet Files\Content.IE5\QPAYIMES\MCj04417320000[1].png"/>
          <p:cNvPicPr/>
          <p:nvPr/>
        </p:nvPicPr>
        <p:blipFill>
          <a:blip r:embed="rId1"/>
          <a:stretch/>
        </p:blipFill>
        <p:spPr>
          <a:xfrm>
            <a:off x="4741920" y="182880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Box 7"/>
          <p:cNvSpPr/>
          <p:nvPr/>
        </p:nvSpPr>
        <p:spPr>
          <a:xfrm>
            <a:off x="457200" y="228600"/>
            <a:ext cx="8229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46b86"/>
                </a:solidFill>
                <a:latin typeface="Geo Sans Light NWEA"/>
              </a:rPr>
              <a:t>Technology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8"/>
          <p:cNvSpPr/>
          <p:nvPr/>
        </p:nvSpPr>
        <p:spPr>
          <a:xfrm>
            <a:off x="380880" y="990720"/>
            <a:ext cx="8534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chnology skills I applied during this project were learning how to use PhotoStory 3 and learning what kinds of music fit moods. For example, when I wanted my slides to feel uplifting, I didn’t want to make it sound like the commercials for abused animals. I had to learn what was best fitting by searching uplifting on FreePlayMusic.com. When I was learning how to use PhotoStory 3, I had to think of it as something other than a new program, but one that I know how to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1" descr="C:\Documents and Settings\Twlab\Local Settings\Temporary Internet Files\Content.IE5\EN1IA72F\MCj04404540000[1].wmf"/>
          <p:cNvPicPr/>
          <p:nvPr/>
        </p:nvPicPr>
        <p:blipFill>
          <a:blip r:embed="rId1"/>
          <a:stretch/>
        </p:blipFill>
        <p:spPr>
          <a:xfrm>
            <a:off x="3124080" y="3124080"/>
            <a:ext cx="2306880" cy="2986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C:\Documents and Settings\Twlab\Local Settings\Temporary Internet Files\Content.IE5\6R6I2CM4\MCj04418840000[1].wmf"/>
          <p:cNvPicPr/>
          <p:nvPr/>
        </p:nvPicPr>
        <p:blipFill>
          <a:blip r:embed="rId1"/>
          <a:stretch/>
        </p:blipFill>
        <p:spPr>
          <a:xfrm>
            <a:off x="3678120" y="4724280"/>
            <a:ext cx="1787760" cy="1447920"/>
          </a:xfrm>
          <a:prstGeom prst="rect">
            <a:avLst/>
          </a:prstGeom>
          <a:ln w="0">
            <a:noFill/>
          </a:ln>
        </p:spPr>
      </p:pic>
      <p:sp>
        <p:nvSpPr>
          <p:cNvPr id="619" name="TextBox 4"/>
          <p:cNvSpPr/>
          <p:nvPr/>
        </p:nvSpPr>
        <p:spPr>
          <a:xfrm>
            <a:off x="533520" y="380880"/>
            <a:ext cx="8610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46b86"/>
                </a:solidFill>
                <a:latin typeface="Jokerman"/>
              </a:rPr>
              <a:t>Affective Developmen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"/>
          <p:cNvSpPr/>
          <p:nvPr/>
        </p:nvSpPr>
        <p:spPr>
          <a:xfrm>
            <a:off x="380880" y="1143000"/>
            <a:ext cx="853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learned that I like sports more than I really thought. For example, I would only play tag and think that football was a sport for jocks. Know I know that sports are actually one of my core values. I have now realized that I enjoy photos more than I used to. For example, when I looked at photos, I saw them as pictures and not mo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valu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TextBox 2"/>
          <p:cNvSpPr/>
          <p:nvPr/>
        </p:nvSpPr>
        <p:spPr>
          <a:xfrm>
            <a:off x="304920" y="1523880"/>
            <a:ext cx="8534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think my work was very amazing and that the effort I put it paid off at the end of it all. In 1 to 10 scale I’d say 8.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am proud of my musical choices because they were very happy and enjoyable. I am proud of these because it took a lot of time to find the music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me of the challenges I faced were narrating while many others were too. I had to wait my turn even when others didn’t notice I was work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my next project, I’d like to use PhotoStory again but to summarize a book (just an idea) with pictures and narration. I would like this because while PhotoStory 3 is fresh in my mind, and I’m interested in pictures and reading no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2" descr="C:\Documents and Settings\Twlab\Local Settings\Temporary Internet Files\Content.IE5\CM01TH7Z\MPj04432510000[1].jpg"/>
          <p:cNvPicPr/>
          <p:nvPr/>
        </p:nvPicPr>
        <p:blipFill>
          <a:blip r:embed="rId1"/>
          <a:stretch/>
        </p:blipFill>
        <p:spPr>
          <a:xfrm>
            <a:off x="5638680" y="5105520"/>
            <a:ext cx="1170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7:55:26Z</dcterms:created>
  <dc:creator>ITSUser</dc:creator>
  <dc:description/>
  <dc:language>en-US</dc:language>
  <cp:lastModifiedBy>ITSUser</cp:lastModifiedBy>
  <dcterms:modified xsi:type="dcterms:W3CDTF">2010-02-04T18:37:50Z</dcterms:modified>
  <cp:revision>8</cp:revision>
  <dc:subject/>
  <dc:title>Photo Essay Evaluation</dc:title>
</cp:coreProperties>
</file>