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E5FB-452F-4DCB-83B8-19E8F233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6CE-C4FD-4CF9-B21D-4B57C929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EB0198-F3EE-49FC-8E4D-CB01D878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89DD64-68A2-4407-8586-0906067D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F0978-965B-4D01-A2A3-B5847B1B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50FDA-C17E-45C5-A28C-4FFBC7C8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D0D8DE-C03F-405F-AAAB-18E2D74A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BAB01E-4DBA-413C-9218-71E6A89B8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70FA9C-A9AA-4C54-ADFC-C2013D1E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373A0-B8BA-4E7D-B51F-7E42C6E22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C17511-EB15-4DBD-926E-7EE4D9511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2C131B-7FE5-46CD-A012-CB3909CE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E79A-364A-41BD-9961-A6BA36FF5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7706DE-79D1-4D30-B96A-DA7D491A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39A642-3EEB-4E25-AFCD-674A29E7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B73503-9266-49B1-8539-C3D2D679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0EE0E7-2926-4A11-82D5-F4DA4D74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1CBE7-5D49-44F0-AB2E-C163D52E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E0F99-4608-4E37-A293-3C5D1761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636881-310F-40CB-BAA0-914A7753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AF2ED-BD77-4CE1-BFFC-7CF41565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00BA9D-0856-4A4C-8D15-7903C8D3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118669-60FA-4E90-8E7E-31C41CC3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EA7E-6F01-45BC-BEF7-6541C716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7AED9-6ED2-463F-8CBD-0595F5678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1CADA-ECC6-4307-ACC0-9BF0214E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C6DED4-D191-4D45-AE7C-35B5BC0F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8F432-D421-4B0F-B6A7-CD50526C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EE652-B795-4CC4-9277-68DE3E1D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F451F9-BDF6-4405-B41A-A6E471D6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0E554A-E9B0-4BC7-86D5-2E326899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199E5-685D-48AC-8B0A-70DB35AF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E5061B-87EE-478E-8A28-C2106BAE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0CF82-B0B7-4BD0-833F-F2B3E4B9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541D-94DB-4843-8853-630D6C44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5C5C1-90F9-45B8-8E1C-FB7A5EA4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D84A9-C86D-4E44-986B-CB7EFCF30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1F3CA-D4E2-4CD4-960E-2F85E6BA1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AE96E7-88C5-4284-9CD3-F81504343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D4F7AC-20BB-47D5-BE1A-7C6242F9F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6E6688-4EF3-465F-82A6-138731EB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0933BE-3946-443B-B44E-E9C9FD0F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99DB0D-7542-4BE3-8260-EF665C5DF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94863-C514-4491-8833-368F9EA81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67DBBF-D2D6-45D5-88F7-A1C66A6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06A52-89F0-492F-8F5C-00E12E8A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EC5D14-3B35-4DB8-9C2E-56BCB331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04ABA7-B1E9-4694-A548-51F670C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A310A3-441C-42E7-9706-E46C6A8DB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ECF98C-4115-4CE0-AD38-FFF2BECC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25E98-26E3-48D4-BDAE-AC7CFBD1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F66E-1439-4214-8BC4-7AA3F276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7290-9F26-4C77-A7AF-1A21FFBD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62A7-24AF-459D-BAE3-0923576A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B33C-5F65-40AE-8AA1-F1BC1B40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7E4B-6BFB-4CD7-945F-C41A0667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7B12-1A3A-46C5-B8E2-FAE8EF72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E18F5-2174-43A8-B21E-BE26CFEA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71FD-9967-4FF2-8BDA-C0D0F172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88CA-A4BD-46B6-90DB-FF08C1203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A8B5-9C98-4E70-AAED-8D04427F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B81F-842C-46A6-AF90-33A564B9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4576-17DE-49D8-9230-D3CBBF6E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4A394-840A-4BF7-8F65-CA47A422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B3EC6-1949-4EF0-BF0A-7AC4570B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E7B29-E26A-4A82-AEF0-9C55FEF8D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A9524-CB9A-4500-8AD7-62812C0B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77ED-DF4C-4D06-932F-B40AA09D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EC7AE-9ED3-43C2-ABF6-6391C6A8A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66DB6-35D1-436C-A0DE-EC20B299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E94BA-F0B7-4EF5-AF97-11F53886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FC9A5-DF49-42C9-9B49-14619454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4B289-A866-41B1-BABA-D38D40EA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0061-BD07-4972-8251-6AEC72BE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13E99-40BD-4217-BB3F-437412B3C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8D99B-3345-4A6A-AC43-A10ACE7D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9B60-CC89-45D0-AEAB-E7E289E0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9A38B-CADB-4838-98B6-99C458DB1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8E52-5358-45D1-A7DE-FA2B3B30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6AC4-E24F-40DD-AA9A-96292490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B035E-DC10-4BB2-AFC8-9D6E3245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84822-02FC-4E21-A87F-40032F49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1DB2-ECE0-48AC-9EEE-B56849AB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61630-F01C-40F1-BE05-FAACACDB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0254E-2362-48A6-B851-44C22BA2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ACD40-9954-4E30-9454-BD9405CF4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DF4E6-2D39-4762-9AFF-E4DA8145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D86A7-92CB-446F-887D-CF4F92ECD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7294A-B654-48C5-AA50-76207D27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7B3B-20C7-4FD0-A6A0-78EB2708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2FEF85-EEEB-46A7-9E80-C261D331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61EFE-6289-4BA5-A424-9E0C8EA7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1A629-C609-4782-A232-90413667B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D779A-179E-451C-99BF-C19A2C5FF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AA95-B4D1-40C8-85D3-6A61C5C0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45C592-5F33-40A4-9C8D-237F79A4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F6E81-786C-41AE-8501-BB5F6C94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B52CC-E82C-4A22-8E99-7F83E19CB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2C214D-DE04-4314-97D7-DF86DFEE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C8202-66C5-4A53-93D7-F54FD2803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783A-A99F-4D42-8104-D96976D01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281E2-B2A3-46A4-99CB-05FC55E14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D351D-AA80-4A8C-A7D8-1FEE5CFF6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40CB0-2DFF-43F3-94BA-19AB4E8A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A320B-91CA-450F-9D21-A066A68E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99AB5-44F6-4769-B6A0-6EBE9FD26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73996-CBF7-4AB7-9C47-D04C0EB2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0EAC3-AC43-477C-A056-7E12FD06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899240-F76A-4E57-8BF9-F9190589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B24C95-B0BB-4CB0-9465-94DB8415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228F0-4838-4C63-BA53-7023C47A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5DB-7167-45E1-9CF0-DF4A3B20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7DFD9-E445-4C08-B430-14D590ED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A8DE8-5A0E-4122-8EE7-FDAD6B1CB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B673C-CC4C-48E2-9027-65143739C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F42BC-D8DA-4433-B177-C3857D84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6A951A-01A7-433D-9220-549B1EFA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42C04-EE9C-434B-9DFB-6CFDF6B1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D467-4AD5-4084-91AD-1149AC04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78EFE-9F7F-448E-87ED-84072D42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B5ED4-17E8-49C9-B6C2-05630B0B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0F19E-09B7-4F97-B4F5-D8777FDF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C34B-1187-4A04-912E-7DAC1CE9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570D-C747-4762-A495-893C31B4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BE848-0B13-4510-BFD2-9D54A326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BEC0C-81B0-4F25-B419-11BD0A66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C295C-06E4-466B-BBFD-44FF9693F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BC6B67-C5F1-41AC-ACF7-1A9A825F0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118D7-4360-408E-8544-651149839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F32E9-49C9-4725-8644-B2009A74D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B09EB-3D87-4A0E-B5C4-76F46DCC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2BF3E9-E734-45BC-8E29-E64D42157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0DA55-7691-43D8-9413-1E5842F65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60D7-8775-4905-9B11-64101742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66F936-98C3-41BD-A6A0-629CE465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AD775D-9248-4BEC-B914-21C4AB9B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C1B5A-78F7-4674-BFC5-A0411CE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B8E02-54AB-4D65-862A-E8139B5A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0BF03F-DF1A-44BC-916F-087E38020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482CF-F162-45B4-B9DF-4B3F078DA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18670-FEF9-4AD6-ACD4-76741D34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61EA0-2910-4146-808E-35D7FF142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9A46D0-27F5-4ECB-9762-AAD0CDDD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70F455-DF3D-4E4A-A76B-00FA662C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0C731-2E44-4168-A167-8C7D35966B1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6D6D-772A-4194-BFB2-3B290F8B8F7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B28E-700D-40D2-9ABF-E31BA64E991B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E8C5-B51C-45C4-8111-2488BBAC1CC4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60BC-6DD0-4F97-9AB9-8E9C8BF41B4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6CF5-EE3F-4D81-AD68-CD5DEBF0B33E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F6FF-E9A4-4E55-8C11-098EE1946DA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82D2C-BCD2-4754-8977-A16AA7C9ACB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6C169-402A-4349-A796-59C4D172DDB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53F4-5989-4710-8BDB-D250B5D506F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30E9-7BC7-4216-8816-40A0F2A5E2FC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9609-4D44-4E48-998D-8B36B49F733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KYLE BO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hoto Essay Eval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www.smh.com.au/ffximage/2007/10/31/sony_wideweb__470x399,0.jpg"/>
          <p:cNvPicPr/>
          <p:nvPr/>
        </p:nvPicPr>
        <p:blipFill>
          <a:blip r:embed="rId1"/>
          <a:stretch/>
        </p:blipFill>
        <p:spPr>
          <a:xfrm>
            <a:off x="2541600" y="3633840"/>
            <a:ext cx="4108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the Gen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aracteristics I focused on were to make the audience feel uplifting and joyous. I also wanted the audience to feel as though they were traveling the globe at sporting ev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audience for the piece was my GT class and teacher of the class and (possibly in the future) par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mentor texts that inspired me to create this were biographies of famous sport players and books of different cultures studi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Documents and Settings\Twlab\Local Settings\Temporary Internet Files\Content.IE5\4P02585H\MCj04238420000[1].wmf"/>
          <p:cNvPicPr/>
          <p:nvPr/>
        </p:nvPicPr>
        <p:blipFill>
          <a:blip r:embed="rId1"/>
          <a:stretch/>
        </p:blipFill>
        <p:spPr>
          <a:xfrm>
            <a:off x="3670200" y="4419720"/>
            <a:ext cx="1803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idea for this piece started when I was looking at photo essays online when I saw one for food people eat across the globe. I thought an around the world type essay would be a great idea. I also read and article about Brazil winning a soccer tournament when the two articles combined into my photo essa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had to research sports from corners of the globe and learn how they were played by using Google.  I found my images by figuring out the name of sports and Google-ing  the sport name. I also searched for uplifting music to fit my genr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C:\Documents and Settings\Twlab\Local Settings\Temporary Internet Files\Content.IE5\QPAYIMES\MCj04417320000[1].png"/>
          <p:cNvPicPr/>
          <p:nvPr/>
        </p:nvPicPr>
        <p:blipFill>
          <a:blip r:embed="rId1"/>
          <a:stretch/>
        </p:blipFill>
        <p:spPr>
          <a:xfrm>
            <a:off x="474192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457200" y="228600"/>
            <a:ext cx="822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Geo Sans Light NWEA"/>
              </a:rPr>
              <a:t>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80880" y="9907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ology skills I applied during this project were learning how to use PhotoStory 3 and learning what kinds of music fit moods. For example, when I wanted my slides to feel uplifting, I didn’t want to make it sound like the commercials for abused animals. I had to learn what was best fitting by searching uplifting on FreePlayMusic.com. When I was learning how to use PhotoStory 3, I had to think of it as something other than a new program, but one that I know how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" descr="C:\Documents and Settings\Twlab\Local Settings\Temporary Internet Files\Content.IE5\EN1IA72F\MCj04404540000[1].wmf"/>
          <p:cNvPicPr/>
          <p:nvPr/>
        </p:nvPicPr>
        <p:blipFill>
          <a:blip r:embed="rId1"/>
          <a:stretch/>
        </p:blipFill>
        <p:spPr>
          <a:xfrm>
            <a:off x="3124080" y="3124080"/>
            <a:ext cx="230688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Documents and Settings\Twlab\Local Settings\Temporary Internet Files\Content.IE5\6R6I2CM4\MCj04418840000[1].wmf"/>
          <p:cNvPicPr/>
          <p:nvPr/>
        </p:nvPicPr>
        <p:blipFill>
          <a:blip r:embed="rId1"/>
          <a:stretch/>
        </p:blipFill>
        <p:spPr>
          <a:xfrm>
            <a:off x="3678120" y="4724280"/>
            <a:ext cx="1787760" cy="14479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533520" y="38088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Jokerman"/>
              </a:rPr>
              <a:t>Affective Develo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380880" y="11430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earned that I like sports more than I really thought. For example, I would only play tag and think that football was a sport for jocks. Know I know that sports are actually one of my core values. I have now realized that I enjoy photos more than I used to. For example, when I looked at photos, I saw them as pictures and not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valu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304920" y="15238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think my work was very amazing and that the effort I put it paid off at the end of it all. In 1 to 10 scale I’d say 8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my musical choices because they were very happy and enjoyable. I am proud of these because it took a lot of time to find the music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of the challenges I faced were narrating while many others were too. I had to wait my turn even when others didn’t notice I was 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my next project, I’d like to use PhotoStory again but to summarize a book (just an idea) with pictures and narration. I would like this because while PhotoStory 3 is fresh in my mind, and I’m interested in pictures and reading no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C:\Documents and Settings\Twlab\Local Settings\Temporary Internet Files\Content.IE5\CM01TH7Z\MPj04432510000[1].jpg"/>
          <p:cNvPicPr/>
          <p:nvPr/>
        </p:nvPicPr>
        <p:blipFill>
          <a:blip r:embed="rId1"/>
          <a:stretch/>
        </p:blipFill>
        <p:spPr>
          <a:xfrm>
            <a:off x="5638680" y="5105520"/>
            <a:ext cx="117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5:26Z</dcterms:created>
  <dc:creator>ITSUser</dc:creator>
  <dc:description/>
  <dc:language>en-US</dc:language>
  <cp:lastModifiedBy>ITSUser</cp:lastModifiedBy>
  <dcterms:modified xsi:type="dcterms:W3CDTF">2010-02-04T18:37:50Z</dcterms:modified>
  <cp:revision>8</cp:revision>
  <dc:subject/>
  <dc:title>Photo Essay Evaluation</dc:title>
</cp:coreProperties>
</file>