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71D6-F484-4C6E-A77D-9C6005EA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ECDE-9D24-4458-BD85-9BC4A3C1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CE1E-264D-4A05-83BB-6522CA2BA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A66-0846-4B28-B064-E6995D00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F915-27F2-40E0-AE16-6172B4DBF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4954-1432-49B8-865F-74D5E2EA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A01-BFD2-47A3-8BED-A7F86D4B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99E-2168-463F-BC67-B0C81621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7982-F27C-4BB3-927E-C53CB8CE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51D-9A4A-48D2-A358-038929CF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AF7D-CA56-4120-8E95-F10AC8ED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3DC0-3780-4C55-9DE0-7936CD10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8A75-6715-4817-9078-B3A22C74EC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2"/>
          <a:stretch/>
        </p:blipFill>
        <p:spPr>
          <a:xfrm>
            <a:off x="-115920" y="2468520"/>
            <a:ext cx="9583920" cy="1865520"/>
          </a:xfrm>
          <a:prstGeom prst="rect">
            <a:avLst/>
          </a:prstGeom>
          <a:ln w="0">
            <a:noFill/>
          </a:ln>
        </p:spPr>
      </p:pic>
      <p:pic>
        <p:nvPicPr>
          <p:cNvPr id="42" name="Rectangle 4" descr=""/>
          <p:cNvPicPr/>
          <p:nvPr/>
        </p:nvPicPr>
        <p:blipFill>
          <a:blip r:embed="rId3"/>
          <a:stretch/>
        </p:blipFill>
        <p:spPr>
          <a:xfrm>
            <a:off x="3097080" y="4095720"/>
            <a:ext cx="188928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2666880" y="0"/>
            <a:ext cx="3733920" cy="71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32523"/>
                </a:solidFill>
                <a:uFillTx/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Up, down, a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Flashing, smiling, brilli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 really big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Soar on the w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Whoosh! Your stomach dro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When you least expect i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No longer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 world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Now climbing upw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It takes more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are near the top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lmost once more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 world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can so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You can f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And it’s your ch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If you want to be a boa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32523"/>
                </a:solidFill>
                <a:latin typeface="Calibri"/>
              </a:rPr>
              <a:t>The world’s a roller coast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2362320" y="1371600"/>
            <a:ext cx="4876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irl Named Snow 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once was a girl named Snow P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 said that her life was div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til one sad da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believe it was in M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 banished the snow with it’s s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304920" y="838080"/>
            <a:ext cx="3962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oft sand sifts beneath my toes an tickles 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a wa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rk, blue and trop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ing and fa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stand upon a silk matt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cene is fit for a qu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peponi island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 and reassu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cy soft web of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crys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of l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ashing across the oc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267080" y="2133720"/>
            <a:ext cx="43434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I stay here forev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ll sink into the sand in a blis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let my fizzing imag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 aw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d, If I hug the scene will it crump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, nature l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, Beauty lo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protect this scene even if you don’t even know what you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24280" y="83808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has it been this w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long will it be her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have seen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many wish to see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Rectangle 5" descr=""/>
          <p:cNvPicPr/>
          <p:nvPr/>
        </p:nvPicPr>
        <p:blipFill>
          <a:blip r:embed="rId2"/>
          <a:stretch/>
        </p:blipFill>
        <p:spPr>
          <a:xfrm>
            <a:off x="-189000" y="-128520"/>
            <a:ext cx="93394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"/>
          <p:cNvSpPr/>
          <p:nvPr/>
        </p:nvSpPr>
        <p:spPr>
          <a:xfrm>
            <a:off x="2743200" y="1523880"/>
            <a:ext cx="403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Night and 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ight sun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iling, loving, hug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rious, warm ,cool, da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spering, fondling, chi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, slee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905120" y="1066680"/>
            <a:ext cx="5638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no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ings m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howl vicious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 whisper softly in my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 in 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sible in sp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heard of in 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llions of baller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2819520" y="1371600"/>
            <a:ext cx="441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76092"/>
                </a:solidFill>
                <a:uFillTx/>
                <a:latin typeface="Arial"/>
              </a:rPr>
              <a:t>Sum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Schools ou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oor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su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f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I can’t wait for the poo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Thee excitement makes me fe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Like tread off the spo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Don’t tell me to, “:Please come inside!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Because, you se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From the outside I can’t resi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Uh – o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Here comes the dusk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Arial"/>
              </a:rPr>
              <a:t>And here comes the de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1"/>
          <p:cNvSpPr/>
          <p:nvPr/>
        </p:nvSpPr>
        <p:spPr>
          <a:xfrm>
            <a:off x="2438280" y="152388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zy, 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ddling, tickling, gigg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ke my mothers l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2057400" y="1066680"/>
            <a:ext cx="4724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ky at a full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eeling you have when school is dismissed at n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lor of the 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 and 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wild silk ba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ing it’s arms around 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filling my spirit with gl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0:56:50Z</dcterms:created>
  <dc:creator>ITSUser</dc:creator>
  <dc:description/>
  <dc:language>en-US</dc:language>
  <cp:lastModifiedBy>Rod</cp:lastModifiedBy>
  <dcterms:modified xsi:type="dcterms:W3CDTF">2009-05-13T03:29:27Z</dcterms:modified>
  <cp:revision>20</cp:revision>
  <dc:subject/>
  <dc:title>Slide 1</dc:title>
</cp:coreProperties>
</file>