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C2A7-DBB9-4030-8255-ED2B7CF9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076-E011-4C10-98AA-4932F30F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04E-D951-420E-B8D1-4479B763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605-310C-4C60-BB06-99235005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3546-A822-4C8D-AC23-616BC968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A24B-389C-4CFC-93CF-BAFA7F4F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8B8F-0EC5-4206-8D9A-7BEFC517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D38-05E5-41E3-9CE0-C2A3A7DA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B44-07AC-4F3F-B5DC-A164C1BD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F13C-6676-4ECC-B89A-599020EB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E67-8E9E-48E4-8F73-BBDA3387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7800-BFA5-4AE5-8229-81FA5BDC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772A-9B96-4E56-8817-C3D0E2E3E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2"/>
          <a:stretch/>
        </p:blipFill>
        <p:spPr>
          <a:xfrm>
            <a:off x="-115920" y="2468520"/>
            <a:ext cx="9583920" cy="18655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3"/>
          <a:stretch/>
        </p:blipFill>
        <p:spPr>
          <a:xfrm>
            <a:off x="3097080" y="4095720"/>
            <a:ext cx="188928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666880" y="0"/>
            <a:ext cx="373392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32523"/>
                </a:solidFill>
                <a:uFillTx/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Up, down, 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Flashing, smiling, brilli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A really big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Soar on the w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Whoosh! Your stomach dro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When you least expect i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No longer a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 world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Now climbing up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It takes mor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You are near the top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Almost once more a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 world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You can so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You can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And it’s your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If you want to be a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362320" y="1371600"/>
            <a:ext cx="487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irl Named Snow 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once was a girl named Snow 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said that her life was di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one sad 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lieve it was in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 banished the snow with it’s s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304920" y="838080"/>
            <a:ext cx="396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ft sand sifts beneath my toes an tickles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a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, blue and trop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ing and f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tand upon a silk mat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ene is fit for a qu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peponi island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 and reass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cy soft web of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ry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of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ing across the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267080" y="2133720"/>
            <a:ext cx="4343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 stay here fore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ll sink into the sand in a blis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et my fizzing imag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a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d, If I hug the scene will it crump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protect this scene, nature lo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protect this scene, Beauty lo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protect this scene even if you don’t even know what you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24280" y="8380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has it been this w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will it be 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have seen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wish to see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5" descr=""/>
          <p:cNvPicPr/>
          <p:nvPr/>
        </p:nvPicPr>
        <p:blipFill>
          <a:blip r:embed="rId2"/>
          <a:stretch/>
        </p:blipFill>
        <p:spPr>
          <a:xfrm>
            <a:off x="-189000" y="-128520"/>
            <a:ext cx="93394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2743200" y="1523880"/>
            <a:ext cx="403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ight and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 s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iling, loving, h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rious, warm ,cool, d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spering, fondling, ch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, slee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905120" y="1066680"/>
            <a:ext cx="563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n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ngs m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howl vicious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hisper softly in my 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w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in 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heard of in 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lions of baller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819520" y="1371600"/>
            <a:ext cx="4419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76092"/>
                </a:solidFill>
                <a:uFillTx/>
                <a:latin typeface="Arial"/>
              </a:rPr>
              <a:t>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Schools o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oor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ere comes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ere comes th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I can’t wait for the poo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Thee excitement makes me fe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Like tread off the sp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Don’t tell me to, “:Please come inside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Because, you se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From the outside I can’t resi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Uh – o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ere comes the dus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And here comes the de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438280" y="152388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zy, 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ddling, tickling, gigg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my mother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057400" y="1066680"/>
            <a:ext cx="4724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 of the sky at a full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 of the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eling you have when school is dismissed at n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 of the 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and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ild silk b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ing it’s arms aroun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illing my spirit with g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0:56:50Z</dcterms:created>
  <dc:creator>ITSUser</dc:creator>
  <dc:description/>
  <dc:language>en-US</dc:language>
  <cp:lastModifiedBy>Rod</cp:lastModifiedBy>
  <dcterms:modified xsi:type="dcterms:W3CDTF">2009-05-13T03:29:27Z</dcterms:modified>
  <cp:revision>20</cp:revision>
  <dc:subject/>
  <dc:title>Slide 1</dc:title>
</cp:coreProperties>
</file>