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7352-0541-461D-B8FA-72A5DA9F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3B61-818D-428F-9BBF-56C7083B4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2BF6-5390-4AA3-85CC-BF5D5D47E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2DF8-5498-4A67-B4E3-5AA68841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EA2A-3BD3-48D8-A377-9E295AF6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9603-49C5-4766-A569-5F4821169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EFB-38D6-48B3-8F9F-771ED2A9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5CF9-881F-486F-8050-BB58B470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17DE-FF0C-4859-97CD-82C484F3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4441-9176-49F4-B92D-283FB7E1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12C4-11C6-4878-8F05-E7FF2E6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3FC-7593-441A-9053-E1A44119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B79F-016D-4BA6-A025-E66661B09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-115920" y="2468520"/>
            <a:ext cx="9583920" cy="1865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3"/>
          <a:stretch/>
        </p:blipFill>
        <p:spPr>
          <a:xfrm>
            <a:off x="3097080" y="4095720"/>
            <a:ext cx="18892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666880" y="0"/>
            <a:ext cx="373392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32523"/>
                </a:solidFill>
                <a:uFillTx/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Up, down, 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Flashing, smiling, brilli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 really big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Soar on the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oosh! Your stomach dro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en you least expect 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 longer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w climbing up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t takes mor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are near the top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lmost once mor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so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nd it’s your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f you want to b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362320" y="13716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once was 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said that her life was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one sad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 it wa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 banished the snow with it’s s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304920" y="838080"/>
            <a:ext cx="396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ft sand sifts beneath my toes an tickles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, blue and 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and f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tand upon a silk mat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ene is fit for a qu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poni island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and reas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cy soft web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ing across the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267080" y="2133720"/>
            <a:ext cx="4343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stay here fore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sink into the sand in a bli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my fizzing ima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, If I hug the scene will it crum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nature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Beauty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 even if you don’t even know what you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24280" y="838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has it been this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will it be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have seen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wish to see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5" descr=""/>
          <p:cNvPicPr/>
          <p:nvPr/>
        </p:nvPicPr>
        <p:blipFill>
          <a:blip r:embed="rId2"/>
          <a:stretch/>
        </p:blipFill>
        <p:spPr>
          <a:xfrm>
            <a:off x="-189000" y="-128520"/>
            <a:ext cx="93394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743200" y="15238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ght an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s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iling, loving, h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rious, warm ,cool,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spering, fondling, ch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, sle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905120" y="106668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ngs m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owl vicious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hisper softly in my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heard of in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s of balle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819520" y="1371600"/>
            <a:ext cx="441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76092"/>
                </a:solidFill>
                <a:uFillTx/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Schools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oor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I can’t wait for the poo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Thee excitement makes me fe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Like tread off the s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Don’t tell me to, “:Please come insid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Because, you s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From the outside I can’t resi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Uh – o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dus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And here comes the de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152388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zy, 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ing, tickling, gigg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y mother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57400" y="1066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 at a full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eling you have when school is dismissed at 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nd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ld silk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ing it’s arms arou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lling my spirit with g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0:56:50Z</dcterms:created>
  <dc:creator>ITSUser</dc:creator>
  <dc:description/>
  <dc:language>en-US</dc:language>
  <cp:lastModifiedBy>Rod</cp:lastModifiedBy>
  <dcterms:modified xsi:type="dcterms:W3CDTF">2009-05-13T03:29:27Z</dcterms:modified>
  <cp:revision>20</cp:revision>
  <dc:subject/>
  <dc:title>Slide 1</dc:title>
</cp:coreProperties>
</file>