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64075-1BD4-47E1-8EFF-C58A9B42DE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ldImg"/>
          </p:nvPr>
        </p:nvSpPr>
        <p:spPr>
          <a:xfrm>
            <a:off x="1143000" y="685800"/>
            <a:ext cx="4572000" cy="3429000"/>
          </a:xfrm>
          <a:prstGeom prst="rect">
            <a:avLst/>
          </a:prstGeom>
          <a:ln w="0">
            <a:noFill/>
          </a:ln>
        </p:spPr>
      </p:sp>
      <p:sp>
        <p:nvSpPr>
          <p:cNvPr id="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of this slide</a:t>
            </a:r>
            <a:endParaRPr b="0" lang="en-US" sz="1200" spc="-1" strike="noStrike">
              <a:solidFill>
                <a:srgbClr val="000000"/>
              </a:solidFill>
              <a:latin typeface="Calibri"/>
            </a:endParaRPr>
          </a:p>
        </p:txBody>
      </p:sp>
      <p:sp>
        <p:nvSpPr>
          <p:cNvPr id="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BA0E-6AB0-476C-8492-2FE9E37DECE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A11AC4-9929-45F7-A64B-34C47CDFB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427AFA-6264-4DEF-B9FD-C422BBA96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05894-C676-48C2-BA00-BE0BF6F82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B3A8F-B764-42C0-8DF3-DF96105D4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EE428-AD84-4E8A-8B2E-7206314F2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06EFC-C8A9-481F-933C-01E31913D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98F77B-53D2-4F1E-8C2A-5581384D8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F3A2DC-DA73-49CD-AD44-02ABBEE81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49B33D-D631-4E3E-B13E-849F8D236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C0CCF-0653-4198-A0CD-DAE4F03E3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14A3B-EF01-4A5D-82D9-6ED00973C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D9C16-3831-40E6-9C60-8EA264FB0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F9DD6-3D51-44F4-B1FF-8F6BF549ADF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Berlin Sans FB Demi"/>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Berlin Sans FB Demi"/>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Berlin Sans FB Demi"/>
              </a:rPr>
              <a:t>What is Animal Cognition?</a:t>
            </a:r>
            <a:endParaRPr b="0" lang="en-US" sz="4800" spc="-1" strike="noStrike">
              <a:solidFill>
                <a:srgbClr val="000000"/>
              </a:solidFill>
              <a:latin typeface="Calibri"/>
            </a:endParaRPr>
          </a:p>
        </p:txBody>
      </p:sp>
      <p:pic>
        <p:nvPicPr>
          <p:cNvPr id="53" name="Picture 2" descr="http://carolynbremer.com/wordpress/images/HappyDog.jpg"/>
          <p:cNvPicPr/>
          <p:nvPr/>
        </p:nvPicPr>
        <p:blipFill>
          <a:blip r:embed="rId1"/>
          <a:stretch/>
        </p:blipFill>
        <p:spPr>
          <a:xfrm>
            <a:off x="6095880" y="1143000"/>
            <a:ext cx="2857680" cy="3133800"/>
          </a:xfrm>
          <a:prstGeom prst="rect">
            <a:avLst/>
          </a:prstGeom>
          <a:ln w="0">
            <a:noFill/>
          </a:ln>
        </p:spPr>
      </p:pic>
      <p:pic>
        <p:nvPicPr>
          <p:cNvPr id="54" name="Picture 4" descr="http://www.freewebs.com/icu109/photos/alex_parrot.jpg"/>
          <p:cNvPicPr/>
          <p:nvPr/>
        </p:nvPicPr>
        <p:blipFill>
          <a:blip r:embed="rId2"/>
          <a:stretch/>
        </p:blipFill>
        <p:spPr>
          <a:xfrm>
            <a:off x="0" y="3225960"/>
            <a:ext cx="2971800" cy="3632040"/>
          </a:xfrm>
          <a:prstGeom prst="rect">
            <a:avLst/>
          </a:prstGeom>
          <a:ln w="0">
            <a:noFill/>
          </a:ln>
        </p:spPr>
      </p:pic>
      <p:sp>
        <p:nvSpPr>
          <p:cNvPr id="55" name="TextBox 9"/>
          <p:cNvSpPr/>
          <p:nvPr/>
        </p:nvSpPr>
        <p:spPr>
          <a:xfrm>
            <a:off x="0" y="914400"/>
            <a:ext cx="5943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nimal cognition is the modern title to the study of the mental capacity of non human animals. That’s fancy talk for the study of how smart animals are. This study mainly focuses on mammals such as primates, cetaceans, elephants, canidae, feline, and rodent. This study may also in non mammalian animals such as birds mainly parrot and pigeons. The study also foucus on lizards and fish and non vertabrae mainly the cetacen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57" name="Rectangle 3"/>
          <p:cNvSpPr/>
          <p:nvPr/>
        </p:nvSpPr>
        <p:spPr>
          <a:xfrm>
            <a:off x="228600" y="1219320"/>
            <a:ext cx="891540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07T18:39:37Z</dcterms:modified>
  <cp:revision>7</cp:revision>
  <dc:subject/>
  <dc:title>Top 10 Intelligent Animals</dc:title>
</cp:coreProperties>
</file>