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2536-F9F8-4F5E-94A5-F250A50773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Animal_cognition  this is the url for the idea of this slide</a:t>
            </a:r>
            <a:endParaRPr b="0" lang="en-US" sz="1200" spc="-1" strike="noStrike">
              <a:solidFill>
                <a:srgbClr val="000000"/>
              </a:solidFill>
              <a:latin typeface="Calibri"/>
            </a:endParaRPr>
          </a:p>
        </p:txBody>
      </p:sp>
      <p:sp>
        <p:nvSpPr>
          <p:cNvPr id="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81A6-7690-4D6E-91FC-ED44ABCE2B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E1B1F-2821-4140-B1B1-A974D2043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F0421-8737-48C6-A51D-52E828A93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8B5EF-0063-4B73-B800-DC30AB2AF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8781F-9B11-4080-89A5-1AAD3CC40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D60CA-AC7E-47DA-B4BF-BCBFE9E20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411B3-FCE4-4136-AECA-F4096258F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EB70E-0582-40AD-AF3D-3865A1604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CAE14-E4C1-41FB-BFCD-42FF10632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370C3-5CBC-4673-B127-69DF7315C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D29DF-72D1-461C-B4EA-789B333FA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0C970-AD68-4B88-B783-30841D5FC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79A59-3597-44AD-946E-BDF7717CE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2F6D-B4CD-4229-8EF3-FD86B87CB5D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rot="436200">
            <a:off x="366480" y="2548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erlin Sans FB Demi"/>
              </a:rPr>
              <a:t>Animal Cognition</a:t>
            </a:r>
            <a:endParaRPr b="0" lang="en-US" sz="5400" spc="-1" strike="noStrike">
              <a:solidFill>
                <a:srgbClr val="000000"/>
              </a:solidFill>
              <a:latin typeface="Calibri"/>
            </a:endParaRPr>
          </a:p>
        </p:txBody>
      </p:sp>
      <p:sp>
        <p:nvSpPr>
          <p:cNvPr id="49" name="PlaceHolder 2"/>
          <p:cNvSpPr>
            <a:spLocks noGrp="1"/>
          </p:cNvSpPr>
          <p:nvPr>
            <p:ph type="subTitle"/>
          </p:nvPr>
        </p:nvSpPr>
        <p:spPr>
          <a:xfrm rot="20601600">
            <a:off x="3147840" y="5455800"/>
            <a:ext cx="6400800" cy="8384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Berlin Sans FB Demi"/>
              </a:rPr>
              <a:t>Maddie L</a:t>
            </a:r>
            <a:endParaRPr b="0" lang="en-US" sz="5400" spc="-1" strike="noStrike">
              <a:solidFill>
                <a:srgbClr val="000000"/>
              </a:solidFill>
              <a:latin typeface="Calibri"/>
            </a:endParaRPr>
          </a:p>
        </p:txBody>
      </p:sp>
      <p:pic>
        <p:nvPicPr>
          <p:cNvPr id="50" name="Picture 2" descr="http://www.ephblog.com/wp-content/uploads/2009/07/ED0281_pChimpanzee-Posters.jpg"/>
          <p:cNvPicPr/>
          <p:nvPr/>
        </p:nvPicPr>
        <p:blipFill>
          <a:blip r:embed="rId1"/>
          <a:stretch/>
        </p:blipFill>
        <p:spPr>
          <a:xfrm rot="21300600">
            <a:off x="792000" y="1806480"/>
            <a:ext cx="3200400" cy="4346640"/>
          </a:xfrm>
          <a:prstGeom prst="rect">
            <a:avLst/>
          </a:prstGeom>
          <a:ln w="0">
            <a:noFill/>
          </a:ln>
        </p:spPr>
      </p:pic>
      <p:pic>
        <p:nvPicPr>
          <p:cNvPr id="51" name="Picture 4" descr="http://www.agalil.com/images/smiling-group-dolphins.jpg"/>
          <p:cNvPicPr/>
          <p:nvPr/>
        </p:nvPicPr>
        <p:blipFill>
          <a:blip r:embed="rId2"/>
          <a:stretch/>
        </p:blipFill>
        <p:spPr>
          <a:xfrm>
            <a:off x="4572000" y="2209680"/>
            <a:ext cx="345456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solidFill>
      </p:bgPr>
    </p:bg>
    <p:spTree>
      <p:nvGrpSpPr>
        <p:cNvPr id="1" name=""/>
        <p:cNvGrpSpPr/>
        <p:nvPr/>
      </p:nvGrpSpPr>
      <p:grpSpPr>
        <a:xfrm>
          <a:off x="0" y="0"/>
          <a:ext cx="0" cy="0"/>
          <a:chOff x="0" y="0"/>
          <a:chExt cx="0" cy="0"/>
        </a:xfrm>
      </p:grpSpPr>
      <p:sp>
        <p:nvSpPr>
          <p:cNvPr id="52" name="TextBox 3"/>
          <p:cNvSpPr/>
          <p:nvPr/>
        </p:nvSpPr>
        <p:spPr>
          <a:xfrm>
            <a:off x="0" y="0"/>
            <a:ext cx="8839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What is Animal Cognition?</a:t>
            </a:r>
            <a:endParaRPr b="0" lang="en-US" sz="4800" spc="-1" strike="noStrike">
              <a:solidFill>
                <a:srgbClr val="000000"/>
              </a:solidFill>
              <a:latin typeface="Calibri"/>
            </a:endParaRPr>
          </a:p>
        </p:txBody>
      </p:sp>
      <p:pic>
        <p:nvPicPr>
          <p:cNvPr id="53" name="Picture 2" descr="http://carolynbremer.com/wordpress/images/HappyDog.jpg"/>
          <p:cNvPicPr/>
          <p:nvPr/>
        </p:nvPicPr>
        <p:blipFill>
          <a:blip r:embed="rId1"/>
          <a:stretch/>
        </p:blipFill>
        <p:spPr>
          <a:xfrm>
            <a:off x="6095880" y="1143000"/>
            <a:ext cx="2857680" cy="3133800"/>
          </a:xfrm>
          <a:prstGeom prst="rect">
            <a:avLst/>
          </a:prstGeom>
          <a:ln w="0">
            <a:noFill/>
          </a:ln>
        </p:spPr>
      </p:pic>
      <p:pic>
        <p:nvPicPr>
          <p:cNvPr id="54" name="Picture 4" descr="http://www.freewebs.com/icu109/photos/alex_parrot.jpg"/>
          <p:cNvPicPr/>
          <p:nvPr/>
        </p:nvPicPr>
        <p:blipFill>
          <a:blip r:embed="rId2"/>
          <a:stretch/>
        </p:blipFill>
        <p:spPr>
          <a:xfrm>
            <a:off x="0" y="3225960"/>
            <a:ext cx="2971800" cy="3632040"/>
          </a:xfrm>
          <a:prstGeom prst="rect">
            <a:avLst/>
          </a:prstGeom>
          <a:ln w="0">
            <a:noFill/>
          </a:ln>
        </p:spPr>
      </p:pic>
      <p:sp>
        <p:nvSpPr>
          <p:cNvPr id="55" name="TextBox 9"/>
          <p:cNvSpPr/>
          <p:nvPr/>
        </p:nvSpPr>
        <p:spPr>
          <a:xfrm>
            <a:off x="0" y="914400"/>
            <a:ext cx="5943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imal cognition is the modern title to the study of the mental capacity of non human animals. That’s fancy talk for the study of how smart animals are. This study mainly focuses on mammals such as primates, cetaceans, elephants, canidae, feline, and rodent. This study may also in non mammalian animals such as birds mainly parrot and pigeons. The study also foucus on lizards and fish and non vertabrae mainly the cetacen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a:t>
            </a:r>
            <a:endParaRPr b="0" lang="en-US" sz="4400" spc="-1" strike="noStrike">
              <a:solidFill>
                <a:srgbClr val="000000"/>
              </a:solidFill>
              <a:latin typeface="Calibri"/>
            </a:endParaRPr>
          </a:p>
        </p:txBody>
      </p:sp>
      <p:sp>
        <p:nvSpPr>
          <p:cNvPr id="57" name="Rectangle 3"/>
          <p:cNvSpPr/>
          <p:nvPr/>
        </p:nvSpPr>
        <p:spPr>
          <a:xfrm>
            <a:off x="228600" y="1219320"/>
            <a:ext cx="8915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agalil.com/images/smiling-group-dolphins.jp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ephblog.com/wp-content/uploads/2009/07/ED0281_pChimpanzee-Posters.jp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images.google.com/imgres?imgurl=http://carolynbremer.com/wordpress/images/HappyDog.jpg&amp;imgrefurl=http://www.squidoo.com/groups/dogpark&amp;usg=__jxPIM_SPvroP7lmz-cNXmEEnlkQ=&amp;h=329&amp;w=300&amp;sz=41&amp;hl=en&amp;start=4&amp;um=1&amp;tbnid=6JDNkVdttdTGuM:&amp;tbnh=119&amp;tbnw=109&amp;prev=/images%3Fq%3Ddog%26hl%3Den%26safe%3Dactive%26rlz%3D1T4SUNA_enUS347US343%26um%3D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freewebs.com/icu109/photos/alex_parrot.jp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7:44:27Z</dcterms:created>
  <dc:creator>ITSUser</dc:creator>
  <dc:description/>
  <dc:language>en-US</dc:language>
  <cp:lastModifiedBy>ITSUser</cp:lastModifiedBy>
  <dcterms:modified xsi:type="dcterms:W3CDTF">2010-01-07T18:39:37Z</dcterms:modified>
  <cp:revision>7</cp:revision>
  <dc:subject/>
  <dc:title>Top 10 Intelligent Animals</dc:title>
</cp:coreProperties>
</file>