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-FloydCramer-WhenAManLovesAWoman.wav" ContentType="audio/x-wav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3C3D-3B65-4D02-A029-FE334E2A9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9BA3-82B9-4C05-B1DC-74E6C9011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881D-F6E9-46B6-91DE-FB8F835F2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2284-BE2D-4FF2-AB19-70BD649A6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F468-8E34-4A84-9EBD-E37282451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0D33-9DD8-47EC-971F-D7B993511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66AB-5411-447E-A6F8-A7494B513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10D4-7AD1-41F1-B884-9DF58AB88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2CAA-62B6-4E7A-98CC-9B1CE27C9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E11A-E8BB-4F4C-BBB4-388AD8BB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1694-901F-4A3D-8ED0-F3AF7954C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716B-9C36-428A-ABC0-90CA82BF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8FC1D-D182-49C1-B6F3-C86EDB6F107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-FloydCramer-WhenAManLovesAWoman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P6061666.JPG"/>
          <p:cNvPicPr/>
          <p:nvPr/>
        </p:nvPicPr>
        <p:blipFill>
          <a:blip r:embed="rId1"/>
          <a:stretch/>
        </p:blipFill>
        <p:spPr>
          <a:xfrm>
            <a:off x="152280" y="152280"/>
            <a:ext cx="5227920" cy="6477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932360" y="333360"/>
            <a:ext cx="3886200" cy="6248520"/>
          </a:xfrm>
          <a:prstGeom prst="plus">
            <a:avLst>
              <a:gd name="adj" fmla="val 25000"/>
            </a:avLst>
          </a:prstGeom>
          <a:gradFill rotWithShape="0">
            <a:gsLst>
              <a:gs pos="0">
                <a:srgbClr val="dddddd"/>
              </a:gs>
              <a:gs pos="100000">
                <a:srgbClr val="656565"/>
              </a:gs>
            </a:gsLst>
            <a:path path="rect">
              <a:fillToRect l="50000" t="50000" r="50000" b="50000"/>
            </a:path>
          </a:gradFill>
          <a:ln w="507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003640" y="1268280"/>
            <a:ext cx="36576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8800" spc="-1" strike="noStrike">
                <a:solidFill>
                  <a:srgbClr val="000000"/>
                </a:solidFill>
                <a:latin typeface="Rage Italic"/>
              </a:rPr>
              <a:t>Hello my friend.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724280" y="380880"/>
            <a:ext cx="4114800" cy="6019920"/>
          </a:xfrm>
          <a:custGeom>
            <a:avLst/>
            <a:gdLst>
              <a:gd name="textAreaLeft" fmla="*/ 484920 w 4114800"/>
              <a:gd name="textAreaRight" fmla="*/ 3629880 w 4114800"/>
              <a:gd name="textAreaTop" fmla="*/ 484920 h 6019920"/>
              <a:gd name="textAreaBottom" fmla="*/ 5535000 h 6019920"/>
            </a:gdLst>
            <a:ahLst/>
            <a:rect l="textAreaLeft" t="textAreaTop" r="textAreaRight" b="textAreaBottom"/>
            <a:pathLst>
              <a:path w="21600" h="31600">
                <a:moveTo>
                  <a:pt x="3600" y="0"/>
                </a:moveTo>
                <a:arcTo wR="3600" hR="3600" stAng="0" swAng="5400000"/>
                <a:lnTo>
                  <a:pt x="0" y="28000"/>
                </a:lnTo>
                <a:arcTo wR="3600" hR="3600" stAng="16200000" swAng="5400000"/>
                <a:lnTo>
                  <a:pt x="18000" y="31600"/>
                </a:lnTo>
                <a:arcTo wR="3600" hR="3600" stAng="10800000" swAng="5400000"/>
                <a:lnTo>
                  <a:pt x="21600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8892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76920" y="1219320"/>
            <a:ext cx="380988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ictorian LET"/>
              </a:rPr>
              <a:t>"Heal the past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ictorian LET"/>
              </a:rPr>
              <a:t>live the present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ictorian LET"/>
              </a:rPr>
              <a:t>dream the future.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Victorian LE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'**mal wieder rosen**' von H.J. Uwe Winkler"/>
          <p:cNvPicPr/>
          <p:nvPr/>
        </p:nvPicPr>
        <p:blipFill>
          <a:blip r:embed="rId1"/>
          <a:stretch/>
        </p:blipFill>
        <p:spPr>
          <a:xfrm>
            <a:off x="0" y="0"/>
            <a:ext cx="4656240" cy="65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DSCN2778 (2).JPG"/>
          <p:cNvPicPr/>
          <p:nvPr/>
        </p:nvPicPr>
        <p:blipFill>
          <a:blip r:embed="rId1"/>
          <a:stretch/>
        </p:blipFill>
        <p:spPr>
          <a:xfrm>
            <a:off x="380880" y="380880"/>
            <a:ext cx="4267440" cy="609624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sp>
        <p:nvSpPr>
          <p:cNvPr id="77" name=""/>
          <p:cNvSpPr/>
          <p:nvPr/>
        </p:nvSpPr>
        <p:spPr>
          <a:xfrm>
            <a:off x="5257800" y="685800"/>
            <a:ext cx="3429000" cy="541008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cccc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076720" y="2205000"/>
            <a:ext cx="38102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Victorian LET"/>
              </a:rPr>
              <a:t>"Don't cou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Victorian LET"/>
              </a:rPr>
              <a:t>the d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Victorian LET"/>
              </a:rPr>
              <a:t>make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Victorian LET"/>
              </a:rPr>
              <a:t>days count."</a:t>
            </a:r>
            <a:r>
              <a:rPr b="0" lang="en-US" sz="3200" spc="-1" strike="noStrike">
                <a:solidFill>
                  <a:srgbClr val="3333cc"/>
                </a:solidFill>
                <a:latin typeface="Victorian LE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00250 Fuschia.jpg"/>
          <p:cNvPicPr/>
          <p:nvPr/>
        </p:nvPicPr>
        <p:blipFill>
          <a:blip r:embed="rId1"/>
          <a:stretch/>
        </p:blipFill>
        <p:spPr>
          <a:xfrm>
            <a:off x="328680" y="380880"/>
            <a:ext cx="4281480" cy="60962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57200" y="533520"/>
            <a:ext cx="4038480" cy="5790960"/>
          </a:xfrm>
          <a:prstGeom prst="rect">
            <a:avLst/>
          </a:prstGeom>
          <a:noFill/>
          <a:ln w="31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800600" y="533520"/>
            <a:ext cx="4191120" cy="5562360"/>
          </a:xfrm>
          <a:prstGeom prst="pentagon">
            <a:avLst/>
          </a:prstGeom>
          <a:gradFill rotWithShape="0">
            <a:gsLst>
              <a:gs pos="0">
                <a:srgbClr val="ffffff"/>
              </a:gs>
              <a:gs pos="100000">
                <a:srgbClr val="669900"/>
              </a:gs>
            </a:gsLst>
            <a:path path="rect">
              <a:fillToRect l="50000" t="50000" r="50000" b="50000"/>
            </a:path>
          </a:gradFill>
          <a:ln w="1778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00600" y="1268280"/>
            <a:ext cx="4343400" cy="45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ictorian LET"/>
              </a:rPr>
              <a:t>The ke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ictorian LET"/>
              </a:rPr>
              <a:t>to happ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ictorian LET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ictorian LET"/>
              </a:rPr>
              <a:t>is having dream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ictorian LET"/>
              </a:rPr>
              <a:t>The 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ictorian LET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ictorian LET"/>
              </a:rPr>
              <a:t>to success 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ictorian LET"/>
              </a:rPr>
              <a:t>making drea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ictorian LET"/>
              </a:rPr>
              <a:t>come true.</a:t>
            </a:r>
            <a:r>
              <a:rPr b="0" lang="en-US" sz="3600" spc="-1" strike="noStrike">
                <a:solidFill>
                  <a:srgbClr val="000000"/>
                </a:solidFill>
                <a:latin typeface="Victorian LE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 12.june  2004"/>
          <p:cNvPicPr/>
          <p:nvPr/>
        </p:nvPicPr>
        <p:blipFill>
          <a:blip r:embed="rId1"/>
          <a:stretch/>
        </p:blipFill>
        <p:spPr>
          <a:xfrm>
            <a:off x="152280" y="228600"/>
            <a:ext cx="5029200" cy="64533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rot="10800000">
            <a:off x="4876920" y="380880"/>
            <a:ext cx="3962160" cy="6019920"/>
          </a:xfrm>
          <a:custGeom>
            <a:avLst/>
            <a:gdLst>
              <a:gd name="textAreaLeft" fmla="*/ 871200 w 3962160"/>
              <a:gd name="textAreaRight" fmla="*/ 3090960 w 3962160"/>
              <a:gd name="textAreaTop" fmla="*/ 1323720 h 6019920"/>
              <a:gd name="textAreaBottom" fmla="*/ 4696200 h 6019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>
              <a:alpha val="50000"/>
            </a:srgbClr>
          </a:solidFill>
          <a:ln w="63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788000" y="1197000"/>
            <a:ext cx="41148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ictorian LET"/>
              </a:rPr>
              <a:t>The world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ictorian LE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ictorian LET"/>
              </a:rPr>
              <a:t>like a mirr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ictorian LET"/>
              </a:rPr>
              <a:t>if you face i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ictorian LET"/>
              </a:rPr>
              <a:t>smiling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ictorian LET"/>
              </a:rPr>
              <a:t>it smi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ictorian LET"/>
              </a:rPr>
              <a:t>right back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3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3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'Tulpen' von Carla Wildeman"/>
          <p:cNvPicPr/>
          <p:nvPr/>
        </p:nvPicPr>
        <p:blipFill>
          <a:blip r:embed="rId1"/>
          <a:stretch/>
        </p:blipFill>
        <p:spPr>
          <a:xfrm>
            <a:off x="762120" y="304920"/>
            <a:ext cx="7734240" cy="39528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04920" y="4572000"/>
            <a:ext cx="8610480" cy="1981080"/>
          </a:xfrm>
          <a:prstGeom prst="plus">
            <a:avLst>
              <a:gd name="adj" fmla="val 25000"/>
            </a:avLst>
          </a:prstGeom>
          <a:noFill/>
          <a:ln w="190440">
            <a:solidFill>
              <a:srgbClr val="ffff99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2280" y="4876920"/>
            <a:ext cx="8839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Victorian LET"/>
              </a:rPr>
              <a:t>"Happiness is not having what you wan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Victorian LET"/>
              </a:rPr>
              <a:t>It's wanting what you have."</a:t>
            </a:r>
            <a:r>
              <a:rPr b="0" lang="en-US" sz="3200" spc="-1" strike="noStrike">
                <a:solidFill>
                  <a:srgbClr val="009900"/>
                </a:solidFill>
                <a:latin typeface="Victorian LE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52280" y="152280"/>
            <a:ext cx="4800600" cy="6553440"/>
          </a:xfrm>
          <a:prstGeom prst="bevel">
            <a:avLst>
              <a:gd name="adj" fmla="val 12500"/>
            </a:avLst>
          </a:prstGeom>
          <a:solidFill>
            <a:srgbClr val="4d4d4d">
              <a:alpha val="50000"/>
            </a:srgbClr>
          </a:solidFill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43400" y="152280"/>
            <a:ext cx="4800600" cy="6553440"/>
          </a:xfrm>
          <a:prstGeom prst="bevel">
            <a:avLst>
              <a:gd name="adj" fmla="val 12500"/>
            </a:avLst>
          </a:prstGeom>
          <a:solidFill>
            <a:srgbClr val="4d4d4d">
              <a:alpha val="50000"/>
            </a:srgbClr>
          </a:solidFill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1413000"/>
            <a:ext cx="4267080" cy="33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Victorian LET"/>
              </a:rPr>
              <a:t>Learn to liste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Victorian LET"/>
              </a:rPr>
              <a:t>Opportunity some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Victorian LET"/>
              </a:rPr>
              <a:t> </a:t>
            </a:r>
            <a:r>
              <a:rPr b="0" lang="en-US" sz="3200" spc="-1" strike="noStrike">
                <a:solidFill>
                  <a:srgbClr val="cc3300"/>
                </a:solidFill>
                <a:latin typeface="Victorian LET"/>
              </a:rPr>
              <a:t>knock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Victorian LET"/>
              </a:rPr>
              <a:t>very softly.</a:t>
            </a:r>
            <a:r>
              <a:rPr b="0" lang="en-US" sz="3600" spc="-1" strike="noStrike">
                <a:solidFill>
                  <a:srgbClr val="99ff99"/>
                </a:solidFill>
                <a:latin typeface="Victorian LE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'Blumenpracht 2' von Rita Köhler"/>
          <p:cNvPicPr/>
          <p:nvPr/>
        </p:nvPicPr>
        <p:blipFill>
          <a:blip r:embed="rId1"/>
          <a:stretch/>
        </p:blipFill>
        <p:spPr>
          <a:xfrm>
            <a:off x="762120" y="762120"/>
            <a:ext cx="3581280" cy="533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'-3-' von Frank Grages"/>
          <p:cNvPicPr/>
          <p:nvPr/>
        </p:nvPicPr>
        <p:blipFill>
          <a:blip r:embed="rId1"/>
          <a:stretch/>
        </p:blipFill>
        <p:spPr>
          <a:xfrm flipH="1">
            <a:off x="-360" y="0"/>
            <a:ext cx="467676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724280" y="152280"/>
            <a:ext cx="4267440" cy="6553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9933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932360" y="907920"/>
            <a:ext cx="3733920" cy="52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ictorian LET"/>
              </a:rPr>
              <a:t>"Life would b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ictorian LET"/>
              </a:rPr>
              <a:t>infinitely happi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ictorian LET"/>
              </a:rPr>
              <a:t>if we could only be born at the age of eigh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ictorian LET"/>
              </a:rPr>
              <a:t>and graduall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ictorian LET"/>
              </a:rPr>
              <a:t>approac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ictorian LET"/>
              </a:rPr>
              <a:t>eighteen.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152280"/>
            <a:ext cx="4343400" cy="6553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'Iris #1' von Peter Grubauer"/>
          <p:cNvPicPr/>
          <p:nvPr/>
        </p:nvPicPr>
        <p:blipFill>
          <a:blip r:embed="rId1"/>
          <a:stretch/>
        </p:blipFill>
        <p:spPr>
          <a:xfrm>
            <a:off x="0" y="0"/>
            <a:ext cx="449568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343400" y="380880"/>
            <a:ext cx="4572000" cy="6172200"/>
          </a:xfrm>
          <a:prstGeom prst="diamond">
            <a:avLst/>
          </a:prstGeom>
          <a:gradFill rotWithShape="0">
            <a:gsLst>
              <a:gs pos="0">
                <a:srgbClr val="3333cc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101520">
            <a:solidFill>
              <a:srgbClr val="00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557360"/>
            <a:ext cx="4648320" cy="40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Victorian LET"/>
              </a:rPr>
              <a:t>Good tim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Victorian LET"/>
              </a:rPr>
              <a:t>beco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Victorian LET"/>
              </a:rPr>
              <a:t>good memori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Victorian LET"/>
              </a:rPr>
              <a:t>Bad tim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Victorian LET"/>
              </a:rPr>
              <a:t>beco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Victorian LET"/>
              </a:rPr>
              <a:t>go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Victorian LET"/>
              </a:rPr>
              <a:t>lessons</a:t>
            </a:r>
            <a:r>
              <a:rPr b="0" lang="en-US" sz="3600" spc="-1" strike="noStrike">
                <a:solidFill>
                  <a:srgbClr val="ccccff"/>
                </a:solidFill>
                <a:latin typeface="Victorian LE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'kiss from a rose' von Frank Boenig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724280" y="685800"/>
            <a:ext cx="3810240" cy="533412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ffcccc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84720" y="1700280"/>
            <a:ext cx="4572000" cy="36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ictorian LET"/>
              </a:rPr>
              <a:t>It's not on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ictorian LE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ictorian LET"/>
              </a:rPr>
              <a:t>the scener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ictorian LET"/>
              </a:rPr>
              <a:t>you mis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ictorian LET"/>
              </a:rPr>
              <a:t>by go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ictorian LET"/>
              </a:rPr>
              <a:t>too fast</a:t>
            </a:r>
            <a:r>
              <a:rPr b="0" lang="en-US" sz="3600" spc="-1" strike="noStrike">
                <a:solidFill>
                  <a:srgbClr val="000000"/>
                </a:solidFill>
                <a:latin typeface="Victorian LET"/>
              </a:rPr>
              <a:t> 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507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'Orchideentraum, die Zweite' von Qrt Laederach"/>
          <p:cNvPicPr/>
          <p:nvPr/>
        </p:nvPicPr>
        <p:blipFill>
          <a:blip r:embed="rId1"/>
          <a:stretch/>
        </p:blipFill>
        <p:spPr>
          <a:xfrm>
            <a:off x="838080" y="228600"/>
            <a:ext cx="7507440" cy="41227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33520" y="4419720"/>
            <a:ext cx="8153280" cy="2133360"/>
          </a:xfrm>
          <a:prstGeom prst="pentagon">
            <a:avLst/>
          </a:pr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path path="rect">
              <a:fillToRect l="50000" t="50000" r="50000" b="50000"/>
            </a:path>
          </a:gradFill>
          <a:ln w="88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4952880"/>
            <a:ext cx="8305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Victorian LET"/>
              </a:rPr>
              <a:t>Succes is to get what you want 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Victorian LET"/>
              </a:rPr>
              <a:t>Luck is to keep what you g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'Lotusblüte für Sonnenhungrige' von Ulrich Iffland"/>
          <p:cNvPicPr/>
          <p:nvPr/>
        </p:nvPicPr>
        <p:blipFill>
          <a:blip r:embed="rId1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50920" y="189000"/>
            <a:ext cx="8686800" cy="6476760"/>
          </a:xfrm>
          <a:prstGeom prst="ellipse">
            <a:avLst/>
          </a:prstGeom>
          <a:solidFill>
            <a:srgbClr val="ffcccc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1447920"/>
            <a:ext cx="6858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Victorian LET"/>
              </a:rPr>
              <a:t>The future belongs to thos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Victorian LET"/>
              </a:rPr>
              <a:t>who believ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Victorian LET"/>
              </a:rPr>
              <a:t>in the beauty of their dreams."</a:t>
            </a:r>
            <a:r>
              <a:rPr b="0" lang="en-US" sz="3600" spc="-1" strike="noStrike">
                <a:solidFill>
                  <a:srgbClr val="ffffff"/>
                </a:solidFill>
                <a:latin typeface="Victorian LE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410080" y="838080"/>
            <a:ext cx="3429000" cy="5105520"/>
          </a:xfrm>
          <a:custGeom>
            <a:avLst/>
            <a:gdLst>
              <a:gd name="textAreaLeft" fmla="*/ 167400 w 3429000"/>
              <a:gd name="textAreaRight" fmla="*/ 3261600 w 3429000"/>
              <a:gd name="textAreaTop" fmla="*/ 167400 h 5105520"/>
              <a:gd name="textAreaBottom" fmla="*/ 4938120 h 5105520"/>
            </a:gdLst>
            <a:ahLst/>
            <a:rect l="textAreaLeft" t="textAreaTop" r="textAreaRight" b="textAreaBottom"/>
            <a:pathLst>
              <a:path w="21600" h="32160">
                <a:moveTo>
                  <a:pt x="3600" y="0"/>
                </a:moveTo>
                <a:arcTo wR="3600" hR="3600" stAng="16200000" swAng="-5400000"/>
                <a:lnTo>
                  <a:pt x="0" y="28560"/>
                </a:lnTo>
                <a:arcTo wR="3600" hR="3600" stAng="10800000" swAng="-5400000"/>
                <a:lnTo>
                  <a:pt x="18000" y="32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f9999"/>
              </a:gs>
            </a:gsLst>
            <a:path path="rect">
              <a:fillToRect l="50000" t="50000" r="50000" b="50000"/>
            </a:path>
          </a:gradFill>
          <a:ln w="8892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05520" y="1197000"/>
            <a:ext cx="403848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cc"/>
                </a:solidFill>
                <a:latin typeface="Victorian LET"/>
              </a:rPr>
              <a:t>I loo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cc"/>
                </a:solidFill>
                <a:latin typeface="Victorian LET"/>
              </a:rPr>
              <a:t>to the futu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cc"/>
                </a:solidFill>
                <a:latin typeface="Victorian LET"/>
              </a:rPr>
              <a:t>becau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cc"/>
                </a:solidFill>
                <a:latin typeface="Victorian LET"/>
              </a:rPr>
              <a:t>that's whe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cc"/>
                </a:solidFill>
                <a:latin typeface="Victorian LET"/>
              </a:rPr>
              <a:t>I'm going to spe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cc"/>
                </a:solidFill>
                <a:latin typeface="Victorian LET"/>
              </a:rPr>
              <a:t>the rest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cc"/>
                </a:solidFill>
                <a:latin typeface="Victorian LET"/>
              </a:rPr>
              <a:t>my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'Lichtspiele' von Peter Schinzel"/>
          <p:cNvPicPr/>
          <p:nvPr/>
        </p:nvPicPr>
        <p:blipFill>
          <a:blip r:embed="rId1"/>
          <a:stretch/>
        </p:blipFill>
        <p:spPr>
          <a:xfrm>
            <a:off x="228600" y="76320"/>
            <a:ext cx="4800600" cy="67816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505320" y="6629400"/>
            <a:ext cx="129528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3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00026 primrose.jpg"/>
          <p:cNvPicPr/>
          <p:nvPr/>
        </p:nvPicPr>
        <p:blipFill>
          <a:blip r:embed="rId1"/>
          <a:stretch/>
        </p:blipFill>
        <p:spPr>
          <a:xfrm>
            <a:off x="228600" y="152280"/>
            <a:ext cx="4599000" cy="67057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57200" y="380880"/>
            <a:ext cx="4114800" cy="6248520"/>
          </a:xfrm>
          <a:prstGeom prst="rect">
            <a:avLst/>
          </a:prstGeom>
          <a:noFill/>
          <a:ln w="27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76920" y="990720"/>
            <a:ext cx="4114800" cy="4647960"/>
          </a:xfrm>
          <a:prstGeom prst="hexagon">
            <a:avLst>
              <a:gd name="adj" fmla="val 25000"/>
              <a:gd name="vf" fmla="val 115470"/>
            </a:avLst>
          </a:prstGeom>
          <a:gradFill rotWithShape="0">
            <a:gsLst>
              <a:gs pos="0">
                <a:srgbClr val="ff7c8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952880" y="1295280"/>
            <a:ext cx="38862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cccc"/>
                </a:solidFill>
                <a:latin typeface="Victorian LET"/>
              </a:rPr>
              <a:t>"People a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cccc"/>
                </a:solidFill>
                <a:latin typeface="Victorian LET"/>
              </a:rPr>
              <a:t>lonely becau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cccc"/>
                </a:solidFill>
                <a:latin typeface="Victorian LET"/>
              </a:rPr>
              <a:t>they build wall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cccc"/>
                </a:solidFill>
                <a:latin typeface="Victorian LET"/>
              </a:rPr>
              <a:t>instea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cccc"/>
                </a:solidFill>
                <a:latin typeface="Victorian LET"/>
              </a:rPr>
              <a:t>of bridges."</a:t>
            </a:r>
            <a:r>
              <a:rPr b="0" lang="en-US" sz="3200" spc="-1" strike="noStrike">
                <a:solidFill>
                  <a:srgbClr val="ffcccc"/>
                </a:solidFill>
                <a:latin typeface="Victorian LE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flower 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143000" y="152280"/>
            <a:ext cx="6858000" cy="175284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7c80"/>
              </a:gs>
              <a:gs pos="100000">
                <a:srgbClr val="75393b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71640" y="62064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Victorian LET"/>
              </a:rPr>
              <a:t>Have a nice day!</a:t>
            </a:r>
            <a:r>
              <a:rPr b="0" lang="nl-BE" sz="4400" spc="-1" strike="noStrike">
                <a:solidFill>
                  <a:srgbClr val="000000"/>
                </a:solidFill>
                <a:latin typeface="Victorian LE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4500"/>
                            </p:stCondLst>
                            <p:childTnLst>
                              <p:par>
                                <p:cTn id="19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257800" y="304920"/>
            <a:ext cx="3733920" cy="6172200"/>
          </a:xfrm>
          <a:prstGeom prst="triangle">
            <a:avLst>
              <a:gd name="adj" fmla="val 50000"/>
            </a:avLst>
          </a:prstGeom>
          <a:solidFill>
            <a:srgbClr val="ffcc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1800">
            <a:off x="5257800" y="304560"/>
            <a:ext cx="3733920" cy="6172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'&quot;Die Drei&quot;' von Anette St."/>
          <p:cNvPicPr/>
          <p:nvPr/>
        </p:nvPicPr>
        <p:blipFill>
          <a:blip r:embed="rId1"/>
          <a:stretch/>
        </p:blipFill>
        <p:spPr>
          <a:xfrm>
            <a:off x="0" y="0"/>
            <a:ext cx="482436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876920" y="457200"/>
            <a:ext cx="4572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9900"/>
                </a:solidFill>
                <a:latin typeface="Victorian LET"/>
              </a:rPr>
              <a:t>Enjoy life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9900"/>
                </a:solidFill>
                <a:latin typeface="Victorian LET"/>
              </a:rPr>
              <a:t> </a:t>
            </a:r>
            <a:r>
              <a:rPr b="0" lang="nl-BE" sz="3600" spc="-1" strike="noStrike">
                <a:solidFill>
                  <a:srgbClr val="ff9900"/>
                </a:solidFill>
                <a:latin typeface="Victorian LET"/>
              </a:rPr>
              <a:t>this is no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9900"/>
                </a:solidFill>
                <a:latin typeface="Victorian LET"/>
              </a:rPr>
              <a:t> </a:t>
            </a:r>
            <a:r>
              <a:rPr b="0" lang="nl-BE" sz="3600" spc="-1" strike="noStrike">
                <a:solidFill>
                  <a:srgbClr val="ff9900"/>
                </a:solidFill>
                <a:latin typeface="Victorian LET"/>
              </a:rPr>
              <a:t>a rehearsal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304920"/>
            <a:ext cx="4190760" cy="62481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Flower"/>
          <p:cNvPicPr/>
          <p:nvPr/>
        </p:nvPicPr>
        <p:blipFill>
          <a:blip r:embed="rId1"/>
          <a:stretch/>
        </p:blipFill>
        <p:spPr>
          <a:xfrm>
            <a:off x="228600" y="152280"/>
            <a:ext cx="4459320" cy="67057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828800" y="6553080"/>
            <a:ext cx="13716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304920"/>
            <a:ext cx="3962160" cy="617220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cc66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52880" y="914400"/>
            <a:ext cx="381024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ictorian LET"/>
              </a:rPr>
              <a:t>"Think highl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ictorian LET"/>
              </a:rPr>
              <a:t>of yourself becaus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ictorian LET"/>
              </a:rPr>
              <a:t>the worl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ictorian LET"/>
              </a:rPr>
              <a:t>takes you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ictorian LET"/>
              </a:rPr>
              <a:t>at your ow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ictorian LET"/>
              </a:rPr>
              <a:t>estimate."</a:t>
            </a:r>
            <a:r>
              <a:rPr b="0" lang="en-US" sz="3600" spc="-1" strike="noStrike">
                <a:solidFill>
                  <a:srgbClr val="99ff99"/>
                </a:solidFill>
                <a:latin typeface="Victorian LET"/>
              </a:rPr>
              <a:t> </a:t>
            </a:r>
            <a:r>
              <a:rPr b="0" lang="nl-BE" sz="3600" spc="-1" strike="noStrike">
                <a:solidFill>
                  <a:srgbClr val="000000"/>
                </a:solidFill>
                <a:latin typeface="Victorian LE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6477120"/>
            <a:ext cx="45720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952880" y="1219320"/>
            <a:ext cx="3962520" cy="4495680"/>
          </a:xfrm>
          <a:prstGeom prst="hexagon">
            <a:avLst>
              <a:gd name="adj" fmla="val 25000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4d4d4d"/>
              </a:gs>
            </a:gsLst>
            <a:path path="rect">
              <a:fillToRect l="50000" t="50000" r="50000" b="50000"/>
            </a:path>
          </a:gradFill>
          <a:ln w="8892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257800" y="1268280"/>
            <a:ext cx="3429000" cy="41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ictorian LET"/>
              </a:rPr>
              <a:t>Don't fear pres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ictorian LET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ictorian LET"/>
              </a:rPr>
              <a:t>for pressure is what turns rough stones i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ictorian LET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ictorian LET"/>
              </a:rPr>
              <a:t>diamonds</a:t>
            </a:r>
            <a:r>
              <a:rPr b="0" lang="en-US" sz="3600" spc="-1" strike="noStrike">
                <a:solidFill>
                  <a:srgbClr val="99ff99"/>
                </a:solidFill>
                <a:latin typeface="Victorian LE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'Das Auge der Iris' von Anja E."/>
          <p:cNvPicPr/>
          <p:nvPr/>
        </p:nvPicPr>
        <p:blipFill>
          <a:blip r:embed="rId1"/>
          <a:stretch/>
        </p:blipFill>
        <p:spPr>
          <a:xfrm>
            <a:off x="304920" y="228600"/>
            <a:ext cx="4379760" cy="647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NCC_0056.jpg"/>
          <p:cNvPicPr/>
          <p:nvPr/>
        </p:nvPicPr>
        <p:blipFill>
          <a:blip r:embed="rId1"/>
          <a:stretch/>
        </p:blipFill>
        <p:spPr>
          <a:xfrm>
            <a:off x="0" y="0"/>
            <a:ext cx="48546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4280" y="380880"/>
            <a:ext cx="4191120" cy="6096240"/>
          </a:xfrm>
          <a:custGeom>
            <a:avLst/>
            <a:gdLst>
              <a:gd name="textAreaLeft" fmla="*/ 204480 w 4191120"/>
              <a:gd name="textAreaRight" fmla="*/ 3986640 w 4191120"/>
              <a:gd name="textAreaTop" fmla="*/ 204480 h 6096240"/>
              <a:gd name="textAreaBottom" fmla="*/ 5891760 h 6096240"/>
            </a:gdLst>
            <a:ahLst/>
            <a:rect l="textAreaLeft" t="textAreaTop" r="textAreaRight" b="textAreaBottom"/>
            <a:pathLst>
              <a:path w="21600" h="31418">
                <a:moveTo>
                  <a:pt x="3600" y="0"/>
                </a:moveTo>
                <a:arcTo wR="3600" hR="3600" stAng="16200000" swAng="-5400000"/>
                <a:lnTo>
                  <a:pt x="0" y="27818"/>
                </a:lnTo>
                <a:arcTo wR="3600" hR="3600" stAng="10800000" swAng="-5400000"/>
                <a:lnTo>
                  <a:pt x="18000" y="314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952880" y="838080"/>
            <a:ext cx="3733920" cy="5181840"/>
          </a:xfrm>
          <a:custGeom>
            <a:avLst/>
            <a:gdLst>
              <a:gd name="textAreaLeft" fmla="*/ 182160 w 3733920"/>
              <a:gd name="textAreaRight" fmla="*/ 3551760 w 3733920"/>
              <a:gd name="textAreaTop" fmla="*/ 182160 h 5181840"/>
              <a:gd name="textAreaBottom" fmla="*/ 4999680 h 5181840"/>
            </a:gdLst>
            <a:ahLst/>
            <a:rect l="textAreaLeft" t="textAreaTop" r="textAreaRight" b="textAreaBottom"/>
            <a:pathLst>
              <a:path w="21600" h="29975">
                <a:moveTo>
                  <a:pt x="3600" y="0"/>
                </a:moveTo>
                <a:arcTo wR="3600" hR="3600" stAng="16200000" swAng="-5400000"/>
                <a:lnTo>
                  <a:pt x="0" y="26375"/>
                </a:lnTo>
                <a:arcTo wR="3600" hR="3600" stAng="10800000" swAng="-5400000"/>
                <a:lnTo>
                  <a:pt x="18000" y="299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105520" y="1447920"/>
            <a:ext cx="34290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ictorian LET"/>
              </a:rPr>
              <a:t>Live each da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ictorian LET"/>
              </a:rPr>
              <a:t>in the presen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ictorian LET"/>
              </a:rPr>
              <a:t>and make i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ictorian LET"/>
              </a:rPr>
              <a:t>beautiful.</a:t>
            </a:r>
            <a:r>
              <a:rPr b="0" lang="en-US" sz="3600" spc="-1" strike="noStrike">
                <a:solidFill>
                  <a:srgbClr val="99ff99"/>
                </a:solidFill>
                <a:latin typeface="Victorian LE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Longwood Gardens"/>
          <p:cNvPicPr/>
          <p:nvPr/>
        </p:nvPicPr>
        <p:blipFill>
          <a:blip r:embed="rId1"/>
          <a:stretch/>
        </p:blipFill>
        <p:spPr>
          <a:xfrm>
            <a:off x="304920" y="304920"/>
            <a:ext cx="4400280" cy="64008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876920" y="304920"/>
            <a:ext cx="4114800" cy="64008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86400" y="404640"/>
            <a:ext cx="2895480" cy="56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ictorian LET"/>
              </a:rPr>
              <a:t>"Believe that your life is worth liv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ictorian LET"/>
              </a:rPr>
              <a:t>and your beliefs will help create the fact."</a:t>
            </a:r>
            <a:r>
              <a:rPr b="0" lang="en-US" sz="3600" spc="-1" strike="noStrike">
                <a:solidFill>
                  <a:srgbClr val="99ff99"/>
                </a:solidFill>
                <a:latin typeface="Victorian LE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Flower -036.jpg"/>
          <p:cNvPicPr/>
          <p:nvPr/>
        </p:nvPicPr>
        <p:blipFill>
          <a:blip r:embed="rId1"/>
          <a:stretch/>
        </p:blipFill>
        <p:spPr>
          <a:xfrm>
            <a:off x="304920" y="228600"/>
            <a:ext cx="4427280" cy="6324480"/>
          </a:xfrm>
          <a:prstGeom prst="rect">
            <a:avLst/>
          </a:prstGeom>
          <a:ln w="127080">
            <a:solidFill>
              <a:srgbClr val="a50021"/>
            </a:solidFill>
            <a:miter/>
          </a:ln>
        </p:spPr>
      </p:pic>
      <p:sp>
        <p:nvSpPr>
          <p:cNvPr id="68" name=""/>
          <p:cNvSpPr/>
          <p:nvPr/>
        </p:nvSpPr>
        <p:spPr>
          <a:xfrm>
            <a:off x="5181480" y="533520"/>
            <a:ext cx="3505320" cy="548640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1270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64000" y="1844640"/>
            <a:ext cx="320040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Victorian LET"/>
              </a:rPr>
              <a:t>Wherever you go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Victorian LET"/>
              </a:rPr>
              <a:t>take your whole hear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Victorian LET"/>
              </a:rPr>
              <a:t>alo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'_two_' von Nic H."/>
          <p:cNvPicPr/>
          <p:nvPr/>
        </p:nvPicPr>
        <p:blipFill>
          <a:blip r:embed="rId1"/>
          <a:stretch/>
        </p:blipFill>
        <p:spPr>
          <a:xfrm>
            <a:off x="304920" y="152280"/>
            <a:ext cx="8686800" cy="48578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33520" y="5181480"/>
            <a:ext cx="8305560" cy="152424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ffff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9640" y="5516640"/>
            <a:ext cx="82296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ictorian LET"/>
              </a:rPr>
              <a:t>"If you love life, life will love you back."</a:t>
            </a:r>
            <a:r>
              <a:rPr b="0" lang="en-US" sz="3600" spc="-1" strike="noStrike">
                <a:solidFill>
                  <a:srgbClr val="99ff99"/>
                </a:solidFill>
                <a:latin typeface="Victorian LET"/>
              </a:rPr>
              <a:t> </a:t>
            </a:r>
            <a:r>
              <a:rPr b="0" lang="nl-BE" sz="3200" spc="-1" strike="noStrike">
                <a:solidFill>
                  <a:srgbClr val="000000"/>
                </a:solidFill>
                <a:latin typeface="Victorian LET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9T15:59:03Z</dcterms:created>
  <dc:creator> </dc:creator>
  <dc:description> </dc:description>
  <cp:keywords/>
  <dc:language>en-US</dc:language>
  <cp:lastModifiedBy/>
  <dcterms:modified xsi:type="dcterms:W3CDTF">2009-03-19T15:59:03Z</dcterms:modified>
  <cp:revision>1</cp:revision>
  <dc:subject> </dc:subject>
  <dc:title> </dc:title>
</cp:coreProperties>
</file>