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-FloydCramer-WhenAManLovesAWoman.wav" ContentType="audio/x-wav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C15-1049-4A73-9584-E5994463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D982-E029-491C-AA57-514BBFDC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CE2-3F40-425F-9065-E35A4B9B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882-F433-45D0-B456-E84DF47D2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004-9038-45D9-9AF0-0D41FACB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3FC-B4C6-47B7-A218-4A0E813F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14D-007D-4E90-A9F4-3F4500B7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9DE-A5C6-4C6D-A4C1-16950395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31B-07D0-4C03-A078-F9CEE4AB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AD9A-6CB1-49FD-8C7E-0DC4C051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CE81-C70D-481B-8DF3-88947AAB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DB5-B252-408E-AB35-3F9CB480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A74F-356E-4B84-A60C-B975F362E2C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-FloydCramer-WhenAManLovesAWoma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P6061666.JPG"/>
          <p:cNvPicPr/>
          <p:nvPr/>
        </p:nvPicPr>
        <p:blipFill>
          <a:blip r:embed="rId1"/>
          <a:stretch/>
        </p:blipFill>
        <p:spPr>
          <a:xfrm>
            <a:off x="152280" y="152280"/>
            <a:ext cx="5227920" cy="647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932360" y="333360"/>
            <a:ext cx="3886200" cy="624852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656565"/>
              </a:gs>
            </a:gsLst>
            <a:path path="rect">
              <a:fillToRect l="50000" t="50000" r="50000" b="50000"/>
            </a:path>
          </a:gra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03640" y="1268280"/>
            <a:ext cx="3657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8800" spc="-1" strike="noStrike">
                <a:solidFill>
                  <a:srgbClr val="000000"/>
                </a:solidFill>
                <a:latin typeface="Rage Italic"/>
              </a:rPr>
              <a:t>Hello my friend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724280" y="380880"/>
            <a:ext cx="4114800" cy="6019920"/>
          </a:xfrm>
          <a:custGeom>
            <a:avLst/>
            <a:gdLst>
              <a:gd name="textAreaLeft" fmla="*/ 484920 w 4114800"/>
              <a:gd name="textAreaRight" fmla="*/ 3629880 w 4114800"/>
              <a:gd name="textAreaTop" fmla="*/ 484920 h 6019920"/>
              <a:gd name="textAreaBottom" fmla="*/ 5535000 h 6019920"/>
            </a:gdLst>
            <a:ahLst/>
            <a:rect l="textAreaLeft" t="textAreaTop" r="textAreaRight" b="textAreaBottom"/>
            <a:pathLst>
              <a:path w="21600" h="31600">
                <a:moveTo>
                  <a:pt x="3600" y="0"/>
                </a:moveTo>
                <a:arcTo wR="3600" hR="3600" stAng="0" swAng="5400000"/>
                <a:lnTo>
                  <a:pt x="0" y="28000"/>
                </a:lnTo>
                <a:arcTo wR="3600" hR="3600" stAng="16200000" swAng="5400000"/>
                <a:lnTo>
                  <a:pt x="18000" y="31600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76920" y="1219320"/>
            <a:ext cx="38098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"Heal the pas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live the pres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Victorian LET"/>
              </a:rPr>
              <a:t>dream the future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'**mal wieder rosen**' von H.J. Uwe Winkler"/>
          <p:cNvPicPr/>
          <p:nvPr/>
        </p:nvPicPr>
        <p:blipFill>
          <a:blip r:embed="rId1"/>
          <a:stretch/>
        </p:blipFill>
        <p:spPr>
          <a:xfrm>
            <a:off x="0" y="0"/>
            <a:ext cx="4656240" cy="65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DSCN2778 (2).JPG"/>
          <p:cNvPicPr/>
          <p:nvPr/>
        </p:nvPicPr>
        <p:blipFill>
          <a:blip r:embed="rId1"/>
          <a:stretch/>
        </p:blipFill>
        <p:spPr>
          <a:xfrm>
            <a:off x="380880" y="380880"/>
            <a:ext cx="4267440" cy="60962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5257800" y="685800"/>
            <a:ext cx="3429000" cy="541008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cc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2205000"/>
            <a:ext cx="38102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"Don't cou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the d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make t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Victorian LET"/>
              </a:rPr>
              <a:t>days count."</a:t>
            </a:r>
            <a:r>
              <a:rPr b="0" lang="en-US" sz="3200" spc="-1" strike="noStrike">
                <a:solidFill>
                  <a:srgbClr val="3333cc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00250 Fuschia.jpg"/>
          <p:cNvPicPr/>
          <p:nvPr/>
        </p:nvPicPr>
        <p:blipFill>
          <a:blip r:embed="rId1"/>
          <a:stretch/>
        </p:blipFill>
        <p:spPr>
          <a:xfrm>
            <a:off x="328680" y="380880"/>
            <a:ext cx="4281480" cy="6096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57200" y="533520"/>
            <a:ext cx="4038480" cy="5790960"/>
          </a:xfrm>
          <a:prstGeom prst="rect">
            <a:avLst/>
          </a:prstGeom>
          <a:noFill/>
          <a:ln w="31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800600" y="533520"/>
            <a:ext cx="4191120" cy="5562360"/>
          </a:xfrm>
          <a:prstGeom prst="pentagon">
            <a:avLst/>
          </a:prstGeom>
          <a:gradFill rotWithShape="0">
            <a:gsLst>
              <a:gs pos="0">
                <a:srgbClr val="ffffff"/>
              </a:gs>
              <a:gs pos="100000">
                <a:srgbClr val="669900"/>
              </a:gs>
            </a:gsLst>
            <a:path path="rect">
              <a:fillToRect l="50000" t="50000" r="50000" b="50000"/>
            </a:path>
          </a:gradFill>
          <a:ln w="17784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1268280"/>
            <a:ext cx="4343400" cy="45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he k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o happin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is having dream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he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to success 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making drea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ictorian LET"/>
              </a:rPr>
              <a:t>come true.</a:t>
            </a: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 12.june  2004"/>
          <p:cNvPicPr/>
          <p:nvPr/>
        </p:nvPicPr>
        <p:blipFill>
          <a:blip r:embed="rId1"/>
          <a:stretch/>
        </p:blipFill>
        <p:spPr>
          <a:xfrm>
            <a:off x="152280" y="228600"/>
            <a:ext cx="5029200" cy="64533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rot="10800000">
            <a:off x="4876920" y="380880"/>
            <a:ext cx="3962160" cy="6019920"/>
          </a:xfrm>
          <a:custGeom>
            <a:avLst/>
            <a:gdLst>
              <a:gd name="textAreaLeft" fmla="*/ 871200 w 3962160"/>
              <a:gd name="textAreaRight" fmla="*/ 3090960 w 3962160"/>
              <a:gd name="textAreaTop" fmla="*/ 1323720 h 6019920"/>
              <a:gd name="textAreaBottom" fmla="*/ 4696200 h 6019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>
              <a:alpha val="50000"/>
            </a:srgbClr>
          </a:solidFill>
          <a:ln w="63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88000" y="1197000"/>
            <a:ext cx="4114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world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like a mi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f you face 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smiling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t smi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right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'Tulpen' von Carla Wildeman"/>
          <p:cNvPicPr/>
          <p:nvPr/>
        </p:nvPicPr>
        <p:blipFill>
          <a:blip r:embed="rId1"/>
          <a:stretch/>
        </p:blipFill>
        <p:spPr>
          <a:xfrm>
            <a:off x="762120" y="304920"/>
            <a:ext cx="7734240" cy="3952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572000"/>
            <a:ext cx="8610480" cy="1981080"/>
          </a:xfrm>
          <a:prstGeom prst="plus">
            <a:avLst>
              <a:gd name="adj" fmla="val 25000"/>
            </a:avLst>
          </a:prstGeom>
          <a:noFill/>
          <a:ln w="190440">
            <a:solidFill>
              <a:srgbClr val="ffff99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280" y="4876920"/>
            <a:ext cx="883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"Happiness is not having what you wan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It's wanting what you have."</a:t>
            </a:r>
            <a:r>
              <a:rPr b="0" lang="en-US" sz="3200" spc="-1" strike="noStrike">
                <a:solidFill>
                  <a:srgbClr val="009900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152280"/>
            <a:ext cx="4800600" cy="6553440"/>
          </a:xfrm>
          <a:prstGeom prst="bevel">
            <a:avLst>
              <a:gd name="adj" fmla="val 12500"/>
            </a:avLst>
          </a:prstGeom>
          <a:solidFill>
            <a:srgbClr val="4d4d4d">
              <a:alpha val="50000"/>
            </a:srgbClr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413000"/>
            <a:ext cx="42670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Learn to liste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Opportunity 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knock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Victorian LET"/>
              </a:rPr>
              <a:t>very softly.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'Blumenpracht 2' von Rita Köhler"/>
          <p:cNvPicPr/>
          <p:nvPr/>
        </p:nvPicPr>
        <p:blipFill>
          <a:blip r:embed="rId1"/>
          <a:stretch/>
        </p:blipFill>
        <p:spPr>
          <a:xfrm>
            <a:off x="762120" y="762120"/>
            <a:ext cx="3581280" cy="533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'-3-' von Frank Grages"/>
          <p:cNvPicPr/>
          <p:nvPr/>
        </p:nvPicPr>
        <p:blipFill>
          <a:blip r:embed="rId1"/>
          <a:stretch/>
        </p:blipFill>
        <p:spPr>
          <a:xfrm flipH="1">
            <a:off x="-360" y="0"/>
            <a:ext cx="467676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724280" y="152280"/>
            <a:ext cx="4267440" cy="6553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993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907920"/>
            <a:ext cx="37339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"Life would b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nfinitely happi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f we could only be born at the age of eigh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and graduall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appr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eighteen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152280"/>
            <a:ext cx="4343400" cy="6553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'Iris #1' von Peter Grubauer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343400" y="380880"/>
            <a:ext cx="4572000" cy="6172200"/>
          </a:xfrm>
          <a:prstGeom prst="diamond">
            <a:avLst/>
          </a:prstGeom>
          <a:gradFill rotWithShape="0">
            <a:gsLst>
              <a:gs pos="0">
                <a:srgbClr val="3333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0000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67080" y="1557360"/>
            <a:ext cx="4648320" cy="40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tim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memor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ad tim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beco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go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Victorian LET"/>
              </a:rPr>
              <a:t>lessons</a:t>
            </a:r>
            <a:r>
              <a:rPr b="0" lang="en-US" sz="3600" spc="-1" strike="noStrike">
                <a:solidFill>
                  <a:srgbClr val="ccccff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'kiss from a rose' von Frank Boenig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724280" y="685800"/>
            <a:ext cx="3810240" cy="533412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1700280"/>
            <a:ext cx="457200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It's not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he scene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you mi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by go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ictorian LET"/>
              </a:rPr>
              <a:t>too fast</a:t>
            </a: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 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152280"/>
            <a:ext cx="8839440" cy="6553440"/>
          </a:xfrm>
          <a:prstGeom prst="rect">
            <a:avLst/>
          </a:prstGeom>
          <a:noFill/>
          <a:ln w="507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'Orchideentraum, die Zweite' von Qrt Laederach"/>
          <p:cNvPicPr/>
          <p:nvPr/>
        </p:nvPicPr>
        <p:blipFill>
          <a:blip r:embed="rId1"/>
          <a:stretch/>
        </p:blipFill>
        <p:spPr>
          <a:xfrm>
            <a:off x="838080" y="228600"/>
            <a:ext cx="7507440" cy="4122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4419720"/>
            <a:ext cx="8153280" cy="2133360"/>
          </a:xfrm>
          <a:prstGeom prst="pentagon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952880"/>
            <a:ext cx="8305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Succes is to get what you want 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Luck is to keep what you 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'Lotusblüte für Sonnenhungrige' von Ulrich Iffland"/>
          <p:cNvPicPr/>
          <p:nvPr/>
        </p:nvPicPr>
        <p:blipFill>
          <a:blip r:embed="rId1"/>
          <a:stretch/>
        </p:blipFill>
        <p:spPr>
          <a:xfrm>
            <a:off x="0" y="0"/>
            <a:ext cx="9144000" cy="69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189000"/>
            <a:ext cx="8686800" cy="6476760"/>
          </a:xfrm>
          <a:prstGeom prst="ellipse">
            <a:avLst/>
          </a:prstGeom>
          <a:solidFill>
            <a:srgbClr val="ffcccc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447920"/>
            <a:ext cx="6858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The future belongs to tho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who believ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Victorian LET"/>
              </a:rPr>
              <a:t>in the beauty of their dreams."</a:t>
            </a:r>
            <a:r>
              <a:rPr b="0" lang="en-US" sz="3600" spc="-1" strike="noStrike">
                <a:solidFill>
                  <a:srgbClr val="ffffff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410080" y="838080"/>
            <a:ext cx="3429000" cy="5105520"/>
          </a:xfrm>
          <a:custGeom>
            <a:avLst/>
            <a:gdLst>
              <a:gd name="textAreaLeft" fmla="*/ 167400 w 3429000"/>
              <a:gd name="textAreaRight" fmla="*/ 3261600 w 3429000"/>
              <a:gd name="textAreaTop" fmla="*/ 167400 h 5105520"/>
              <a:gd name="textAreaBottom" fmla="*/ 4938120 h 5105520"/>
            </a:gdLst>
            <a:ahLst/>
            <a:rect l="textAreaLeft" t="textAreaTop" r="textAreaRight" b="textAreaBottom"/>
            <a:pathLst>
              <a:path w="21600" h="32160">
                <a:moveTo>
                  <a:pt x="3600" y="0"/>
                </a:moveTo>
                <a:arcTo wR="3600" hR="3600" stAng="16200000" swAng="-5400000"/>
                <a:lnTo>
                  <a:pt x="0" y="28560"/>
                </a:lnTo>
                <a:arcTo wR="3600" hR="3600" stAng="10800000" swAng="-5400000"/>
                <a:lnTo>
                  <a:pt x="18000" y="321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9999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1197000"/>
            <a:ext cx="403848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I loo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o the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becau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hat's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I'm going to spe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the rest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cc"/>
                </a:solidFill>
                <a:latin typeface="Victorian LET"/>
              </a:rPr>
              <a:t>m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'Lichtspiele' von Peter Schinzel"/>
          <p:cNvPicPr/>
          <p:nvPr/>
        </p:nvPicPr>
        <p:blipFill>
          <a:blip r:embed="rId1"/>
          <a:stretch/>
        </p:blipFill>
        <p:spPr>
          <a:xfrm>
            <a:off x="228600" y="76320"/>
            <a:ext cx="4800600" cy="67816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505320" y="6629400"/>
            <a:ext cx="129528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3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00026 primrose.jpg"/>
          <p:cNvPicPr/>
          <p:nvPr/>
        </p:nvPicPr>
        <p:blipFill>
          <a:blip r:embed="rId1"/>
          <a:stretch/>
        </p:blipFill>
        <p:spPr>
          <a:xfrm>
            <a:off x="228600" y="152280"/>
            <a:ext cx="4599000" cy="67057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380880"/>
            <a:ext cx="4114800" cy="6248520"/>
          </a:xfrm>
          <a:prstGeom prst="rect">
            <a:avLst/>
          </a:prstGeom>
          <a:noFill/>
          <a:ln w="27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990720"/>
            <a:ext cx="4114800" cy="464796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7c8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01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1295280"/>
            <a:ext cx="3886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"People a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lonely becau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they build wal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inst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cccc"/>
                </a:solidFill>
                <a:latin typeface="Victorian LET"/>
              </a:rPr>
              <a:t>of bridges."</a:t>
            </a:r>
            <a:r>
              <a:rPr b="0" lang="en-US" sz="3200" spc="-1" strike="noStrike">
                <a:solidFill>
                  <a:srgbClr val="ffcccc"/>
                </a:solidFill>
                <a:latin typeface="Victorian LE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flower 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143000" y="152280"/>
            <a:ext cx="6858000" cy="175284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7c80"/>
              </a:gs>
              <a:gs pos="100000">
                <a:srgbClr val="75393b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62064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000000"/>
                </a:solidFill>
                <a:latin typeface="Victorian LET"/>
              </a:rPr>
              <a:t>Have a nice day!</a:t>
            </a:r>
            <a:r>
              <a:rPr b="0" lang="nl-BE" sz="44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3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4500"/>
                            </p:stCondLst>
                            <p:childTnLst>
                              <p:par>
                                <p:cTn id="19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0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257800" y="30492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ffcc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1800">
            <a:off x="5257800" y="304560"/>
            <a:ext cx="3733920" cy="617220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'&quot;Die Drei&quot;' von Anette St."/>
          <p:cNvPicPr/>
          <p:nvPr/>
        </p:nvPicPr>
        <p:blipFill>
          <a:blip r:embed="rId1"/>
          <a:stretch/>
        </p:blipFill>
        <p:spPr>
          <a:xfrm>
            <a:off x="0" y="0"/>
            <a:ext cx="4824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876920" y="457200"/>
            <a:ext cx="4572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Enjoy life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this is no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ff9900"/>
                </a:solidFill>
                <a:latin typeface="Victorian LET"/>
              </a:rPr>
              <a:t>a rehearsal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304920"/>
            <a:ext cx="4190760" cy="62481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lower"/>
          <p:cNvPicPr/>
          <p:nvPr/>
        </p:nvPicPr>
        <p:blipFill>
          <a:blip r:embed="rId1"/>
          <a:stretch/>
        </p:blipFill>
        <p:spPr>
          <a:xfrm>
            <a:off x="228600" y="152280"/>
            <a:ext cx="4459320" cy="6705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828800" y="6553080"/>
            <a:ext cx="13716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304920"/>
            <a:ext cx="3962160" cy="61722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fcc66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52880" y="914400"/>
            <a:ext cx="381024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"Think highl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of yourself becaus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the worl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takes you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at your ow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estimate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r>
              <a:rPr b="0" lang="nl-BE" sz="3600" spc="-1" strike="noStrike">
                <a:solidFill>
                  <a:srgbClr val="000000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6477120"/>
            <a:ext cx="4572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952880" y="1219320"/>
            <a:ext cx="3962520" cy="4495680"/>
          </a:xfrm>
          <a:prstGeom prst="hexagon">
            <a:avLst>
              <a:gd name="adj" fmla="val 25000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4d4d4d"/>
              </a:gs>
            </a:gsLst>
            <a:path path="rect">
              <a:fillToRect l="50000" t="50000" r="50000" b="50000"/>
            </a:path>
          </a:gradFill>
          <a:ln w="8892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257800" y="1268280"/>
            <a:ext cx="3429000" cy="41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Don't fear pres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for pressure is what turns rough stones i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diamonds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'Das Auge der Iris' von Anja E."/>
          <p:cNvPicPr/>
          <p:nvPr/>
        </p:nvPicPr>
        <p:blipFill>
          <a:blip r:embed="rId1"/>
          <a:stretch/>
        </p:blipFill>
        <p:spPr>
          <a:xfrm>
            <a:off x="304920" y="228600"/>
            <a:ext cx="4379760" cy="6477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NCC_0056.jpg"/>
          <p:cNvPicPr/>
          <p:nvPr/>
        </p:nvPicPr>
        <p:blipFill>
          <a:blip r:embed="rId1"/>
          <a:stretch/>
        </p:blipFill>
        <p:spPr>
          <a:xfrm>
            <a:off x="0" y="0"/>
            <a:ext cx="48546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4280" y="380880"/>
            <a:ext cx="4191120" cy="6096240"/>
          </a:xfrm>
          <a:custGeom>
            <a:avLst/>
            <a:gdLst>
              <a:gd name="textAreaLeft" fmla="*/ 204480 w 4191120"/>
              <a:gd name="textAreaRight" fmla="*/ 3986640 w 4191120"/>
              <a:gd name="textAreaTop" fmla="*/ 204480 h 6096240"/>
              <a:gd name="textAreaBottom" fmla="*/ 5891760 h 6096240"/>
            </a:gdLst>
            <a:ahLst/>
            <a:rect l="textAreaLeft" t="textAreaTop" r="textAreaRight" b="textAreaBottom"/>
            <a:pathLst>
              <a:path w="21600" h="31418">
                <a:moveTo>
                  <a:pt x="3600" y="0"/>
                </a:moveTo>
                <a:arcTo wR="3600" hR="3600" stAng="16200000" swAng="-5400000"/>
                <a:lnTo>
                  <a:pt x="0" y="27818"/>
                </a:lnTo>
                <a:arcTo wR="3600" hR="3600" stAng="10800000" swAng="-5400000"/>
                <a:lnTo>
                  <a:pt x="18000" y="314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838080"/>
            <a:ext cx="3733920" cy="518184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5181840"/>
              <a:gd name="textAreaBottom" fmla="*/ 4999680 h 5181840"/>
            </a:gdLst>
            <a:ahLst/>
            <a:rect l="textAreaLeft" t="textAreaTop" r="textAreaRight" b="textAreaBottom"/>
            <a:pathLst>
              <a:path w="21600" h="29975">
                <a:moveTo>
                  <a:pt x="3600" y="0"/>
                </a:moveTo>
                <a:arcTo wR="3600" hR="3600" stAng="16200000" swAng="-5400000"/>
                <a:lnTo>
                  <a:pt x="0" y="26375"/>
                </a:lnTo>
                <a:arcTo wR="3600" hR="3600" stAng="10800000" swAng="-5400000"/>
                <a:lnTo>
                  <a:pt x="18000" y="299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105520" y="1447920"/>
            <a:ext cx="34290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Live each da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in the pres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and make i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ictorian LET"/>
              </a:rPr>
              <a:t>beautiful.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Longwood Gardens"/>
          <p:cNvPicPr/>
          <p:nvPr/>
        </p:nvPicPr>
        <p:blipFill>
          <a:blip r:embed="rId1"/>
          <a:stretch/>
        </p:blipFill>
        <p:spPr>
          <a:xfrm>
            <a:off x="304920" y="304920"/>
            <a:ext cx="4400280" cy="64008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876920" y="304920"/>
            <a:ext cx="4114800" cy="64008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86400" y="404640"/>
            <a:ext cx="28954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"Believe that your life is worth liv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ictorian LET"/>
              </a:rPr>
              <a:t>and your beliefs will help create the fact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Flower -036.jpg"/>
          <p:cNvPicPr/>
          <p:nvPr/>
        </p:nvPicPr>
        <p:blipFill>
          <a:blip r:embed="rId1"/>
          <a:stretch/>
        </p:blipFill>
        <p:spPr>
          <a:xfrm>
            <a:off x="304920" y="228600"/>
            <a:ext cx="4427280" cy="6324480"/>
          </a:xfrm>
          <a:prstGeom prst="rect">
            <a:avLst/>
          </a:prstGeom>
          <a:ln w="127080">
            <a:solidFill>
              <a:srgbClr val="a50021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5181480" y="533520"/>
            <a:ext cx="3505320" cy="5486400"/>
          </a:xfrm>
          <a:prstGeom prst="ellipse">
            <a:avLst/>
          </a:prstGeom>
          <a:gradFill rotWithShape="0">
            <a:gsLst>
              <a:gs pos="0">
                <a:srgbClr val="ffcccc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7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64000" y="1844640"/>
            <a:ext cx="32004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Wherever you go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take your whole hear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a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'_two_' von Nic H."/>
          <p:cNvPicPr/>
          <p:nvPr/>
        </p:nvPicPr>
        <p:blipFill>
          <a:blip r:embed="rId1"/>
          <a:stretch/>
        </p:blipFill>
        <p:spPr>
          <a:xfrm>
            <a:off x="304920" y="152280"/>
            <a:ext cx="8686800" cy="48578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5181480"/>
            <a:ext cx="8305560" cy="152424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99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5516640"/>
            <a:ext cx="8229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ictorian LET"/>
              </a:rPr>
              <a:t>"If you love life, life will love you back."</a:t>
            </a:r>
            <a:r>
              <a:rPr b="0" lang="en-US" sz="3600" spc="-1" strike="noStrike">
                <a:solidFill>
                  <a:srgbClr val="99ff99"/>
                </a:solidFill>
                <a:latin typeface="Victorian LET"/>
              </a:rPr>
              <a:t> </a:t>
            </a:r>
            <a:r>
              <a:rPr b="0" lang="nl-BE" sz="3200" spc="-1" strike="noStrike">
                <a:solidFill>
                  <a:srgbClr val="000000"/>
                </a:solidFill>
                <a:latin typeface="Victorian LET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9T15:59:03Z</dcterms:created>
  <dc:creator> </dc:creator>
  <dc:description> </dc:description>
  <cp:keywords/>
  <dc:language>en-US</dc:language>
  <cp:lastModifiedBy/>
  <dcterms:modified xsi:type="dcterms:W3CDTF">2009-03-19T15:59:03Z</dcterms:modified>
  <cp:revision>1</cp:revision>
  <dc:subject> </dc:subject>
  <dc:title> </dc:title>
</cp:coreProperties>
</file>