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-FloydCramer-WhenAManLovesAWoman.wav" ContentType="audio/x-wav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D61C-25B4-4B9E-A2CB-3EF23476F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9E6-5ED6-4AE9-956C-1ADCBEA0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13C4-684A-486B-AB17-589C6ADD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321-05DA-4C21-80D7-6153D76DA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885E-2DFC-42B5-A3AF-7C052845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2C5C-DB1A-42BA-B6F3-571191A3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EBA0-D039-4CB9-B237-BE148030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3A18-92F6-4BAA-8FC6-116ECB29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B36A-845D-46A2-A33F-8F9A56D12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1EAA-D17A-4C4E-957F-71513F33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AB14-8D2C-4540-B30C-CF63B502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612-8F6E-4997-B2BD-F37A7EB2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A439-BEFB-4990-916E-8396CC67162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-FloydCramer-WhenAManLovesAWoma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6061666.JPG"/>
          <p:cNvPicPr/>
          <p:nvPr/>
        </p:nvPicPr>
        <p:blipFill>
          <a:blip r:embed="rId1"/>
          <a:stretch/>
        </p:blipFill>
        <p:spPr>
          <a:xfrm>
            <a:off x="152280" y="152280"/>
            <a:ext cx="522792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333360"/>
            <a:ext cx="3886200" cy="62485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126828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8800" spc="-1" strike="noStrike">
                <a:solidFill>
                  <a:srgbClr val="000000"/>
                </a:solidFill>
                <a:latin typeface="Rage Italic"/>
              </a:rPr>
              <a:t>Hello my friend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24280" y="380880"/>
            <a:ext cx="4114800" cy="6019920"/>
          </a:xfrm>
          <a:custGeom>
            <a:avLst/>
            <a:gdLst>
              <a:gd name="textAreaLeft" fmla="*/ 484920 w 4114800"/>
              <a:gd name="textAreaRight" fmla="*/ 3629880 w 4114800"/>
              <a:gd name="textAreaTop" fmla="*/ 484920 h 6019920"/>
              <a:gd name="textAreaBottom" fmla="*/ 5535000 h 6019920"/>
            </a:gdLst>
            <a:ahLst/>
            <a:rect l="textAreaLeft" t="textAreaTop" r="textAreaRight" b="textAreaBottom"/>
            <a:pathLst>
              <a:path w="21600" h="31600">
                <a:moveTo>
                  <a:pt x="3600" y="0"/>
                </a:moveTo>
                <a:arcTo wR="3600" hR="3600" stAng="0" swAng="5400000"/>
                <a:lnTo>
                  <a:pt x="0" y="28000"/>
                </a:lnTo>
                <a:arcTo wR="3600" hR="3600" stAng="16200000" swAng="5400000"/>
                <a:lnTo>
                  <a:pt x="18000" y="3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219320"/>
            <a:ext cx="3809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"Heal the pas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live the pres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dream the future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'**mal wieder rosen**' von H.J. Uwe Winkler"/>
          <p:cNvPicPr/>
          <p:nvPr/>
        </p:nvPicPr>
        <p:blipFill>
          <a:blip r:embed="rId1"/>
          <a:stretch/>
        </p:blipFill>
        <p:spPr>
          <a:xfrm>
            <a:off x="0" y="0"/>
            <a:ext cx="465624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DSCN2778 (2).JPG"/>
          <p:cNvPicPr/>
          <p:nvPr/>
        </p:nvPicPr>
        <p:blipFill>
          <a:blip r:embed="rId1"/>
          <a:stretch/>
        </p:blipFill>
        <p:spPr>
          <a:xfrm>
            <a:off x="380880" y="380880"/>
            <a:ext cx="4267440" cy="60962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257800" y="685800"/>
            <a:ext cx="3429000" cy="5410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2205000"/>
            <a:ext cx="3810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"Don't 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th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mak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days count."</a:t>
            </a:r>
            <a:r>
              <a:rPr b="0" lang="en-US" sz="3200" spc="-1" strike="noStrike">
                <a:solidFill>
                  <a:srgbClr val="3333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00250 Fuschia.jpg"/>
          <p:cNvPicPr/>
          <p:nvPr/>
        </p:nvPicPr>
        <p:blipFill>
          <a:blip r:embed="rId1"/>
          <a:stretch/>
        </p:blipFill>
        <p:spPr>
          <a:xfrm>
            <a:off x="328680" y="380880"/>
            <a:ext cx="4281480" cy="609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533520"/>
            <a:ext cx="4038480" cy="579096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33520"/>
            <a:ext cx="4191120" cy="556236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177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1268280"/>
            <a:ext cx="43434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is having dream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succes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making d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come true.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 12.june  2004"/>
          <p:cNvPicPr/>
          <p:nvPr/>
        </p:nvPicPr>
        <p:blipFill>
          <a:blip r:embed="rId1"/>
          <a:stretch/>
        </p:blipFill>
        <p:spPr>
          <a:xfrm>
            <a:off x="152280" y="228600"/>
            <a:ext cx="5029200" cy="645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0800000">
            <a:off x="4876920" y="380880"/>
            <a:ext cx="3962160" cy="6019920"/>
          </a:xfrm>
          <a:custGeom>
            <a:avLst/>
            <a:gdLst>
              <a:gd name="textAreaLeft" fmla="*/ 871200 w 3962160"/>
              <a:gd name="textAreaRight" fmla="*/ 3090960 w 3962160"/>
              <a:gd name="textAreaTop" fmla="*/ 1323720 h 6019920"/>
              <a:gd name="textAreaBottom" fmla="*/ 469620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1197000"/>
            <a:ext cx="4114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world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like a mi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you face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smil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 sm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righ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'Tulpen' von Carla Wildeman"/>
          <p:cNvPicPr/>
          <p:nvPr/>
        </p:nvPicPr>
        <p:blipFill>
          <a:blip r:embed="rId1"/>
          <a:stretch/>
        </p:blipFill>
        <p:spPr>
          <a:xfrm>
            <a:off x="762120" y="304920"/>
            <a:ext cx="7734240" cy="3952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0"/>
            <a:ext cx="8610480" cy="1981080"/>
          </a:xfrm>
          <a:prstGeom prst="plus">
            <a:avLst>
              <a:gd name="adj" fmla="val 25000"/>
            </a:avLst>
          </a:prstGeom>
          <a:noFill/>
          <a:ln w="19044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8769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"Happiness is not having what you w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It's wanting what you have."</a:t>
            </a: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413000"/>
            <a:ext cx="4267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Learn to list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Opportunity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kn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very softly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'Blumenpracht 2' von Rita Köhler"/>
          <p:cNvPicPr/>
          <p:nvPr/>
        </p:nvPicPr>
        <p:blipFill>
          <a:blip r:embed="rId1"/>
          <a:stretch/>
        </p:blipFill>
        <p:spPr>
          <a:xfrm>
            <a:off x="762120" y="762120"/>
            <a:ext cx="358128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'-3-' von Frank Grages"/>
          <p:cNvPicPr/>
          <p:nvPr/>
        </p:nvPicPr>
        <p:blipFill>
          <a:blip r:embed="rId1"/>
          <a:stretch/>
        </p:blipFill>
        <p:spPr>
          <a:xfrm flipH="1">
            <a:off x="-36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152280"/>
            <a:ext cx="4267440" cy="655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907920"/>
            <a:ext cx="3733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"Life would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nfinitely happi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we could only be born at the age of eigh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nd gradu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eighteen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4343400" cy="655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'Iris #1' von Peter Grubauer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380880"/>
            <a:ext cx="4572000" cy="617220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57360"/>
            <a:ext cx="4648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memo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a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lessons</a:t>
            </a:r>
            <a:r>
              <a:rPr b="0" lang="en-US" sz="3600" spc="-1" strike="noStrike">
                <a:solidFill>
                  <a:srgbClr val="cccc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'kiss from a rose' von Frank Boenig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685800"/>
            <a:ext cx="3810240" cy="53341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700280"/>
            <a:ext cx="457200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's no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scen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you mi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by g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oo fast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'Orchideentraum, die Zweite' von Qrt Laederach"/>
          <p:cNvPicPr/>
          <p:nvPr/>
        </p:nvPicPr>
        <p:blipFill>
          <a:blip r:embed="rId1"/>
          <a:stretch/>
        </p:blipFill>
        <p:spPr>
          <a:xfrm>
            <a:off x="838080" y="228600"/>
            <a:ext cx="7507440" cy="412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4419720"/>
            <a:ext cx="8153280" cy="2133360"/>
          </a:xfrm>
          <a:prstGeom prst="pentagon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95288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Succes is to get what you want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Luck is to keep what you 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'Lotusblüte für Sonnenhungrige' von Ulrich Iff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8686800" cy="6476760"/>
          </a:xfrm>
          <a:prstGeom prst="ellipse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44792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The future belongs to t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who belie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in the beauty of their dreams."</a:t>
            </a:r>
            <a:r>
              <a:rPr b="0" lang="en-US" sz="3600" spc="-1" strike="noStrike">
                <a:solidFill>
                  <a:srgbClr val="ffff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10080" y="838080"/>
            <a:ext cx="3429000" cy="510552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5105520"/>
              <a:gd name="textAreaBottom" fmla="*/ 4938120 h 5105520"/>
            </a:gdLst>
            <a:ahLst/>
            <a:rect l="textAreaLeft" t="textAreaTop" r="textAreaRight" b="textAreaBottom"/>
            <a:pathLst>
              <a:path w="21600" h="32160">
                <a:moveTo>
                  <a:pt x="3600" y="0"/>
                </a:moveTo>
                <a:arcTo wR="3600" hR="3600" stAng="16200000" swAng="-5400000"/>
                <a:lnTo>
                  <a:pt x="0" y="28560"/>
                </a:lnTo>
                <a:arcTo wR="3600" hR="3600" stAng="10800000" swAng="-5400000"/>
                <a:lnTo>
                  <a:pt x="18000" y="32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197000"/>
            <a:ext cx="4038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 loo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o the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at's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'm going to sp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e re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m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'Lichtspiele' von Peter Schinzel"/>
          <p:cNvPicPr/>
          <p:nvPr/>
        </p:nvPicPr>
        <p:blipFill>
          <a:blip r:embed="rId1"/>
          <a:stretch/>
        </p:blipFill>
        <p:spPr>
          <a:xfrm>
            <a:off x="228600" y="76320"/>
            <a:ext cx="4800600" cy="678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00026 primrose.jpg"/>
          <p:cNvPicPr/>
          <p:nvPr/>
        </p:nvPicPr>
        <p:blipFill>
          <a:blip r:embed="rId1"/>
          <a:stretch/>
        </p:blipFill>
        <p:spPr>
          <a:xfrm>
            <a:off x="228600" y="152280"/>
            <a:ext cx="4599000" cy="670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380880"/>
            <a:ext cx="4114800" cy="6248520"/>
          </a:xfrm>
          <a:prstGeom prst="rect">
            <a:avLst/>
          </a:prstGeom>
          <a:noFill/>
          <a:ln w="27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990720"/>
            <a:ext cx="4114800" cy="464796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295280"/>
            <a:ext cx="3886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"Peopl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lonely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they build wa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inst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of bridges."</a:t>
            </a:r>
            <a:r>
              <a:rPr b="0" lang="en-US" sz="3200" spc="-1" strike="noStrike">
                <a:solidFill>
                  <a:srgbClr val="ffcc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flower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280"/>
            <a:ext cx="6858000" cy="17528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6206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ictorian LET"/>
              </a:rPr>
              <a:t>Have a nice day!</a:t>
            </a:r>
            <a:r>
              <a:rPr b="0" lang="nl-BE" sz="44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30492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1800">
            <a:off x="5257800" y="30456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'&quot;Die Drei&quot;' von Anette St.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457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Enjoy lif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this i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a rehears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4190760" cy="624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lower"/>
          <p:cNvPicPr/>
          <p:nvPr/>
        </p:nvPicPr>
        <p:blipFill>
          <a:blip r:embed="rId1"/>
          <a:stretch/>
        </p:blipFill>
        <p:spPr>
          <a:xfrm>
            <a:off x="228600" y="152280"/>
            <a:ext cx="4459320" cy="670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6553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04920"/>
            <a:ext cx="3962160" cy="6172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914400"/>
            <a:ext cx="381024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Think high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of yourself becau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akes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t your 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estimate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4771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2880" y="1219320"/>
            <a:ext cx="3962520" cy="449568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268280"/>
            <a:ext cx="342900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on't fea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for pressure is what turns rough stone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iamonds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'Das Auge der Iris' von Anja E."/>
          <p:cNvPicPr/>
          <p:nvPr/>
        </p:nvPicPr>
        <p:blipFill>
          <a:blip r:embed="rId1"/>
          <a:stretch/>
        </p:blipFill>
        <p:spPr>
          <a:xfrm>
            <a:off x="304920" y="228600"/>
            <a:ext cx="437976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NCC_0056.jpg"/>
          <p:cNvPicPr/>
          <p:nvPr/>
        </p:nvPicPr>
        <p:blipFill>
          <a:blip r:embed="rId1"/>
          <a:stretch/>
        </p:blipFill>
        <p:spPr>
          <a:xfrm>
            <a:off x="0" y="0"/>
            <a:ext cx="4854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380880"/>
            <a:ext cx="4191120" cy="6096240"/>
          </a:xfrm>
          <a:custGeom>
            <a:avLst/>
            <a:gdLst>
              <a:gd name="textAreaLeft" fmla="*/ 204480 w 4191120"/>
              <a:gd name="textAreaRight" fmla="*/ 3986640 w 4191120"/>
              <a:gd name="textAreaTop" fmla="*/ 204480 h 6096240"/>
              <a:gd name="textAreaBottom" fmla="*/ 5891760 h 6096240"/>
            </a:gdLst>
            <a:ahLst/>
            <a:rect l="textAreaLeft" t="textAreaTop" r="textAreaRight" b="textAreaBottom"/>
            <a:pathLst>
              <a:path w="21600" h="31418">
                <a:moveTo>
                  <a:pt x="3600" y="0"/>
                </a:moveTo>
                <a:arcTo wR="3600" hR="3600" stAng="16200000" swAng="-5400000"/>
                <a:lnTo>
                  <a:pt x="0" y="27818"/>
                </a:lnTo>
                <a:arcTo wR="3600" hR="3600" stAng="10800000" swAng="-5400000"/>
                <a:lnTo>
                  <a:pt x="18000" y="31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838080"/>
            <a:ext cx="3733920" cy="518184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5181840"/>
              <a:gd name="textAreaBottom" fmla="*/ 4999680 h 5181840"/>
            </a:gdLst>
            <a:ahLst/>
            <a:rect l="textAreaLeft" t="textAreaTop" r="textAreaRight" b="textAreaBottom"/>
            <a:pathLst>
              <a:path w="21600" h="29975">
                <a:moveTo>
                  <a:pt x="3600" y="0"/>
                </a:moveTo>
                <a:arcTo wR="3600" hR="3600" stAng="16200000" swAng="-5400000"/>
                <a:lnTo>
                  <a:pt x="0" y="26375"/>
                </a:lnTo>
                <a:arcTo wR="3600" hR="3600" stAng="10800000" swAng="-5400000"/>
                <a:lnTo>
                  <a:pt x="18000" y="29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447920"/>
            <a:ext cx="3429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Live each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in the pres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and make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beautiful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Longwood Gardens"/>
          <p:cNvPicPr/>
          <p:nvPr/>
        </p:nvPicPr>
        <p:blipFill>
          <a:blip r:embed="rId1"/>
          <a:stretch/>
        </p:blipFill>
        <p:spPr>
          <a:xfrm>
            <a:off x="304920" y="304920"/>
            <a:ext cx="440028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76920" y="304920"/>
            <a:ext cx="4114800" cy="6400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04640"/>
            <a:ext cx="28954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Believe that your life is worth l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nd your beliefs will help create the fact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lower -036.jpg"/>
          <p:cNvPicPr/>
          <p:nvPr/>
        </p:nvPicPr>
        <p:blipFill>
          <a:blip r:embed="rId1"/>
          <a:stretch/>
        </p:blipFill>
        <p:spPr>
          <a:xfrm>
            <a:off x="304920" y="228600"/>
            <a:ext cx="4427280" cy="632448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181480" y="533520"/>
            <a:ext cx="3505320" cy="5486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1844640"/>
            <a:ext cx="3200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Wherever you g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take your whole hea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a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'_two_' von Nic H.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5181480"/>
            <a:ext cx="8305560" cy="1524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516640"/>
            <a:ext cx="822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"If you love life, life will love you back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59:03Z</dcterms:created>
  <dc:creator> </dc:creator>
  <dc:description> </dc:description>
  <cp:keywords/>
  <dc:language>en-US</dc:language>
  <cp:lastModifiedBy/>
  <dcterms:modified xsi:type="dcterms:W3CDTF">2009-03-19T15:59:03Z</dcterms:modified>
  <cp:revision>1</cp:revision>
  <dc:subject> </dc:subject>
  <dc:title> </dc:title>
</cp:coreProperties>
</file>