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-FloydCramer-WhenAManLovesAWoman.wav" ContentType="audio/x-wav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70A-B19E-44E3-9491-31B78108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52C-B246-4334-A212-1DA904C3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029-180D-4F41-885F-BDCE706B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D42-B63C-47FB-8DE9-D3E5F6C3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2B1-65D5-43FB-9907-5F20C374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8E2-1C10-4E94-A555-2C12FA76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EB9-CCD0-4129-B46A-17A2DFAE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9F0-2863-4E9F-A189-7A08C803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2D2-FCBA-496A-A973-666EFEFC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594-1CB7-4A0E-8CC4-D30EEED7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BBF-A1DA-4D2D-BCEF-D9BB766A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18C-0CE8-43B2-878D-9ECFCB43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D599-0D4B-40A7-B8BA-989FCEB0DD1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-FloydCramer-WhenAManLovesAWoma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6061666.JPG"/>
          <p:cNvPicPr/>
          <p:nvPr/>
        </p:nvPicPr>
        <p:blipFill>
          <a:blip r:embed="rId1"/>
          <a:stretch/>
        </p:blipFill>
        <p:spPr>
          <a:xfrm>
            <a:off x="152280" y="152280"/>
            <a:ext cx="522792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2360" y="333360"/>
            <a:ext cx="3886200" cy="62485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1268280"/>
            <a:ext cx="3657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8800" spc="-1" strike="noStrike">
                <a:solidFill>
                  <a:srgbClr val="000000"/>
                </a:solidFill>
                <a:latin typeface="Rage Italic"/>
              </a:rPr>
              <a:t>Hello my friend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724280" y="380880"/>
            <a:ext cx="4114800" cy="6019920"/>
          </a:xfrm>
          <a:custGeom>
            <a:avLst/>
            <a:gdLst>
              <a:gd name="textAreaLeft" fmla="*/ 484920 w 4114800"/>
              <a:gd name="textAreaRight" fmla="*/ 3629880 w 4114800"/>
              <a:gd name="textAreaTop" fmla="*/ 484920 h 6019920"/>
              <a:gd name="textAreaBottom" fmla="*/ 5535000 h 6019920"/>
            </a:gdLst>
            <a:ahLst/>
            <a:rect l="textAreaLeft" t="textAreaTop" r="textAreaRight" b="textAreaBottom"/>
            <a:pathLst>
              <a:path w="21600" h="31600">
                <a:moveTo>
                  <a:pt x="3600" y="0"/>
                </a:moveTo>
                <a:arcTo wR="3600" hR="3600" stAng="0" swAng="5400000"/>
                <a:lnTo>
                  <a:pt x="0" y="28000"/>
                </a:lnTo>
                <a:arcTo wR="3600" hR="3600" stAng="16200000" swAng="5400000"/>
                <a:lnTo>
                  <a:pt x="18000" y="3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1219320"/>
            <a:ext cx="3809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"Heal the pas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live the pres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dream the future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'**mal wieder rosen**' von H.J. Uwe Winkler"/>
          <p:cNvPicPr/>
          <p:nvPr/>
        </p:nvPicPr>
        <p:blipFill>
          <a:blip r:embed="rId1"/>
          <a:stretch/>
        </p:blipFill>
        <p:spPr>
          <a:xfrm>
            <a:off x="0" y="0"/>
            <a:ext cx="4656240" cy="65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DSCN2778 (2).JPG"/>
          <p:cNvPicPr/>
          <p:nvPr/>
        </p:nvPicPr>
        <p:blipFill>
          <a:blip r:embed="rId1"/>
          <a:stretch/>
        </p:blipFill>
        <p:spPr>
          <a:xfrm>
            <a:off x="380880" y="380880"/>
            <a:ext cx="4267440" cy="60962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5257800" y="685800"/>
            <a:ext cx="3429000" cy="5410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c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2205000"/>
            <a:ext cx="3810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"Don't 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the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mak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days count."</a:t>
            </a:r>
            <a:r>
              <a:rPr b="0" lang="en-US" sz="3200" spc="-1" strike="noStrike">
                <a:solidFill>
                  <a:srgbClr val="3333cc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00250 Fuschia.jpg"/>
          <p:cNvPicPr/>
          <p:nvPr/>
        </p:nvPicPr>
        <p:blipFill>
          <a:blip r:embed="rId1"/>
          <a:stretch/>
        </p:blipFill>
        <p:spPr>
          <a:xfrm>
            <a:off x="328680" y="380880"/>
            <a:ext cx="4281480" cy="6096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533520"/>
            <a:ext cx="4038480" cy="579096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533520"/>
            <a:ext cx="4191120" cy="556236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path path="rect">
              <a:fillToRect l="50000" t="50000" r="50000" b="50000"/>
            </a:path>
          </a:gradFill>
          <a:ln w="177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1268280"/>
            <a:ext cx="434340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he 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o hap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is having dream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he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o success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making dre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come true.</a:t>
            </a: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 12.june  2004"/>
          <p:cNvPicPr/>
          <p:nvPr/>
        </p:nvPicPr>
        <p:blipFill>
          <a:blip r:embed="rId1"/>
          <a:stretch/>
        </p:blipFill>
        <p:spPr>
          <a:xfrm>
            <a:off x="152280" y="228600"/>
            <a:ext cx="5029200" cy="6453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10800000">
            <a:off x="4876920" y="380880"/>
            <a:ext cx="3962160" cy="6019920"/>
          </a:xfrm>
          <a:custGeom>
            <a:avLst/>
            <a:gdLst>
              <a:gd name="textAreaLeft" fmla="*/ 871200 w 3962160"/>
              <a:gd name="textAreaRight" fmla="*/ 3090960 w 3962160"/>
              <a:gd name="textAreaTop" fmla="*/ 1323720 h 6019920"/>
              <a:gd name="textAreaBottom" fmla="*/ 4696200 h 601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>
              <a:alpha val="50000"/>
            </a:srgbClr>
          </a:solidFill>
          <a:ln w="63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1197000"/>
            <a:ext cx="4114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he world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like a mi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f you face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smil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t smi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right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'Tulpen' von Carla Wildeman"/>
          <p:cNvPicPr/>
          <p:nvPr/>
        </p:nvPicPr>
        <p:blipFill>
          <a:blip r:embed="rId1"/>
          <a:stretch/>
        </p:blipFill>
        <p:spPr>
          <a:xfrm>
            <a:off x="762120" y="304920"/>
            <a:ext cx="7734240" cy="3952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4572000"/>
            <a:ext cx="8610480" cy="1981080"/>
          </a:xfrm>
          <a:prstGeom prst="plus">
            <a:avLst>
              <a:gd name="adj" fmla="val 25000"/>
            </a:avLst>
          </a:prstGeom>
          <a:noFill/>
          <a:ln w="19044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876920"/>
            <a:ext cx="883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"Happiness is not having what you wa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It's wanting what you have."</a:t>
            </a: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413000"/>
            <a:ext cx="42670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Learn to list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Opportunity 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kno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very softly.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'Blumenpracht 2' von Rita Köhler"/>
          <p:cNvPicPr/>
          <p:nvPr/>
        </p:nvPicPr>
        <p:blipFill>
          <a:blip r:embed="rId1"/>
          <a:stretch/>
        </p:blipFill>
        <p:spPr>
          <a:xfrm>
            <a:off x="762120" y="762120"/>
            <a:ext cx="3581280" cy="53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'-3-' von Frank Grages"/>
          <p:cNvPicPr/>
          <p:nvPr/>
        </p:nvPicPr>
        <p:blipFill>
          <a:blip r:embed="rId1"/>
          <a:stretch/>
        </p:blipFill>
        <p:spPr>
          <a:xfrm flipH="1">
            <a:off x="-360" y="0"/>
            <a:ext cx="467676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24280" y="152280"/>
            <a:ext cx="4267440" cy="6553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907920"/>
            <a:ext cx="37339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"Life would 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nfinitely happi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f we could only be born at the age of eigh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and gradual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appro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eighteen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52280"/>
            <a:ext cx="4343400" cy="655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'Iris #1' von Peter Grubauer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43400" y="380880"/>
            <a:ext cx="4572000" cy="6172200"/>
          </a:xfrm>
          <a:prstGeom prst="diamond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557360"/>
            <a:ext cx="464832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tim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memor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ad tim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lessons</a:t>
            </a:r>
            <a:r>
              <a:rPr b="0" lang="en-US" sz="3600" spc="-1" strike="noStrike">
                <a:solidFill>
                  <a:srgbClr val="ccccff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'kiss from a rose' von Frank Boenig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24280" y="685800"/>
            <a:ext cx="3810240" cy="53341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1700280"/>
            <a:ext cx="457200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t's no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he scen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you mi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by go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oo fast</a:t>
            </a: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 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07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'Orchideentraum, die Zweite' von Qrt Laederach"/>
          <p:cNvPicPr/>
          <p:nvPr/>
        </p:nvPicPr>
        <p:blipFill>
          <a:blip r:embed="rId1"/>
          <a:stretch/>
        </p:blipFill>
        <p:spPr>
          <a:xfrm>
            <a:off x="838080" y="228600"/>
            <a:ext cx="7507440" cy="412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4419720"/>
            <a:ext cx="8153280" cy="2133360"/>
          </a:xfrm>
          <a:prstGeom prst="pentagon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95288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Succes is to get what you want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Luck is to keep what you 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'Lotusblüte für Sonnenhungrige' von Ulrich Iffland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89000"/>
            <a:ext cx="8686800" cy="6476760"/>
          </a:xfrm>
          <a:prstGeom prst="ellipse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447920"/>
            <a:ext cx="685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The future belongs to tho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who belie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in the beauty of their dreams."</a:t>
            </a:r>
            <a:r>
              <a:rPr b="0" lang="en-US" sz="3600" spc="-1" strike="noStrike">
                <a:solidFill>
                  <a:srgbClr val="ffffff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410080" y="838080"/>
            <a:ext cx="3429000" cy="510552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5105520"/>
              <a:gd name="textAreaBottom" fmla="*/ 4938120 h 5105520"/>
            </a:gdLst>
            <a:ahLst/>
            <a:rect l="textAreaLeft" t="textAreaTop" r="textAreaRight" b="textAreaBottom"/>
            <a:pathLst>
              <a:path w="21600" h="32160">
                <a:moveTo>
                  <a:pt x="3600" y="0"/>
                </a:moveTo>
                <a:arcTo wR="3600" hR="3600" stAng="16200000" swAng="-5400000"/>
                <a:lnTo>
                  <a:pt x="0" y="28560"/>
                </a:lnTo>
                <a:arcTo wR="3600" hR="3600" stAng="10800000" swAng="-5400000"/>
                <a:lnTo>
                  <a:pt x="18000" y="32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1197000"/>
            <a:ext cx="4038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I loo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o the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hat's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I'm going to sp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he rest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m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'Lichtspiele' von Peter Schinzel"/>
          <p:cNvPicPr/>
          <p:nvPr/>
        </p:nvPicPr>
        <p:blipFill>
          <a:blip r:embed="rId1"/>
          <a:stretch/>
        </p:blipFill>
        <p:spPr>
          <a:xfrm>
            <a:off x="228600" y="76320"/>
            <a:ext cx="4800600" cy="6781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05320" y="662940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00026 primrose.jpg"/>
          <p:cNvPicPr/>
          <p:nvPr/>
        </p:nvPicPr>
        <p:blipFill>
          <a:blip r:embed="rId1"/>
          <a:stretch/>
        </p:blipFill>
        <p:spPr>
          <a:xfrm>
            <a:off x="228600" y="152280"/>
            <a:ext cx="4599000" cy="670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380880"/>
            <a:ext cx="4114800" cy="6248520"/>
          </a:xfrm>
          <a:prstGeom prst="rect">
            <a:avLst/>
          </a:prstGeom>
          <a:noFill/>
          <a:ln w="27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990720"/>
            <a:ext cx="4114800" cy="464796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7c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295280"/>
            <a:ext cx="3886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"Peopl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lonely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they build wa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inst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of bridges."</a:t>
            </a:r>
            <a:r>
              <a:rPr b="0" lang="en-US" sz="3200" spc="-1" strike="noStrike">
                <a:solidFill>
                  <a:srgbClr val="ffcccc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flower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152280"/>
            <a:ext cx="6858000" cy="17528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7c80"/>
              </a:gs>
              <a:gs pos="100000">
                <a:srgbClr val="75393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6206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ictorian LET"/>
              </a:rPr>
              <a:t>Have a nice day!</a:t>
            </a:r>
            <a:r>
              <a:rPr b="0" lang="nl-BE" sz="44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57800" y="30492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1800">
            <a:off x="5257800" y="30456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'&quot;Die Drei&quot;' von Anette St."/>
          <p:cNvPicPr/>
          <p:nvPr/>
        </p:nvPicPr>
        <p:blipFill>
          <a:blip r:embed="rId1"/>
          <a:stretch/>
        </p:blipFill>
        <p:spPr>
          <a:xfrm>
            <a:off x="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6920" y="45720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Enjoy lif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this is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a rehearsa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04920"/>
            <a:ext cx="4190760" cy="6248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Flower"/>
          <p:cNvPicPr/>
          <p:nvPr/>
        </p:nvPicPr>
        <p:blipFill>
          <a:blip r:embed="rId1"/>
          <a:stretch/>
        </p:blipFill>
        <p:spPr>
          <a:xfrm>
            <a:off x="228600" y="152280"/>
            <a:ext cx="4459320" cy="670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8800" y="6553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04920"/>
            <a:ext cx="3962160" cy="6172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914400"/>
            <a:ext cx="381024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"Think high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of yourself becau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the wor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takes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at your ow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estimate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6477120"/>
            <a:ext cx="4572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952880" y="1219320"/>
            <a:ext cx="3962520" cy="449568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4d4d4d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1268280"/>
            <a:ext cx="3429000" cy="41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Don't fear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for pressure is what turns rough stones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diamonds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'Das Auge der Iris' von Anja E."/>
          <p:cNvPicPr/>
          <p:nvPr/>
        </p:nvPicPr>
        <p:blipFill>
          <a:blip r:embed="rId1"/>
          <a:stretch/>
        </p:blipFill>
        <p:spPr>
          <a:xfrm>
            <a:off x="304920" y="228600"/>
            <a:ext cx="437976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NCC_0056.jpg"/>
          <p:cNvPicPr/>
          <p:nvPr/>
        </p:nvPicPr>
        <p:blipFill>
          <a:blip r:embed="rId1"/>
          <a:stretch/>
        </p:blipFill>
        <p:spPr>
          <a:xfrm>
            <a:off x="0" y="0"/>
            <a:ext cx="48546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4280" y="380880"/>
            <a:ext cx="4191120" cy="6096240"/>
          </a:xfrm>
          <a:custGeom>
            <a:avLst/>
            <a:gdLst>
              <a:gd name="textAreaLeft" fmla="*/ 204480 w 4191120"/>
              <a:gd name="textAreaRight" fmla="*/ 3986640 w 4191120"/>
              <a:gd name="textAreaTop" fmla="*/ 204480 h 6096240"/>
              <a:gd name="textAreaBottom" fmla="*/ 5891760 h 6096240"/>
            </a:gdLst>
            <a:ahLst/>
            <a:rect l="textAreaLeft" t="textAreaTop" r="textAreaRight" b="textAreaBottom"/>
            <a:pathLst>
              <a:path w="21600" h="31418">
                <a:moveTo>
                  <a:pt x="3600" y="0"/>
                </a:moveTo>
                <a:arcTo wR="3600" hR="3600" stAng="16200000" swAng="-5400000"/>
                <a:lnTo>
                  <a:pt x="0" y="27818"/>
                </a:lnTo>
                <a:arcTo wR="3600" hR="3600" stAng="10800000" swAng="-5400000"/>
                <a:lnTo>
                  <a:pt x="18000" y="31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838080"/>
            <a:ext cx="3733920" cy="518184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5181840"/>
              <a:gd name="textAreaBottom" fmla="*/ 4999680 h 5181840"/>
            </a:gdLst>
            <a:ahLst/>
            <a:rect l="textAreaLeft" t="textAreaTop" r="textAreaRight" b="textAreaBottom"/>
            <a:pathLst>
              <a:path w="21600" h="29975">
                <a:moveTo>
                  <a:pt x="3600" y="0"/>
                </a:moveTo>
                <a:arcTo wR="3600" hR="3600" stAng="16200000" swAng="-5400000"/>
                <a:lnTo>
                  <a:pt x="0" y="26375"/>
                </a:lnTo>
                <a:arcTo wR="3600" hR="3600" stAng="10800000" swAng="-5400000"/>
                <a:lnTo>
                  <a:pt x="18000" y="299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447920"/>
            <a:ext cx="3429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Live each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in the pres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and make 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beautiful.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Longwood Gardens"/>
          <p:cNvPicPr/>
          <p:nvPr/>
        </p:nvPicPr>
        <p:blipFill>
          <a:blip r:embed="rId1"/>
          <a:stretch/>
        </p:blipFill>
        <p:spPr>
          <a:xfrm>
            <a:off x="304920" y="304920"/>
            <a:ext cx="440028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76920" y="304920"/>
            <a:ext cx="4114800" cy="6400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04640"/>
            <a:ext cx="289548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"Believe that your life is worth liv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and your beliefs will help create the fact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Flower -036.jpg"/>
          <p:cNvPicPr/>
          <p:nvPr/>
        </p:nvPicPr>
        <p:blipFill>
          <a:blip r:embed="rId1"/>
          <a:stretch/>
        </p:blipFill>
        <p:spPr>
          <a:xfrm>
            <a:off x="304920" y="228600"/>
            <a:ext cx="4427280" cy="632448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5181480" y="533520"/>
            <a:ext cx="3505320" cy="54864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1844640"/>
            <a:ext cx="32004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Wherever you g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take your whole hea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a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'_two_' von Nic H.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4857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5181480"/>
            <a:ext cx="8305560" cy="1524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5516640"/>
            <a:ext cx="8229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"If you love life, life will love you back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59:03Z</dcterms:created>
  <dc:creator> </dc:creator>
  <dc:description> </dc:description>
  <cp:keywords/>
  <dc:language>en-US</dc:language>
  <cp:lastModifiedBy/>
  <dcterms:modified xsi:type="dcterms:W3CDTF">2009-03-19T15:59:03Z</dcterms:modified>
  <cp:revision>1</cp:revision>
  <dc:subject> </dc:subject>
  <dc:title> </dc:title>
</cp:coreProperties>
</file>