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C49-45BA-472B-AAE8-53615030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BF1-FBC3-4E6C-B357-21E251DB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ACD-B759-4C2B-8EF4-9359628B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C04-3E93-4B94-A7EF-A46A763B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AFD-D673-42D1-B1A6-B6BCFAEF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773-F3BF-4AE9-B47D-580C716D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907-85A7-473A-8641-603F1222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A6C-7035-4F38-961D-51F89E3E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6DB-8E87-4692-81A3-674B38E5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413-A27A-465B-BEF0-8014F3C9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19E-FFB1-4CF4-BE99-8CFB8700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E32-5117-4F09-9C49-402011E5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BFEE-9413-41FD-92C0-58B80026F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 Scarf Gi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ritten By: Ji-Li Ji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pers by Kil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28600" y="228600"/>
            <a:ext cx="1981080" cy="1066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man Mao Launches the Cultural Rev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2"/>
          <p:cNvSpPr/>
          <p:nvPr/>
        </p:nvSpPr>
        <p:spPr>
          <a:xfrm>
            <a:off x="304920" y="2133720"/>
            <a:ext cx="2514600" cy="1600200"/>
          </a:xfrm>
          <a:prstGeom prst="roundRect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i-Li Jiang is from a black family in a perfect communism society and her grandfather is a landlord so she was ha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28600" y="4114800"/>
            <a:ext cx="228600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i-Li Jiang is not excepted to be a Red guard becaus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 her family backgrou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429000" y="2743200"/>
            <a:ext cx="18288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ger and frustration with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8"/>
          <p:cNvCxnSpPr>
            <a:stCxn id="43" idx="3"/>
          </p:cNvCxnSpPr>
          <p:nvPr/>
        </p:nvCxnSpPr>
        <p:spPr>
          <a:xfrm>
            <a:off x="2209320" y="762120"/>
            <a:ext cx="122004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0"/>
          <p:cNvCxnSpPr>
            <a:stCxn id="44" idx="3"/>
            <a:endCxn id="46" idx="1"/>
          </p:cNvCxnSpPr>
          <p:nvPr/>
        </p:nvCxnSpPr>
        <p:spPr>
          <a:xfrm>
            <a:off x="2819160" y="2933280"/>
            <a:ext cx="61020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2"/>
          <p:cNvCxnSpPr/>
          <p:nvPr/>
        </p:nvCxnSpPr>
        <p:spPr>
          <a:xfrm flipV="1">
            <a:off x="2590920" y="3580920"/>
            <a:ext cx="83880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Smiley Face 13"/>
          <p:cNvSpPr/>
          <p:nvPr/>
        </p:nvSpPr>
        <p:spPr>
          <a:xfrm>
            <a:off x="5638680" y="228600"/>
            <a:ext cx="2667240" cy="2895480"/>
          </a:xfrm>
          <a:prstGeom prst="smileyFace">
            <a:avLst>
              <a:gd name="adj" fmla="val -4652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Ji-Li Jiang decides to blame fate for all the bad that has happened even though she has gone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6324480" y="3505320"/>
            <a:ext cx="19051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r friends  grandma  commits suic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6"/>
          <p:cNvCxnSpPr/>
          <p:nvPr/>
        </p:nvCxnSpPr>
        <p:spPr>
          <a:xfrm flipV="1">
            <a:off x="5257800" y="1980720"/>
            <a:ext cx="38160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19"/>
          <p:cNvCxnSpPr>
            <a:endCxn id="51" idx="1"/>
          </p:cNvCxnSpPr>
          <p:nvPr/>
        </p:nvCxnSpPr>
        <p:spPr>
          <a:xfrm>
            <a:off x="5257440" y="3429000"/>
            <a:ext cx="1067400" cy="57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Rectangle 21"/>
          <p:cNvSpPr/>
          <p:nvPr/>
        </p:nvSpPr>
        <p:spPr>
          <a:xfrm>
            <a:off x="5562720" y="4876920"/>
            <a:ext cx="243828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r house is searched by the Red guards and is very much destroy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3"/>
          <p:cNvCxnSpPr>
            <a:endCxn id="54" idx="1"/>
          </p:cNvCxnSpPr>
          <p:nvPr/>
        </p:nvCxnSpPr>
        <p:spPr>
          <a:xfrm>
            <a:off x="5256720" y="3733560"/>
            <a:ext cx="305640" cy="163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55:07Z</dcterms:created>
  <dc:creator>ITSUser</dc:creator>
  <dc:description/>
  <dc:language>en-US</dc:language>
  <cp:lastModifiedBy>ITSUser</cp:lastModifiedBy>
  <dcterms:modified xsi:type="dcterms:W3CDTF">2009-11-19T18:15:18Z</dcterms:modified>
  <cp:revision>3</cp:revision>
  <dc:subject/>
  <dc:title>Red Scarf Girl</dc:title>
</cp:coreProperties>
</file>