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201A-B0C7-44A5-AC84-D74C3F6A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828B-34A6-486F-BE6A-4F9C8FE5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9699-61EE-404D-85F4-2D6792D3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EBC6-7ADC-4868-AF27-3798CDC5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EF69-6D7C-420E-A363-2DEB419B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2650-E018-4C81-8B84-DD803C0E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C8EF-EE67-4B3C-939A-36B266BA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415-463A-4C68-AA3E-8D93036A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259-702A-448A-AE2E-3E5A0C99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011B-26E8-456D-BA6B-777D2400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1005-C980-43CE-8877-E7A2CE81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330F-3741-4E3D-8178-01BC6B2B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16EE-919E-416C-A44D-79C8257EFE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d Scarf Gir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ten By: Ji-Li Jia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pers by Kil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228600" y="228600"/>
            <a:ext cx="1981080" cy="1066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hairman Mao Launches the Cultural Revolu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2"/>
          <p:cNvSpPr/>
          <p:nvPr/>
        </p:nvSpPr>
        <p:spPr>
          <a:xfrm>
            <a:off x="304920" y="2133720"/>
            <a:ext cx="2514600" cy="1600200"/>
          </a:xfrm>
          <a:prstGeom prst="roundRect">
            <a:avLst>
              <a:gd name="adj" fmla="val 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from a black family in a perfect communism society and her grandfather is a landlord so she was ha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228600" y="4114800"/>
            <a:ext cx="228600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Ji-Li Jiang is not excepted to be a Red guard because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f her family backgrou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29000" y="2743200"/>
            <a:ext cx="18288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ger and frustration with the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8"/>
          <p:cNvCxnSpPr>
            <a:stCxn id="43" idx="3"/>
          </p:cNvCxnSpPr>
          <p:nvPr/>
        </p:nvCxnSpPr>
        <p:spPr>
          <a:xfrm>
            <a:off x="2209320" y="762120"/>
            <a:ext cx="1220040" cy="2286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Straight Arrow Connector 10"/>
          <p:cNvCxnSpPr>
            <a:stCxn id="44" idx="3"/>
            <a:endCxn id="46" idx="1"/>
          </p:cNvCxnSpPr>
          <p:nvPr/>
        </p:nvCxnSpPr>
        <p:spPr>
          <a:xfrm>
            <a:off x="2819160" y="2933280"/>
            <a:ext cx="610200" cy="381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Straight Arrow Connector 12"/>
          <p:cNvCxnSpPr/>
          <p:nvPr/>
        </p:nvCxnSpPr>
        <p:spPr>
          <a:xfrm flipV="1">
            <a:off x="2590920" y="3580920"/>
            <a:ext cx="838800" cy="144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0" name="Smiley Face 13"/>
          <p:cNvSpPr/>
          <p:nvPr/>
        </p:nvSpPr>
        <p:spPr>
          <a:xfrm>
            <a:off x="5638680" y="228600"/>
            <a:ext cx="2667240" cy="2895480"/>
          </a:xfrm>
          <a:prstGeom prst="smileyFace">
            <a:avLst>
              <a:gd name="adj" fmla="val -4652"/>
            </a:avLst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d0d0d"/>
                </a:solidFill>
                <a:latin typeface="Calibri"/>
              </a:rPr>
              <a:t>Ji-Li Jiang decides to blame fate for all the bad that has happened even though she has gone thr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6324480" y="3505320"/>
            <a:ext cx="190512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friends  grandma  commits suic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2" name="Straight Arrow Connector 16"/>
          <p:cNvCxnSpPr/>
          <p:nvPr/>
        </p:nvCxnSpPr>
        <p:spPr>
          <a:xfrm flipV="1">
            <a:off x="5257800" y="1980720"/>
            <a:ext cx="381600" cy="99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Straight Arrow Connector 19"/>
          <p:cNvCxnSpPr>
            <a:endCxn id="51" idx="1"/>
          </p:cNvCxnSpPr>
          <p:nvPr/>
        </p:nvCxnSpPr>
        <p:spPr>
          <a:xfrm>
            <a:off x="5257440" y="3429000"/>
            <a:ext cx="1067400" cy="572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Rectangle 21"/>
          <p:cNvSpPr/>
          <p:nvPr/>
        </p:nvSpPr>
        <p:spPr>
          <a:xfrm>
            <a:off x="5562720" y="4876920"/>
            <a:ext cx="2438280" cy="99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er house is searched by the Red guards and is very much destroy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3"/>
          <p:cNvCxnSpPr>
            <a:endCxn id="54" idx="1"/>
          </p:cNvCxnSpPr>
          <p:nvPr/>
        </p:nvCxnSpPr>
        <p:spPr>
          <a:xfrm>
            <a:off x="5256720" y="3733560"/>
            <a:ext cx="305640" cy="1639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7:55:07Z</dcterms:created>
  <dc:creator>ITSUser</dc:creator>
  <dc:description/>
  <dc:language>en-US</dc:language>
  <cp:lastModifiedBy>ITSUser</cp:lastModifiedBy>
  <dcterms:modified xsi:type="dcterms:W3CDTF">2009-11-19T18:15:18Z</dcterms:modified>
  <cp:revision>3</cp:revision>
  <dc:subject/>
  <dc:title>Red Scarf Girl</dc:title>
</cp:coreProperties>
</file>