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B30-C022-403C-A6F0-F73DCFF58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F54E-32B9-4DA5-BC06-F5D7999B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4BF-BA4E-4DBF-A303-7CEA5397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0850-5915-46BF-893A-10105D7BC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19C4-9A94-4C97-8660-DBA2D2DD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97B6-1E91-4132-BA04-FF0F64BF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A186-BDB8-446B-B986-C1C8FD1A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D85-D23E-4B03-8F6A-126C2332C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90F-870D-4AB7-B416-C7391D572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535-9DBA-4C85-8655-279B8AAA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A548-E633-435F-BC2F-10CC57232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3D85-429E-4D9D-9264-4C5DEAFA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84D3-7597-4401-9A32-AB55C1455F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 Scarf Gi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ritten By: Ji-Li Ji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pers by Kil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228600" y="228600"/>
            <a:ext cx="1981080" cy="1066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airman Mao Launches the Cultural Rev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2"/>
          <p:cNvSpPr/>
          <p:nvPr/>
        </p:nvSpPr>
        <p:spPr>
          <a:xfrm>
            <a:off x="304920" y="2133720"/>
            <a:ext cx="2514600" cy="1600200"/>
          </a:xfrm>
          <a:prstGeom prst="roundRect">
            <a:avLst>
              <a:gd name="adj" fmla="val 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i-Li Jiang is from a black family in a perfect communism society and her grandfather is a landlord so she was ha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228600" y="4114800"/>
            <a:ext cx="228600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i-Li Jiang is not excepted to be a Red guard because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f her family backgrou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429000" y="2743200"/>
            <a:ext cx="18288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ger and frustration with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8"/>
          <p:cNvCxnSpPr>
            <a:stCxn id="43" idx="3"/>
          </p:cNvCxnSpPr>
          <p:nvPr/>
        </p:nvCxnSpPr>
        <p:spPr>
          <a:xfrm>
            <a:off x="2209320" y="762120"/>
            <a:ext cx="122004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Straight Arrow Connector 10"/>
          <p:cNvCxnSpPr>
            <a:stCxn id="44" idx="3"/>
            <a:endCxn id="46" idx="1"/>
          </p:cNvCxnSpPr>
          <p:nvPr/>
        </p:nvCxnSpPr>
        <p:spPr>
          <a:xfrm>
            <a:off x="2819160" y="2933280"/>
            <a:ext cx="61020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Straight Arrow Connector 12"/>
          <p:cNvCxnSpPr/>
          <p:nvPr/>
        </p:nvCxnSpPr>
        <p:spPr>
          <a:xfrm flipV="1">
            <a:off x="2590920" y="3580920"/>
            <a:ext cx="83880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Smiley Face 13"/>
          <p:cNvSpPr/>
          <p:nvPr/>
        </p:nvSpPr>
        <p:spPr>
          <a:xfrm>
            <a:off x="5638680" y="228600"/>
            <a:ext cx="2667240" cy="2895480"/>
          </a:xfrm>
          <a:prstGeom prst="smileyFace">
            <a:avLst>
              <a:gd name="adj" fmla="val -4652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Ji-Li Jiang decides to blame fate for all the bad that has happened even though she has gone thro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6324480" y="3505320"/>
            <a:ext cx="190512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r friends  grandma  commits suic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16"/>
          <p:cNvCxnSpPr/>
          <p:nvPr/>
        </p:nvCxnSpPr>
        <p:spPr>
          <a:xfrm flipV="1">
            <a:off x="5257800" y="1980720"/>
            <a:ext cx="381600" cy="99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19"/>
          <p:cNvCxnSpPr>
            <a:endCxn id="51" idx="1"/>
          </p:cNvCxnSpPr>
          <p:nvPr/>
        </p:nvCxnSpPr>
        <p:spPr>
          <a:xfrm>
            <a:off x="5257440" y="3429000"/>
            <a:ext cx="1067400" cy="572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Rectangle 21"/>
          <p:cNvSpPr/>
          <p:nvPr/>
        </p:nvSpPr>
        <p:spPr>
          <a:xfrm>
            <a:off x="5562720" y="4876920"/>
            <a:ext cx="243828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r house is searched by the Red guards and is very much destroy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3"/>
          <p:cNvCxnSpPr>
            <a:endCxn id="54" idx="1"/>
          </p:cNvCxnSpPr>
          <p:nvPr/>
        </p:nvCxnSpPr>
        <p:spPr>
          <a:xfrm>
            <a:off x="5256720" y="3733560"/>
            <a:ext cx="305640" cy="1639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7:55:07Z</dcterms:created>
  <dc:creator>ITSUser</dc:creator>
  <dc:description/>
  <dc:language>en-US</dc:language>
  <cp:lastModifiedBy>ITSUser</cp:lastModifiedBy>
  <dcterms:modified xsi:type="dcterms:W3CDTF">2009-11-19T18:15:18Z</dcterms:modified>
  <cp:revision>3</cp:revision>
  <dc:subject/>
  <dc:title>Red Scarf Girl</dc:title>
</cp:coreProperties>
</file>