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D45-7F29-4505-918E-33E2147F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256-121A-435A-A1D1-40129B71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C72-53BC-4997-A266-07013B89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22B-4E06-49A7-9530-3A29CEDF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88D8-4DF3-4F22-9871-AED0A098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F33-25EA-4B18-9DF7-50911442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181-200A-4D3D-97DF-0636B6FE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84EF-A5D1-4F9E-A42E-994E51D3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28C-1E04-4703-8433-39ABE7C6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96C-CDDC-4921-80E1-FBD7FD4E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814-EE7D-468C-9F06-5F79DC68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49B-6C9B-4BA9-B54B-7E0C25E0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EB8C-7433-41C0-993F-F66DB5822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 Scarf Gi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ritten By: Ji-Li Ji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pers by Kil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228600" y="228600"/>
            <a:ext cx="1981080" cy="1066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airman Mao Launches the Cultural Rev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2"/>
          <p:cNvSpPr/>
          <p:nvPr/>
        </p:nvSpPr>
        <p:spPr>
          <a:xfrm>
            <a:off x="304920" y="2133720"/>
            <a:ext cx="2514600" cy="1600200"/>
          </a:xfrm>
          <a:prstGeom prst="roundRect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i-Li Jiang is from a black family in a perfect communism society and her grandfather is a landlord so she was ha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228600" y="4114800"/>
            <a:ext cx="228600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i-Li Jiang is not excepted to be a Red guard because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f her family backgrou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429000" y="2743200"/>
            <a:ext cx="18288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ger and frustration with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8"/>
          <p:cNvCxnSpPr>
            <a:stCxn id="43" idx="3"/>
          </p:cNvCxnSpPr>
          <p:nvPr/>
        </p:nvCxnSpPr>
        <p:spPr>
          <a:xfrm>
            <a:off x="2209320" y="762120"/>
            <a:ext cx="122004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Straight Arrow Connector 10"/>
          <p:cNvCxnSpPr>
            <a:stCxn id="44" idx="3"/>
            <a:endCxn id="46" idx="1"/>
          </p:cNvCxnSpPr>
          <p:nvPr/>
        </p:nvCxnSpPr>
        <p:spPr>
          <a:xfrm>
            <a:off x="2819160" y="2933280"/>
            <a:ext cx="61020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12"/>
          <p:cNvCxnSpPr/>
          <p:nvPr/>
        </p:nvCxnSpPr>
        <p:spPr>
          <a:xfrm flipV="1">
            <a:off x="2590920" y="3580920"/>
            <a:ext cx="83880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Smiley Face 13"/>
          <p:cNvSpPr/>
          <p:nvPr/>
        </p:nvSpPr>
        <p:spPr>
          <a:xfrm>
            <a:off x="5638680" y="228600"/>
            <a:ext cx="2667240" cy="2895480"/>
          </a:xfrm>
          <a:prstGeom prst="smileyFace">
            <a:avLst>
              <a:gd name="adj" fmla="val -4652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Ji-Li Jiang decides to blame fate for all the bad that has happened even though she has gone thr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6324480" y="3505320"/>
            <a:ext cx="190512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r friends  grandma  commits suic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16"/>
          <p:cNvCxnSpPr/>
          <p:nvPr/>
        </p:nvCxnSpPr>
        <p:spPr>
          <a:xfrm flipV="1">
            <a:off x="5257800" y="1980720"/>
            <a:ext cx="381600" cy="99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19"/>
          <p:cNvCxnSpPr>
            <a:endCxn id="51" idx="1"/>
          </p:cNvCxnSpPr>
          <p:nvPr/>
        </p:nvCxnSpPr>
        <p:spPr>
          <a:xfrm>
            <a:off x="5257440" y="3429000"/>
            <a:ext cx="1067400" cy="572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Rectangle 21"/>
          <p:cNvSpPr/>
          <p:nvPr/>
        </p:nvSpPr>
        <p:spPr>
          <a:xfrm>
            <a:off x="5562720" y="4876920"/>
            <a:ext cx="243828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r house is searched by the Red guards and is very much destroy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3"/>
          <p:cNvCxnSpPr>
            <a:endCxn id="54" idx="1"/>
          </p:cNvCxnSpPr>
          <p:nvPr/>
        </p:nvCxnSpPr>
        <p:spPr>
          <a:xfrm>
            <a:off x="5256720" y="3733560"/>
            <a:ext cx="305640" cy="1639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7:55:07Z</dcterms:created>
  <dc:creator>ITSUser</dc:creator>
  <dc:description/>
  <dc:language>en-US</dc:language>
  <cp:lastModifiedBy>ITSUser</cp:lastModifiedBy>
  <dcterms:modified xsi:type="dcterms:W3CDTF">2009-11-19T18:15:18Z</dcterms:modified>
  <cp:revision>3</cp:revision>
  <dc:subject/>
  <dc:title>Red Scarf Girl</dc:title>
</cp:coreProperties>
</file>