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626-25FB-472F-80C8-F4F346EC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4A1-339D-4F90-B1CC-4C07A1EE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884-C1D3-482F-9C83-9CD31718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0BB-6A67-4608-8041-251FFF1D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BC8-718D-475C-913F-98EC591C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CB1-9831-44A1-BE7B-0BD4D41A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51B-17F6-46B5-B726-A8D0D7A9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4BE-25FB-45DB-AAAC-EBB5CA6F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765-7829-46F0-B3CE-B8E5ACBB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9DF-BD6E-45F3-85A4-621387BC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B0E-CBE9-4BFE-AE1D-44AF844D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FBB-9656-4422-8C3D-D034B761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9147-7BC1-44F1-BE6F-9C908E16E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shfield Dre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iley Dind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1/10/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5-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4038480" y="3124080"/>
            <a:ext cx="22860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isses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533520" y="685800"/>
            <a:ext cx="20574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retly is crushing on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609480" y="2133720"/>
            <a:ext cx="1981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ngs out with her in a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09480" y="3276720"/>
            <a:ext cx="20574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gins to think that she is cute and gets the feeling that she likes him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09480" y="5257800"/>
            <a:ext cx="22100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s to hang out with her and likes he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miley Face 6"/>
          <p:cNvSpPr/>
          <p:nvPr/>
        </p:nvSpPr>
        <p:spPr>
          <a:xfrm>
            <a:off x="7010280" y="1143000"/>
            <a:ext cx="1905120" cy="16765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alph gets excited and does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8"/>
          <p:cNvCxnSpPr>
            <a:stCxn id="44" idx="3"/>
          </p:cNvCxnSpPr>
          <p:nvPr/>
        </p:nvCxnSpPr>
        <p:spPr>
          <a:xfrm>
            <a:off x="2590560" y="1257120"/>
            <a:ext cx="1448280" cy="2324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10"/>
          <p:cNvCxnSpPr/>
          <p:nvPr/>
        </p:nvCxnSpPr>
        <p:spPr>
          <a:xfrm>
            <a:off x="2590560" y="2514240"/>
            <a:ext cx="144828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15"/>
          <p:cNvCxnSpPr>
            <a:stCxn id="47" idx="3"/>
          </p:cNvCxnSpPr>
          <p:nvPr/>
        </p:nvCxnSpPr>
        <p:spPr>
          <a:xfrm flipV="1">
            <a:off x="2819520" y="4114080"/>
            <a:ext cx="1219680" cy="171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23"/>
          <p:cNvCxnSpPr>
            <a:stCxn id="46" idx="3"/>
          </p:cNvCxnSpPr>
          <p:nvPr/>
        </p:nvCxnSpPr>
        <p:spPr>
          <a:xfrm>
            <a:off x="2666880" y="3962520"/>
            <a:ext cx="1372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44"/>
          <p:cNvCxnSpPr>
            <a:stCxn id="43" idx="3"/>
            <a:endCxn id="48" idx="3"/>
          </p:cNvCxnSpPr>
          <p:nvPr/>
        </p:nvCxnSpPr>
        <p:spPr>
          <a:xfrm flipV="1">
            <a:off x="6324120" y="2572920"/>
            <a:ext cx="965880" cy="1236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Sun 46"/>
          <p:cNvSpPr/>
          <p:nvPr/>
        </p:nvSpPr>
        <p:spPr>
          <a:xfrm>
            <a:off x="7086600" y="3124080"/>
            <a:ext cx="1828800" cy="1828800"/>
          </a:xfrm>
          <a:prstGeom prst="sun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chele likes him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6"/>
          <p:cNvCxnSpPr/>
          <p:nvPr/>
        </p:nvCxnSpPr>
        <p:spPr>
          <a:xfrm>
            <a:off x="6324120" y="3885840"/>
            <a:ext cx="76284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8:01:39Z</dcterms:created>
  <dc:creator>ITSUser</dc:creator>
  <dc:description/>
  <dc:language>en-US</dc:language>
  <cp:lastModifiedBy>ITSUser</cp:lastModifiedBy>
  <dcterms:modified xsi:type="dcterms:W3CDTF">2009-11-19T17:47:52Z</dcterms:modified>
  <cp:revision>5</cp:revision>
  <dc:subject/>
  <dc:title>Marshfield Dreams </dc:title>
</cp:coreProperties>
</file>