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9159-7833-469C-9693-9A2712D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DC05-9C40-48AD-81BF-6C72B089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EE0-B1C3-497C-8905-E506CFFD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221-903B-48C5-AFE0-2DB8A466F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36D-4AEA-4720-9FFC-43624EED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55A-7C82-4AB1-928D-CB3B6557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98A-26DA-4AFC-8CF4-78F55EF7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78FC-8D28-4784-BCBD-B9E5C3A0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6D4A-42C2-4FD2-B081-3A8D388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720-F79E-48DA-940F-6516E4ED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4B0C-1DAC-4555-8F54-C27F268A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3F40-1BD3-4A8C-AE84-E90B0F84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9C54-202A-41E9-9D1B-E34D430D8E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rshfield Drea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: Kiley Dindin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11/10/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5-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4038480" y="3124080"/>
            <a:ext cx="22860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isses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533520" y="685800"/>
            <a:ext cx="20574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cretly is crushing on Miche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133720"/>
            <a:ext cx="198144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angs out with her in a 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609480" y="3276720"/>
            <a:ext cx="205740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gins to think that she is cute and gets the feeling that she likes him 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609480" y="5257800"/>
            <a:ext cx="221004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tarts to hang out with her and likes her 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miley Face 6"/>
          <p:cNvSpPr/>
          <p:nvPr/>
        </p:nvSpPr>
        <p:spPr>
          <a:xfrm>
            <a:off x="7010280" y="1143000"/>
            <a:ext cx="1905120" cy="1676520"/>
          </a:xfrm>
          <a:prstGeom prst="smileyFace">
            <a:avLst>
              <a:gd name="adj" fmla="val 9282"/>
            </a:avLst>
          </a:prstGeom>
          <a:solidFill>
            <a:srgbClr val="00b050"/>
          </a:solidFill>
          <a:ln w="255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alph gets excited and does i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Straight Arrow Connector 8"/>
          <p:cNvCxnSpPr>
            <a:stCxn id="44" idx="3"/>
          </p:cNvCxnSpPr>
          <p:nvPr/>
        </p:nvCxnSpPr>
        <p:spPr>
          <a:xfrm>
            <a:off x="2590560" y="1257120"/>
            <a:ext cx="1448280" cy="2324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Straight Arrow Connector 10"/>
          <p:cNvCxnSpPr/>
          <p:nvPr/>
        </p:nvCxnSpPr>
        <p:spPr>
          <a:xfrm>
            <a:off x="2590560" y="2514240"/>
            <a:ext cx="1448280" cy="1220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Straight Arrow Connector 15"/>
          <p:cNvCxnSpPr>
            <a:stCxn id="47" idx="3"/>
          </p:cNvCxnSpPr>
          <p:nvPr/>
        </p:nvCxnSpPr>
        <p:spPr>
          <a:xfrm flipV="1">
            <a:off x="2819520" y="4114080"/>
            <a:ext cx="1219680" cy="171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Straight Arrow Connector 23"/>
          <p:cNvCxnSpPr>
            <a:stCxn id="46" idx="3"/>
          </p:cNvCxnSpPr>
          <p:nvPr/>
        </p:nvCxnSpPr>
        <p:spPr>
          <a:xfrm>
            <a:off x="2666880" y="3962520"/>
            <a:ext cx="13723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44"/>
          <p:cNvCxnSpPr>
            <a:stCxn id="43" idx="3"/>
            <a:endCxn id="48" idx="3"/>
          </p:cNvCxnSpPr>
          <p:nvPr/>
        </p:nvCxnSpPr>
        <p:spPr>
          <a:xfrm flipV="1">
            <a:off x="6324120" y="2572920"/>
            <a:ext cx="965880" cy="1236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Sun 46"/>
          <p:cNvSpPr/>
          <p:nvPr/>
        </p:nvSpPr>
        <p:spPr>
          <a:xfrm>
            <a:off x="7086600" y="3124080"/>
            <a:ext cx="1828800" cy="1828800"/>
          </a:xfrm>
          <a:prstGeom prst="sun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ichele likes him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Straight Arrow Connector 16"/>
          <p:cNvCxnSpPr/>
          <p:nvPr/>
        </p:nvCxnSpPr>
        <p:spPr>
          <a:xfrm>
            <a:off x="6324120" y="3885840"/>
            <a:ext cx="762840" cy="229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18:01:39Z</dcterms:created>
  <dc:creator>ITSUser</dc:creator>
  <dc:description/>
  <dc:language>en-US</dc:language>
  <cp:lastModifiedBy>ITSUser</cp:lastModifiedBy>
  <dcterms:modified xsi:type="dcterms:W3CDTF">2009-11-19T17:47:52Z</dcterms:modified>
  <cp:revision>5</cp:revision>
  <dc:subject/>
  <dc:title>Marshfield Dreams </dc:title>
</cp:coreProperties>
</file>