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867B-AF21-4FB2-9543-4D97AC433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2C9C-ADB4-4B6B-B67E-B4EB95E1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A6EE-C8F1-4219-80AA-39CE483B3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EA0F-A78B-4708-A4AB-0FB4AE27A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D34D-E889-4DFA-BDAF-BCC6BC49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57AB-71B5-4C0C-A03A-2807F566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9705-13A5-41AA-AA46-B0E03672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B226-FBBF-4824-B5ED-234A8DE3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8FA1-E24A-451C-904E-A9988378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4D9E-9480-4BA1-9BB4-15C65087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07A6-D704-4EBD-8A19-E0A93B59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3369-2DBE-42D8-B402-AE7AD842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9DC2-05BF-43EC-9D21-0FBB133CC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shfield Dream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Kiley Dindin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11/10/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5-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4038480" y="3124080"/>
            <a:ext cx="228600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isses Mich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533520" y="685800"/>
            <a:ext cx="205740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retly is crushing on Mich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609480" y="2133720"/>
            <a:ext cx="19814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angs out with her in a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09480" y="3276720"/>
            <a:ext cx="205740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gins to think that she is cute and gets the feeling that she likes him al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609480" y="5257800"/>
            <a:ext cx="22100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arts to hang out with her and likes her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miley Face 6"/>
          <p:cNvSpPr/>
          <p:nvPr/>
        </p:nvSpPr>
        <p:spPr>
          <a:xfrm>
            <a:off x="7010280" y="1143000"/>
            <a:ext cx="1905120" cy="1676520"/>
          </a:xfrm>
          <a:prstGeom prst="smileyFace">
            <a:avLst>
              <a:gd name="adj" fmla="val 9282"/>
            </a:avLst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alph gets excited and does it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Straight Arrow Connector 8"/>
          <p:cNvCxnSpPr>
            <a:stCxn id="44" idx="3"/>
          </p:cNvCxnSpPr>
          <p:nvPr/>
        </p:nvCxnSpPr>
        <p:spPr>
          <a:xfrm>
            <a:off x="2590560" y="1257120"/>
            <a:ext cx="1448280" cy="2324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Straight Arrow Connector 10"/>
          <p:cNvCxnSpPr/>
          <p:nvPr/>
        </p:nvCxnSpPr>
        <p:spPr>
          <a:xfrm>
            <a:off x="2590560" y="2514240"/>
            <a:ext cx="1448280" cy="1220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Straight Arrow Connector 15"/>
          <p:cNvCxnSpPr>
            <a:stCxn id="47" idx="3"/>
          </p:cNvCxnSpPr>
          <p:nvPr/>
        </p:nvCxnSpPr>
        <p:spPr>
          <a:xfrm flipV="1">
            <a:off x="2819520" y="4114080"/>
            <a:ext cx="1219680" cy="171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Straight Arrow Connector 23"/>
          <p:cNvCxnSpPr>
            <a:stCxn id="46" idx="3"/>
          </p:cNvCxnSpPr>
          <p:nvPr/>
        </p:nvCxnSpPr>
        <p:spPr>
          <a:xfrm>
            <a:off x="2666880" y="3962520"/>
            <a:ext cx="13723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Straight Arrow Connector 44"/>
          <p:cNvCxnSpPr>
            <a:stCxn id="43" idx="3"/>
            <a:endCxn id="48" idx="3"/>
          </p:cNvCxnSpPr>
          <p:nvPr/>
        </p:nvCxnSpPr>
        <p:spPr>
          <a:xfrm flipV="1">
            <a:off x="6324120" y="2572920"/>
            <a:ext cx="965880" cy="1236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Sun 46"/>
          <p:cNvSpPr/>
          <p:nvPr/>
        </p:nvSpPr>
        <p:spPr>
          <a:xfrm>
            <a:off x="7086600" y="3124080"/>
            <a:ext cx="1828800" cy="1828800"/>
          </a:xfrm>
          <a:prstGeom prst="sun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chele likes him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Straight Arrow Connector 16"/>
          <p:cNvCxnSpPr/>
          <p:nvPr/>
        </p:nvCxnSpPr>
        <p:spPr>
          <a:xfrm>
            <a:off x="6324120" y="3885840"/>
            <a:ext cx="762840" cy="229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8:01:39Z</dcterms:created>
  <dc:creator>ITSUser</dc:creator>
  <dc:description/>
  <dc:language>en-US</dc:language>
  <cp:lastModifiedBy>ITSUser</cp:lastModifiedBy>
  <dcterms:modified xsi:type="dcterms:W3CDTF">2009-11-19T17:47:52Z</dcterms:modified>
  <cp:revision>5</cp:revision>
  <dc:subject/>
  <dc:title>Marshfield Dreams </dc:title>
</cp:coreProperties>
</file>