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D0AC-ABE1-4A1E-BCDF-73B4F8FF0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8FF8-EE5D-468E-A0E7-1B1AC435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73BA-811A-4EB4-B225-B4208E961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84B3-1DED-4F09-AF75-C6EB259B5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A5F8-2DC3-4E9F-83C1-8294521C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37DC-94B7-4D5E-A40B-3ACBFC90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C1A2-A514-4E7B-80A0-1CD22AAEF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276F-BBA8-4D83-B207-CC9906D2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0690-BE71-4A3B-82C8-2C518D4E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88CA-5923-4DB2-B7D6-E72F6B05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D731-4BC4-4758-9266-7FD1EF3E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96EB-70BC-470B-8361-7E6B138EE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CAAB-46B1-4FD7-AF80-695D695FA5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rshfield Dream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Kiley Dindin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11/10/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5-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4038480" y="3124080"/>
            <a:ext cx="228600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Kisses Mich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533520" y="685800"/>
            <a:ext cx="205740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retly is crushing on Mich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609480" y="2133720"/>
            <a:ext cx="19814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angs out with her in a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609480" y="3276720"/>
            <a:ext cx="205740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gins to think that she is cute and gets the feeling that she likes him al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609480" y="5257800"/>
            <a:ext cx="221004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tarts to hang out with her and likes her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miley Face 6"/>
          <p:cNvSpPr/>
          <p:nvPr/>
        </p:nvSpPr>
        <p:spPr>
          <a:xfrm>
            <a:off x="7010280" y="1143000"/>
            <a:ext cx="1905120" cy="1676520"/>
          </a:xfrm>
          <a:prstGeom prst="smileyFace">
            <a:avLst>
              <a:gd name="adj" fmla="val 9282"/>
            </a:avLst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alph gets excited and does it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Straight Arrow Connector 8"/>
          <p:cNvCxnSpPr>
            <a:stCxn id="44" idx="3"/>
          </p:cNvCxnSpPr>
          <p:nvPr/>
        </p:nvCxnSpPr>
        <p:spPr>
          <a:xfrm>
            <a:off x="2590560" y="1257120"/>
            <a:ext cx="1448280" cy="2324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" name="Straight Arrow Connector 10"/>
          <p:cNvCxnSpPr/>
          <p:nvPr/>
        </p:nvCxnSpPr>
        <p:spPr>
          <a:xfrm>
            <a:off x="2590560" y="2514240"/>
            <a:ext cx="1448280" cy="1220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" name="Straight Arrow Connector 15"/>
          <p:cNvCxnSpPr>
            <a:stCxn id="47" idx="3"/>
          </p:cNvCxnSpPr>
          <p:nvPr/>
        </p:nvCxnSpPr>
        <p:spPr>
          <a:xfrm flipV="1">
            <a:off x="2819520" y="4114080"/>
            <a:ext cx="1219680" cy="1715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" name="Straight Arrow Connector 23"/>
          <p:cNvCxnSpPr>
            <a:stCxn id="46" idx="3"/>
          </p:cNvCxnSpPr>
          <p:nvPr/>
        </p:nvCxnSpPr>
        <p:spPr>
          <a:xfrm>
            <a:off x="2666880" y="3962520"/>
            <a:ext cx="13723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" name="Straight Arrow Connector 44"/>
          <p:cNvCxnSpPr>
            <a:stCxn id="43" idx="3"/>
            <a:endCxn id="48" idx="3"/>
          </p:cNvCxnSpPr>
          <p:nvPr/>
        </p:nvCxnSpPr>
        <p:spPr>
          <a:xfrm flipV="1">
            <a:off x="6324120" y="2572920"/>
            <a:ext cx="965880" cy="1236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" name="Sun 46"/>
          <p:cNvSpPr/>
          <p:nvPr/>
        </p:nvSpPr>
        <p:spPr>
          <a:xfrm>
            <a:off x="7086600" y="3124080"/>
            <a:ext cx="1828800" cy="1828800"/>
          </a:xfrm>
          <a:prstGeom prst="sun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ichele likes him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Straight Arrow Connector 16"/>
          <p:cNvCxnSpPr/>
          <p:nvPr/>
        </p:nvCxnSpPr>
        <p:spPr>
          <a:xfrm>
            <a:off x="6324120" y="3885840"/>
            <a:ext cx="762840" cy="229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8:01:39Z</dcterms:created>
  <dc:creator>ITSUser</dc:creator>
  <dc:description/>
  <dc:language>en-US</dc:language>
  <cp:lastModifiedBy>ITSUser</cp:lastModifiedBy>
  <dcterms:modified xsi:type="dcterms:W3CDTF">2009-11-19T17:47:52Z</dcterms:modified>
  <cp:revision>5</cp:revision>
  <dc:subject/>
  <dc:title>Marshfield Dreams </dc:title>
</cp:coreProperties>
</file>