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D3F-594D-4611-AEA5-DA3A8A83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177-F8B2-42BD-A95D-C6E7600C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E7CD1-CB59-49E3-AE54-FA211BE6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F591D-DFF6-413A-8C16-BC412770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D10B7-DF32-49F6-85E7-476B74D6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CD440-3917-4A9E-98E4-D74C39DC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BC1AC-CCFD-47BC-B262-13B67D80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715C5-38A0-4C05-A0BD-FCF1C901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B0DEE-2C17-45F0-A481-4950892D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E9788-6186-4B9D-9F41-0F5D9BD7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FE86F-1FA6-407A-9841-F891B31F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2E19C-797B-43EA-A7A6-7E4CE044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90E-CBCC-4DBB-B334-48B3BC76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99883-2E28-4FBD-B65A-2B8DE5D4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66C23-BED6-4744-87C8-E5D4CFB3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78088-4BB9-434E-B433-B0E9C9A2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D614C-9B44-4F1F-8E83-B1DB0AF9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B9723-F535-4B05-93D4-E34DE0D7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166F1-B233-484C-8DB9-0E7F2287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E17BD-1393-42AA-808D-30204205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BF3E5-0E98-46F4-873F-4234AEBC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4B5D2-8650-4084-A111-ADCA10A0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B2B56-C733-452C-8842-FF264C04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4F3-A975-450B-B29C-D55E15D3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330E0-204D-4AD3-8939-954E9234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A74BC-5C4F-44D3-B193-ED6E9B27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C758B-AF67-4793-A698-EE495021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A8E8A-D12B-4142-9885-8EC4A0A7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74770-BF3C-4BCF-BFBF-92DAD41A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9B29F-298C-4C26-9AD3-D79F5810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AD3EA-9E90-49A7-9CDC-A35E1408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DB3E2-4608-4620-AD80-C81E0184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97DFB-C038-420A-8F8D-8D938479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DC798-C8FB-412F-A2FA-4227E152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354B-0187-45FA-980C-E8B5479B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16FE2-BD27-49AA-A9B4-A29F857A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59A6E-B1DA-4686-A4C5-57A740A7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60087-C5B4-4885-9B66-D47839A2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F7559-782C-4655-895D-38CC933A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D75EF-F56A-45A4-9930-9C61D085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02775-9E42-4F2E-9DBE-86ACF88F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1285D-716F-4E65-85F4-D83C568A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605CA-9F3C-4647-B302-67E9FACD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E2FCF-BE75-44D2-BE4C-020E4B4F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554C6-4563-4B21-85D3-238E26FE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C3C8-C688-4BA0-87AE-2696987C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84B57-60E8-409A-A9BE-2FB55E26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58019-6BC7-44ED-91AF-CF3AEDAB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EFE0E-3C99-4FF3-BF41-51E58075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98BCC-F4D7-4026-859C-3974B356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4E909-4337-491F-B72C-B33F736B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2C9C1-3A27-4EA3-B065-B2A8BEAC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C8951-ED58-4312-8100-2FBF1210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DA9CC2-1218-42C4-889E-9ECE89E1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5996D0-83C9-4D7B-8F65-4B22690C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33D53-E546-4B98-896F-65D9A8E6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8879-8736-4FEA-B361-02650BA9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355517-056B-496E-8492-D2BBECDE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81BB9-2E03-4B3E-98FE-7E753DCC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0B7F47-CD35-4FAD-BC52-63F5218C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5290E9-8527-4FEB-9481-2C96A334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B7E25F-2C66-4280-B3C5-75A510B1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7BCB8-5160-4A0F-BA4B-2584C2B9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28B2A-9867-4202-ABDD-6F6EEA36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C23010-B2EE-403C-92A4-600253E2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18E581-8FE0-47B9-91DE-6BC05957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8181D1-CEFA-4C80-8304-B666D1A5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6C72-FF49-4A5B-B713-3C5C164C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6FD23B-2F10-454B-9BC7-00D87350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225B5A-2350-4B58-A0F5-02918C36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78D9E4-5E5D-438B-A13E-F8E4CDD1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C50135-C494-4A58-A741-78C42B39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21B4DD-BE9F-4252-918E-8D853B78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5BBE80-8FED-4311-B582-488645FA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76E97C-723E-400A-B22B-AA713151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CEC3B1-22D3-4B9E-8EEF-CB23A11C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2C5235C-38D0-4ECD-AD77-9A89CC98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3A511D-BF09-401F-92EC-33FD0AD6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36BE-5DAC-4B0C-8C24-3AD2CDA3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FD1A5E5-71D9-4690-997F-06DE8954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DFF947-0AE8-4E5A-8521-32DD66AC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2D4B52-E284-437D-AB7A-8839F8F7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230C7D-0AD5-4314-897D-ECD0E480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3BB1E9-8B3B-4F6E-8D27-DBDB0DE2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E071B6-E165-43DD-8025-FD440555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B95472-92C7-4DC1-B423-4986C280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A8542F-1C64-4FE6-8D2D-B6A66CE0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9AF897-3592-46D6-9BBC-C4DDC5C5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E33B43-997E-4A6B-96A3-09649A66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83B5-E8AE-42E5-BB79-E9931919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AECA42-F5FC-46E5-90AF-A7D7D220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1E2477-542D-47BE-89F8-899C552C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5563A3-8EA3-470F-86D1-D55D5A39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E94B247-DA82-465D-8AB5-22FFA696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A974ADC-2587-4695-9B4B-E4890EEF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F421448-C259-4601-8AAA-8AF32B3C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AD0B321-11C0-412F-8E2A-E39E5320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FD9056-3318-4D92-8F5E-51ECAF26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51E8931-B669-433F-9AD8-F7D3D5C5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7FFFE76-3646-4EB1-8625-40A17B09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188B-800C-4FFA-A90E-B34D9E0B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810E6F1-824F-4FD5-9D1C-99F7A27A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81198CE-B1CC-445A-A400-7CEC5008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7F0028B-68F7-4ED0-8701-B19B1B81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5A0E96-0165-4B9F-82B0-C171DD78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7F26A3-C84B-47AE-96E3-EB237049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4204D7-D3BD-46B0-924A-4EDAAEFF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7A34E8-D84F-44B9-9607-5D306E7E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461EAC-0AED-4323-A300-7398C470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28CB2F-C981-4D8E-893D-67F17A26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E63257-C997-4312-81AA-A652B57B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D789-70E2-44E5-9BA6-DCE3888F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6239-2869-4469-930D-CDBAA5B4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8549B8-3C67-45EF-94CA-86C6FB11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4F5481-24FA-4594-98D9-A9A7BAF0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CB7857-3EC2-48D7-84E6-6457DA48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EA59E1-A318-4D45-B20D-C63834CF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C1DEEC-F3BD-44EA-B7EC-8276B26B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0345758-DE15-4EDA-BEE3-0DE7805D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F0FB0E7-F322-49CD-BDE5-4F19B382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0ED883F-397C-40AC-B2BB-F332C433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6862C38-2B66-4EEA-A81C-FD334165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F2C114B-D26B-4B6F-8EC5-E87D3B45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DF3C-B433-4DD0-A955-BFDCFA9F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54609E8-3410-44FB-9A2B-E5CC85E1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02193D4-9A3B-455D-9115-E9D930BC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12BFBE9-4DB0-4B50-AA72-C578F38F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C5273FD-8CBB-4831-9339-B21848C6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64B831A-C868-4351-9698-E37AFA4E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68B0367-04AB-4EAD-A57E-34D1047D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FC35FB3-07D3-4BC4-8883-DBA2D6A8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15F0D5-39DC-4F51-95FC-0DEA7D18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E29193-9E1D-4B86-888E-4AA105EE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CA969A-218A-41FE-B03F-EE02B6D5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86FF-759C-434E-A2EB-1218641F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28936D-5308-4BEE-91D9-FE4784E9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C084DD-044A-4A4A-9EBD-DF1ECE8B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E14B95-C185-4D10-B995-7C29A10C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266545-1466-448C-B13B-20578A15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478C73-1250-4E73-A022-2EA32979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F5EE72-8D3F-44AE-A163-5052951B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4C42C6-6D82-4452-8433-932228A0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D49A8E-BCF4-4FF1-8988-6B0134BC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B90525-86D5-470A-A809-4BEB01C6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B99975-0E6A-4C64-B834-7DFADF3F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EEC7-D2D1-41A2-B60A-A7ED50CC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A2B804-44E9-4873-BEDD-63312878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CC8265-A3FA-4596-A2DB-5173160A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B02B4E-93D4-46C0-848A-6737D813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6FC4F8-5363-4ECF-9B48-51386478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367BCD-083F-4AD8-A977-88265E9F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B041B4-314B-450B-A48A-6ECC2CAF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8458AB-8F8D-4BA2-8B67-D4A496F3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6BA99C-0F82-4150-B9D1-C3BC14F2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11C46F-3D12-4E55-93EF-50AD8F0A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EC000C-E7CF-44C7-9339-D647384B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9DF4-07F8-4768-96AC-D7FB89F0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92DFA3-FE57-4BAF-9AB6-08501561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6362C0-BAA8-4151-AD8F-09B0759E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C3379E-9858-457A-88CE-DC92F7E8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4A24B9-F3C0-4CC7-BC81-B268391E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D3C685-321B-4A3B-A83B-9358DCEA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0DF2E0-6328-4101-BD75-3114186A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57B66E-0892-4F19-B530-344F0097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284081-F31E-4510-9284-5681B580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A3DC70-2110-4997-A1AE-93426B15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1604CE-4609-4217-AB51-0477C765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C90F0-D31C-42FF-ABBA-E504E6F9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F40D61-6BFE-4E56-A387-299B09C7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4DBB7F-141F-4893-9665-7ACE50F3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686626-D4AD-436D-8468-1341C7A6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A8609C-B8F4-45CB-8547-97DE5540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D9F579-6820-41B3-A8A5-7E54F90E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710B12-7C5F-424D-998B-5DC601B6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6F8ED2-4956-4213-A60A-FBCF0A0E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4415C9-6429-4537-A90E-B156FBA2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9378B7-880E-4DC1-B0F6-B6DDBC97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52E972-8DD2-4FDD-B03E-7E7FFD99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ECAAC-FFE6-443F-A4C5-2A8BDB5E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BC2145-2C88-4533-A951-3AC8E375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E60552-9614-4EAD-BB8B-282E7F43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A367DF-CC95-4E75-A6EA-D279F7BE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539E86-A4FE-4C0B-9F7E-1AF851C4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56C130-6D9F-44FD-9F40-795D2CCA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B3417C-0D02-4F5D-BE91-06BF4D6F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399A3A-81F6-4A04-809D-E0E16ABA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B9EF43-E9DA-479D-9BAC-52956B0D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7A9C42-509C-47B2-9A39-2B82C15D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46FD6F-9139-4E8B-9A03-C45023CB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01BD0-5E44-4EA3-9C4D-E60005B7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31BA1D-F173-4AB9-AC22-5C8C6F00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27494F-6939-497D-8D6A-CE409F6F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C0FE11-BEB7-47E7-AE84-A7CDCB83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158380-57EE-4814-AEA5-A468967E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93133D-D52B-4752-AD63-F5E01C72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C967F4-BE87-47B3-A99E-FA109B4C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3D7DF7-CBB3-4E77-AE91-3CB8F781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D11534-1C0D-48EB-8584-6114D4A5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D77ACF-031C-4055-A3C7-5600A69B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BEADC5-0596-497A-B051-595336D1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E0F66-5406-4661-B832-16EFC2D2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DD6587-9603-4B16-93B7-A4408D55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840153-AFA3-4B1A-A6A0-6BCCFDA2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1B53A6-174D-4BF9-ADE5-26E084DB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DD2644-815E-40CF-A75A-DAF9F4D8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16ACEA-2A55-4D7B-A407-4C346E61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D52C53-ABC4-4CE5-B534-FDCC29B0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FB7F58-D98E-41B7-829B-557B9DBE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DC96EB-7ABA-438E-BE27-E0526B4E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54E75C-3051-4390-93BB-872CEF23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A9A693-60A1-405D-98C1-F0B9C362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D0375-0E19-437C-8BF1-39E8FA52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467599-3B86-4EF7-9CF6-929DA7F0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F1246A-4213-48C1-BDA0-E13EA740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239EFF-854C-47A8-8BB3-87347C28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31F212-39C9-4494-9937-5E05889D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13E161-6D73-4E57-86BE-A48E0817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DDA783-B178-4C05-8594-D6E475A0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27B6FE-C45D-497B-B3D2-B4396C4B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7AB785-4084-4CA1-9B9A-D4F61475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B64A3A-B35C-41F9-8B46-D125EC01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E8436E-4046-4529-85AA-CD8626CA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334-EEFB-4A71-B7D1-585B4D17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43A46-E469-4596-BDD2-AF6EE560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C6D831-9A90-4F30-AECF-A9CB30CF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E1C42-7E70-4CBE-8999-7F2C8409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62A93-FFB0-4232-A635-9753AE19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DF13F-02F7-4488-8745-183B72DE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BA33D-002E-4174-8408-7F60BA65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D53C2-3343-4A69-A217-EE14F95C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C0CB9-49BE-4910-A9E0-E59489E3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70BAA-4D6A-4C71-B324-B6D90C20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90AC9-8403-492F-98B6-28A0C7CB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00E47-180E-4391-A190-C70293BC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247-0441-40D7-9D5A-7626066B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BA5C3-226A-4831-91FE-A2456F54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99BA0-A35C-4212-866E-4169244A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8F3DF-CC23-4ED1-832B-FC9D3504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EF54D-23FE-4FDC-B3F4-6F9D6AF6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44F17-CBA9-4313-BF8E-E2B2744E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872AC-FCF6-47BD-B575-02C0B4EB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E631C-AC8C-40D4-886D-BDB591D1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D25F8-847F-4CC9-90D9-800B19BF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66F26-9A61-4B57-A3C6-8F88B426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A6376-982F-4512-814D-D742F4E1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ADBC-97E5-481C-8C15-58E106DC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FFB10-716C-4BCB-AD41-2E7480A8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51562-06E8-46E5-98C9-FD3892EF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EC692-FEED-4C9D-8307-A2FA7B2A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36DEF-08E4-48FF-AACC-D19F819E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CE972-23CC-4C02-B315-C29902A0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043B9-140E-4ADC-96CD-70B6B501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0657E-E140-4ECA-84C8-BE0770E9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A7A20-CA44-4A70-A55E-6070DD38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A7373-486B-4BF7-A87A-66CEE075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6C447-FEAF-496E-9547-48463B3D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1D6-4CC6-406E-93EB-06555193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ED2D5-989C-4220-AACA-6A37E5FD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4E52B-7817-4E67-8359-8A668106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F9A71-58C8-4C29-87A7-2296A67D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255EA-38D4-4788-AE3B-074C2070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357E1-CAEF-4C26-8E43-EFEB25D9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8C924-F22A-41F4-8ED9-F177B77F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F2406-119E-4286-8447-4585928C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82F2B-A1EA-4623-85A1-17FB2B02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553AC-A644-464A-B52D-3E0D307B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A357B-B26F-4994-B9F7-1351CC7F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4241-54E0-4AA6-9EF7-2432CD3F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EAA42-2102-4F1C-8159-1C20F5B5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3D6AC-948D-44EB-947E-8FD75585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54AA5-50FC-44F6-8CA7-99D83C51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2B014-1C58-483C-81F8-231269B4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08037-C1D1-47B6-9EFE-DB72167F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FAE98-0CA5-49D5-A5E7-3A9959D7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374A1-27D1-478D-8B32-72ED7626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1034E-C27F-4824-B22C-8F766D20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503AD-16F1-494B-9BF5-84967D96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7CB6C-D842-4789-9A6C-7D2450F8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7E99-5806-434F-B68C-60F60234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C2DA9-924A-49C0-BAE6-857090D2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22D98-8D4F-40CF-8767-8DA02DF3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871A4-D1DB-4276-B7E7-A7329BCC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4E189-934F-4121-A579-DFD503FC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68602-E0CF-46E9-A337-F114B33C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DFACC-D2E8-4D7F-A171-210B3B86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F6821-2C6C-4033-B513-D1F778EE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18303-3DA9-4376-A31B-9738A20E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2D1C2-49D2-4D95-9EED-1444F214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946C0-870B-4723-A5FB-2ADA5972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644B-2C1E-41AE-9E0C-3914201A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2AE26-0482-4C07-A506-3959A709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5C2B4-98ED-4A43-9F02-23AD2764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0FA27-A412-44B4-867F-EC656F30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81E63-F7D1-4336-82D4-E8D41D0B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EFA08-713A-4594-8C02-5D40E2A8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62BCA-F0D6-4540-85C2-D8EE7264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BCC03-8CF7-470D-B594-FB29F428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21F6A-798A-43BD-B752-F36E256F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DD83E-D8AF-4D28-86CF-68CC9EE7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3E591-8FE3-498B-B98F-1DE685D0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CB65-551D-4E1F-9237-AC1DCDFF2F3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BE90-CC26-4933-B778-16329E943B1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CAE8-B4DB-46A4-9702-C4E52336A0A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C74C-ADE9-4887-9A08-A47E1CE936F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BC09-2D8F-40EE-A9B3-B71F19A920CC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F40E-B375-48D0-909B-8CDB212D72F6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F930-DE87-404D-BF9B-DECAF8A70E6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5B64-3BAD-463E-BF1B-D9249742A6C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01BE-9ECD-4E0D-9ECE-952D70BAD8AF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36C3-162C-4906-A751-2B8EE888AA47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FF7F-C5B5-4A78-8436-7CF071857DB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2DB5-0CC4-449A-B153-222F8E6F3B4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5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5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6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21B3-4376-4C6B-AC52-0959FBA14F5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dt" idx="6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 type="ftr" idx="6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 type="sldNum" idx="6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2E1A-B01C-465E-9AA8-BCE8092E158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6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6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5B0D-6FDD-4626-8A6C-763945FCFA6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1C9D-683F-45DA-8F25-6445D405141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7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7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7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224D-DF6A-41F5-BD3C-94C8AC15C63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4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1115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8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1119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2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1123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7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ftr" idx="7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sldNum" idx="7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7A2A-1E1B-489B-A932-D31E39D1162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67DB-8BBC-4E02-8898-F047E7A5956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CCFE-19F4-4C33-B721-A3519230147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ACED-3228-4F5B-B7C5-F1F33E2ACDD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1B54-9D1D-4103-8AC2-8DC6DE2AEB5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DC87-4108-47E2-9A88-2F8DFCF1A32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8F2E-1D45-4072-BB5E-0416FF4C6C0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F12A-575D-48FB-8743-326566CF99A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Title 1" descr=""/>
          <p:cNvPicPr/>
          <p:nvPr/>
        </p:nvPicPr>
        <p:blipFill>
          <a:blip r:embed="rId1"/>
          <a:stretch/>
        </p:blipFill>
        <p:spPr>
          <a:xfrm>
            <a:off x="2206800" y="2225520"/>
            <a:ext cx="4670280" cy="255924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3467160" y="5181120"/>
            <a:ext cx="22096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Kate Bierschwa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69" name="Picture 2" descr="http://www.tsuda.ac.jp/en/img/img_college_top_c.jpg"/>
          <p:cNvPicPr/>
          <p:nvPr/>
        </p:nvPicPr>
        <p:blipFill>
          <a:blip r:embed="rId2"/>
          <a:stretch/>
        </p:blipFill>
        <p:spPr>
          <a:xfrm>
            <a:off x="2743200" y="0"/>
            <a:ext cx="37339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1172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thematics and Technolo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learned how to make formulas in Exce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2" name="Picture 2" descr="http://homepage.cs.uri.edu/tutorials/csc101/pc/excel97/images/excel1.jpg"/>
          <p:cNvPicPr/>
          <p:nvPr/>
        </p:nvPicPr>
        <p:blipFill>
          <a:blip r:embed="rId1"/>
          <a:stretch/>
        </p:blipFill>
        <p:spPr>
          <a:xfrm>
            <a:off x="2514600" y="2895480"/>
            <a:ext cx="380052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ffective Develop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learned more about friendship when I wrote about it, and about my own troub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ecision Mak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y 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hardes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decision was what college to go to, and  wh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hough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about  what job I want and colleges  taught it. It was important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1:20Z</dcterms:created>
  <dc:creator>ITSUser</dc:creator>
  <dc:description/>
  <dc:language>en-US</dc:language>
  <cp:lastModifiedBy>ITSUser</cp:lastModifiedBy>
  <dcterms:modified xsi:type="dcterms:W3CDTF">2010-02-10T20:46:47Z</dcterms:modified>
  <cp:revision>6</cp:revision>
  <dc:subject/>
  <dc:title>My college Planning Reflection</dc:title>
</cp:coreProperties>
</file>