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04B-4E33-4938-BF2C-D0B84402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5F9-A093-4C1A-9FA7-8D4971FD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B2D53-E9F8-4EBF-B051-6D9E7627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CBB3B-214C-4C38-ADED-23FFC3A8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EAFB9-F5B5-420D-BA8E-6D9EC0C9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413D0-5A92-4BA6-853A-A4124A37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09652-0BB8-4A0F-B14C-C64ABFA6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DB69B-F75A-41F7-AC95-DF6249C0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F418D-06ED-4894-924B-DD0A9C54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6C1D9-5B04-4C7A-93E8-622A2310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C0A67-6CDD-4BD7-89AB-935192C4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4DE21-2A81-4A06-B331-343ED28C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E47-7465-44E3-9B50-9034E868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8525A-9431-4EB4-9D81-231AD41C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8DE10-158C-448B-9E1B-0C375AA0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649DA-BD72-4456-B60F-70EEDCBC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830FD-8D71-437C-B911-B62EE1E7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D86D9-C534-49A9-A4DA-44781B98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8BBC3-2F65-412E-8455-40BB1F2B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C7222-D854-493B-A4C6-F0684E11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4B566-9EAC-4108-99DD-1CC9670C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3C1B6-667B-4DC3-8CCA-8BFB7587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B8DBE-E04B-4458-A3E6-7E0EFF0A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8A2-D922-40B1-B3BC-C5E4B0F3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F5E27-736F-47E9-9BE7-0FC1B77E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ECFC3-4548-4FE0-B4AB-61B1803F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92774-64EC-468F-86BB-97835CC2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86556-B6DD-4BAE-8AFF-4A21677E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0D484-C677-4A28-9F3F-86DC3EAB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78E0D-9C94-4903-89C8-D023450C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45E0F-5584-4385-A510-D8C7A94F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14D17-A14D-4C70-8D3C-3C232952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3978D-B6CE-4468-9F8F-6BA48F93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C370A-2CF1-4E4C-B245-B73F9819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412C-3140-46AD-B304-3301CF78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16F18-BA22-41A8-80C4-2C2F5C4E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3DE9A-14FE-4CFD-9400-01069610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9016F-A1C6-415E-87E4-CEA5FFEB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78119-2A0C-4ECF-AFD9-51872B4C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B3739-D537-43DF-8CCB-B9708AB6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5D6D4-F18A-4BFE-8D2D-B75DC00B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4EE71-58E1-488D-B8C6-0D94036C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9D46A-3081-4ECC-9558-1063D0B4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B3382-A5E7-4BCD-9ABF-52A00581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AF5E2-98D5-41D7-AC70-EDA84DA8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345E-5787-479D-ACF7-EF8C2316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3D2ED-35AE-4C70-95D4-5D6CAB1F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88E7A-DBEE-479A-927D-3DE44C49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427D6-3431-4622-B11B-57437445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4F4D3-3B28-4C6A-A2EA-515EC94E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CC46C-75B7-406F-AFFD-24B63800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BD6FB-895C-4B7D-80B4-581D0B5B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842A5-DEF0-4CD0-B065-0EA000A6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3C9DC-6FCD-4991-BEAE-A9EDA226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7DF83-1AC4-4BB4-8C16-A2501D74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937EC-7E4F-4283-A535-421F3056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19DB-17F0-46E2-837D-A79C96D1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DD2CC-05F6-4F4E-87B8-53C9B7A5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E21B4-6C2D-4DFE-B6E9-4B64258F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AF62C-5D24-40D0-8CDA-5B616BB1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BF976-B1A5-413C-9A05-E58BB8A6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F4E40-F1B6-4966-AA0E-65A32390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DE259-9B11-4B7F-A1FB-95AA1477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12C51-5023-42D3-93C3-4A0E2972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43F027-A973-4DB0-8EEA-61F621C0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3CF79B-1313-4C01-A05F-DAE35E6A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6E8956-C137-4E1D-9D42-7AEEAC15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FA67-7569-4FAD-BDB0-44BC5F57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E38F6E-B869-4FA5-9D88-9AAE4500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9EB336-CC14-48A3-862F-345F83BD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2DA2B2-B6D7-4336-84B4-62598D72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2F2568-9633-4B61-8AC1-57686682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681962-19B4-472D-9911-0A22ABA4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257BD1-4B4C-4148-B534-FBC4475F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4EA584-8491-4C68-96C0-F3FBFED2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2A76A9-F3E1-4357-96B2-F3D68810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4B3D2E-AB5B-4BF2-ABCE-C865BF8C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07AC07-B158-428A-90F0-0F58647B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2935-E758-44B0-BAF2-D97E416B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CAA3B1-F85B-4B07-AB3B-77FE423B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8EB0AA-411D-4AD9-9052-F8A5E332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C5DA8C-0C12-489F-B15D-AA30E75A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AE9352-19E4-4834-94C2-2A435A0A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E90B98-C82C-4510-AF9E-EFA37903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43842E-A171-4B6F-AAE5-61B09772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39723C-CCD8-4EAD-BDE9-F7298BBE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BA9B76-51F5-42EE-A184-6273615E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12B52B-23B9-4ADF-9950-C9325406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729E3F-4BEE-446A-8B6A-6A731C9F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AB4B-2AB3-476E-B59B-1DDAE85A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4AC877-B0C9-4C2B-A4E9-A192F3FB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B454CC-672A-490D-B801-26834B53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9588AE-A2EB-459A-BB82-3CF890B4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F22F71-EE95-4BEC-ABC1-23878FC5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C389E9-6855-4217-B8A0-A7EA07FB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806454-DDB8-4308-AFB3-EF38F439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9A1298-EEC2-4B91-9821-15D7BF42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2965AAC-314A-43B7-9692-47CE1C6E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8B4C37-1635-4722-80FA-6EFD17F4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39B8597-DCD5-4EC6-97F4-25757DE3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F0F8-BAF5-45F1-BE93-9B356C59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6EC778-2C6A-4A0A-8E1F-F3F64394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73664D-DC6C-4CCD-BE16-EAA1D14F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7FAF4CF-9669-4675-881A-A6A4CC31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8532AE-11D9-47D9-8BE5-2B37BB36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B0656D-786B-4A9E-B46E-A936E585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860A4-8513-4C8B-B90A-0E7ECFD2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884C9A-2BE1-494D-B4A8-7ACC05DE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5EF406-AD52-409F-98FC-6D25B468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F2E360-4B85-4B2B-ACBB-8464C907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62561-A71A-4B3A-90C8-D92BB3A3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290-93F5-4A4A-9C94-CDB54A9E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B016-C70E-4B8E-8BB1-8F111F6E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211A84-BEDB-404B-BAA1-EC7AADBA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EC455F-E893-4EFF-AD7F-4E5971A1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DB694-A7CC-47D9-A9E3-D9A24D9A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29351D-4978-4ABA-905F-F5DF158F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ED1DBA-F208-42FD-8021-4D82A529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902F3DE-9CD3-48A2-89CE-45E9C717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C7F9BC5-CD54-464B-9400-11F3DDCE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60501C-D340-413B-9D1C-8F484178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EE1AA2-DB4C-429C-AE55-6C76725D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6E18664-9345-4CFE-9010-623ED63E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703A-6E91-4FCB-883C-87480DCA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1DAF187-2049-4A61-A75A-3F991C36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134E20D-965D-4055-B4BD-75B2F20E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3C280C-E3B5-4AF2-85E6-B35FE75E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8359A2-F7D1-421E-A21B-F0187B0E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8B3BFA6-B37F-485E-B8B3-C4E2FE03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73C7319-1F7C-4908-9BCA-ABE14A9A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6024407-D114-4012-AA73-4A300E1E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4395F3-1D5A-43E6-811F-E35591B2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DAAD0A-9E46-4A3E-B0F7-77170B64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A0C6FA-69E4-418A-95FC-71C9AF23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9494-0F5F-435B-AA26-7478FF81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49750C-DAB1-4281-B793-0EA942D3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8B9707-5C50-49A0-8FB1-ACD6CEB0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E1F47A-0E9C-473D-AA3D-0720242A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A2F61D-A58F-44EC-8E38-E4B11660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6FB4E1-B4E1-4119-92D9-FBB2E47D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84C906-D9AC-4C1A-8FD8-45CD05F7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21A2FA-5B71-4BB2-89EC-1D613FA0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ECC5FC-6860-4642-AA5D-A7F2585C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B61F8A-DD00-4FBD-A5C5-00558F5A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5D98A3-E289-4EB8-A3CD-0B9AA177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F8DE-042D-4684-ACA7-DCA00A19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4C9E74-06D3-4F69-8D74-38B216FA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69E8B6-ACC3-4984-8354-BAE5D721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E2FFE1-4F1B-460B-80CD-6AC3E371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27EEDD-773D-449F-8AAE-2E217012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DF81CC-91AB-4460-A637-BEDE143E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3B84BE-ACD7-4625-9D06-8C1A02CA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FC75ED-4F94-4749-9993-0720B1DA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CD38E1-4B43-4F51-A808-0A218B84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3B43B4-DA8E-483F-8EAB-D6BB9202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37D54D-4849-4CDD-8552-6B7121F8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88B1-20B3-43AE-9D39-BD737BA0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EA4F57-F024-48F0-B3D7-82F21B8B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F58BFE-971C-403B-BEFB-AD1DD5C8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14528A-7EAD-4EA2-AED1-43BA08BA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533ECD-B797-4D7C-8303-34F48E85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139769-D268-46DE-84D9-DB6B8B79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C558C0-8C60-4A6E-82C3-AE89634E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E2EF8C-A518-4864-8768-B53FC6DA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57BE0C-C273-40BC-8B9C-B7475CED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E59514-0C70-46D1-AA67-14FCA137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F856FE-EE53-4BCA-AB35-37EB27FF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38729-A36A-4BA2-A572-2EF4DD02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C6D1E3-E368-4EDE-AEB1-86276012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2EB756-1B69-42E6-9C59-4095A62C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90A6F3-4A1E-4B75-9D1B-B6116ED7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1A8AF1-5BA1-4D2E-8AC2-B0073EC5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8B859C-709B-4CA1-9906-A9581BF0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6036C0-1766-4BCD-B767-FA76AB99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CC2828-5EB5-475C-B7EF-A8E36FBD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852E76-8993-4344-A54B-BCB9B0A9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702D30-9DC1-4AEB-AC33-052EF57A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8F1D5A-6744-4620-AF3E-0BE3C601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2AD14-EE45-44E2-85BD-46922007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88DAAC-1C7C-43D5-A191-1ABA3F4F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6E3092-7DAA-4B1F-A01C-3C2CDD31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4748D8-72FC-4550-AA8F-97D86528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3CE507-A8F0-45AB-BC2C-C432AF20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7F3CBD-ED55-4BEA-A3CE-0278F800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E93D48-381B-433D-B68C-4B86A819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665DFE-FB85-4A06-AACF-AF8CB300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66184F-4B67-48E8-A725-99D3C731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FD01EA-55B4-4DC5-8CBF-F8AC5EE7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D1FB21-FE30-489D-B59F-BCF1DC55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28A36-61C3-4336-B94E-65313FE0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01DE61-7F44-4312-8BCA-35EFBF16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3A101C-16B9-4F47-A0A3-2AA0CD08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217823-8729-4315-AE13-29B2CD9B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B8528C-B0B8-446C-83C0-8C5620DB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08CA1B-AC57-4455-9EFA-1ACA12EE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A5448A-5324-4783-A39D-E68B93CD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E33368-A9A3-4E11-A210-5B7112C3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FD459A-7E27-4094-898F-F6FA44C6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6A7361-D5C5-4A7D-9AFD-D594D742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9CD792-C733-475D-A4F8-787D4D2A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8D013-A80C-4C10-B257-496D6323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049575-FFF2-4CD4-A73B-5D1B0193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1CE50F-BD21-4821-A5F3-A731FBD8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BA77D2-067D-463D-AD3A-CAD676EA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23D977-9DF7-411A-823E-85159E73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593A5A-6ED8-4F69-A91F-A2F3609B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1480D1-D549-44CE-9037-F8208DBE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6C0913-C181-4ADD-BECB-2717EC23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ABFBBE-9A55-4BBA-827B-BFFF322F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67BAF7-DCAA-47E9-BBD3-35C69392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E1E02F-7428-48FA-8BE2-CB7F6C57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BB034-428C-46D5-A9AC-4120F924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E6EA8A-E993-4E6B-9258-7E369736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A6D401-A150-4D19-9B94-3AC5019C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415ADB-6E37-474A-BA9F-FF799718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9EAEE0-A834-433B-ACF5-0DB3CE61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0816F0-643B-4577-B420-C1876309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B9BAAE-1D63-46D2-B3AF-784CBF5A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5BACCC-12B3-429E-B766-7056C3A0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B43FA8-6723-4FFA-93F5-A5C9BEC6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33D58B-40E7-41AF-B566-E1C6B998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B1364F-63A6-495D-B956-936311FC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BBF-9F98-4FAA-BC7F-0355DCF8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C39E7-6907-4AFD-8255-CF089050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352864-6545-486E-A383-35A850EC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D2FC8-8A9E-4EB8-848A-8AC21D6C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22167-3B66-4FF9-A0FC-5B1EE2B1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A1DB9-3BD4-4471-AFD4-323F9509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2667A-2F31-4C02-B437-2090C383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0C33-320C-4A56-8B56-DF715703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C79B-5FBE-45E0-9FDB-52761123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90196-3D98-48CF-8F35-A01344F1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ED0F3-0AED-4447-AFD0-07450757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AEE14-E358-43EE-BBD4-D0166030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D68-F0A4-4E13-8202-82EB2FA0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149CB-34CD-45CE-8A11-6A851471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1D2EF-9445-4F56-B26F-655A9B9C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C6D41-8AC3-45DF-81B8-072A0D48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6EB48-D6F3-49F1-8F6E-6ABCF6D6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E5007-EE57-459F-A514-E74236BA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CB5DA-74CB-44D1-AFD5-C1935375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E8CBA-2E27-4BFE-BCC6-34813149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874F7-5514-493A-AF8C-59AA7182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62A42-655F-4592-BC5F-0545189C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C272C-DE02-4B74-BE7F-970CC9DD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748-0717-4686-B4E2-6DF2D6AE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7870B-114E-45A4-A040-D9C4F368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C779A-CA51-4669-A162-FB518E96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FD101-0B00-491D-986A-5E6FE1F8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5FBB6-C42B-4A1F-8F0A-38E25C4C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06D5E-9DF6-460F-9344-7C1A64F6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3F14D-773B-4F8B-A6BC-8AB17F1E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11F9D-3D4B-45C0-837F-96380E53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C9505-1242-490D-9D12-223BFF62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F618D-78F3-4C9B-9B4B-29F6D59D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FC363-3D5A-47DB-94A8-31BD6043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4F3-457B-40CB-A67D-DD981841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EE838-7B04-4F91-9B1A-BD1075B0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E58EA-2A0F-4960-821A-CA72A886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8FBA0-8BC1-457C-BB01-A4098DFA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E1442-8235-41CE-8C65-9CCF7058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A08EA-810F-48E4-9D3B-F54EA5DF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EAE82-F72C-4711-9D42-57022BAC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DAEFE-6EF7-45E3-8425-808BF4AB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783D0-E8EC-4093-BA90-E8D20E4E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8F2BE-F331-429C-8056-9BC6DB23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0D324-4B8B-441A-8F7A-19A30F85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D81-5F84-426A-83A3-5AECF832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A1406-9F33-401E-98C5-D094AF11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651DB-EE34-4E50-BF6C-8F8C6C9F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8A024-58BA-4570-B4BF-197B4CA8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DC4E2-2F23-4AC9-AEB1-E63D56E9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73822-4B0C-4F84-9079-252CFAFD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84A97-2056-468F-90E7-9D544C88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7BD71-9ABC-4B0F-9A6B-2941C2CF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D2022-39A0-4910-BB30-E810CD24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396B6-F4C6-4675-9D25-279D38FA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E9402-50F8-460F-8B73-B812C1D5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4A2-73C4-415A-B365-CA5B6FB1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855F2-DA09-45A8-9899-4E929ECD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F1A0C-ABE2-4981-9FAD-98E65A48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6A967-218E-45CE-B17F-95D02042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80CC6-05FB-4239-88AA-4AC5A74A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60A1C-8B61-4531-A346-5807DDBE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C7A6E-D3FF-4C2B-A123-0A3C0CF0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0004B-6039-4BB4-9C5B-51E799FD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4F924-5AA3-4E2E-8540-7CDC2152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8724D-633D-45E4-8FA7-DA54A371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4629B-BD73-45C4-83B7-065CBEAD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18F-4A6A-41CF-9500-750E6BED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DC2A9-8FD3-4B2F-8395-DBA79857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B84B2-926F-459C-943A-151553A8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CC9C4-6EC6-4D30-AA67-14EC5A88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AC70F-A43E-4FAC-AD93-BB494712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A7503-71C6-45E9-AD28-62B6223E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14754-AD7C-4759-9B7C-E3AE82B4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77D1D-E4C8-40DD-9C6E-ACDAD9BB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F43B0-28AF-4F17-8862-ECD28C4D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2F694-6671-43B4-81AF-5BE74DC5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CF33F-2934-468E-A958-056037C5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80C8-5C73-4C36-ADFA-A410134057C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B4D8-BEFA-428A-8CB0-59A0A804CE3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D98A-BE6A-44DB-9800-B26072599B0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BBA3-91E5-4370-A504-325DC5A97BA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41C7-AEAD-445A-A9CC-8189F29D6926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AE67-54C3-49B5-A02B-0CDAD38C8AA0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79CC-D942-44FE-81F8-0D2310C5807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66B1-30AA-4774-B702-9CB5940962C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A9E0-33A2-4772-8BDC-6631ED28ED1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C555-D23F-4859-AEAA-5583971BBE00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68A8-4CC7-4455-8EC5-A0C5F8BD976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E547-A474-46D2-A90C-C9C18A95464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5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E495-288B-46EB-B0DB-4A9E857E1D6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dt" idx="6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ftr" idx="6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BBC2-486F-4A66-8EA7-025A8FFD689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6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6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EEEB-6347-453F-B4F0-DF21A9716DD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F157-5338-4C4D-9F9F-E08CF8D4FF3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6956-7BCC-4376-ADEF-0E118A28E1B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1115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8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1119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1123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7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7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7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5972-E97C-4178-AF01-CFE52A2F06D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6845-FEF1-4555-855C-2DF8ABC21E5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549E-0C46-4077-A81F-A174A1112E9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7E51-6DEE-4499-8700-370B4FD6B11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CAA5-D464-46BA-8500-0CA01DE404C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F0AD-BB07-4890-BCD2-F918B65C3A3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4058-6C22-4F74-8439-2DD21297286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A5EE-803A-4011-B97D-8C59B8E1E9B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Title 1" descr=""/>
          <p:cNvPicPr/>
          <p:nvPr/>
        </p:nvPicPr>
        <p:blipFill>
          <a:blip r:embed="rId1"/>
          <a:stretch/>
        </p:blipFill>
        <p:spPr>
          <a:xfrm>
            <a:off x="2206800" y="2225520"/>
            <a:ext cx="4670280" cy="255924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3467160" y="5181120"/>
            <a:ext cx="22096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Kate Bierschwa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9" name="Picture 2" descr="http://www.tsuda.ac.jp/en/img/img_college_top_c.jpg"/>
          <p:cNvPicPr/>
          <p:nvPr/>
        </p:nvPicPr>
        <p:blipFill>
          <a:blip r:embed="rId2"/>
          <a:stretch/>
        </p:blipFill>
        <p:spPr>
          <a:xfrm>
            <a:off x="2743200" y="0"/>
            <a:ext cx="3733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117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thematics and Techn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learned how to make formulas in Exce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2" name="Picture 2" descr="http://homepage.cs.uri.edu/tutorials/csc101/pc/excel97/images/excel1.jpg"/>
          <p:cNvPicPr/>
          <p:nvPr/>
        </p:nvPicPr>
        <p:blipFill>
          <a:blip r:embed="rId1"/>
          <a:stretch/>
        </p:blipFill>
        <p:spPr>
          <a:xfrm>
            <a:off x="2514600" y="2895480"/>
            <a:ext cx="38005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ffective Develop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learned more about friendship when I wrote about it, and about my own troub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cision Mak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y 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hardes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decision was what college to go to, and  wh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hough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bout  what job I want and colleges  taught it. It was important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1:20Z</dcterms:created>
  <dc:creator>ITSUser</dc:creator>
  <dc:description/>
  <dc:language>en-US</dc:language>
  <cp:lastModifiedBy>ITSUser</cp:lastModifiedBy>
  <dcterms:modified xsi:type="dcterms:W3CDTF">2010-02-10T20:46:47Z</dcterms:modified>
  <cp:revision>6</cp:revision>
  <dc:subject/>
  <dc:title>My college Planning Reflection</dc:title>
</cp:coreProperties>
</file>