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FEE8-EC26-457F-817B-4C285395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744-7974-4499-A053-FD11C3BC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FB598-4BA8-4D70-AD4A-774B9968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FD76E0-AA43-447A-BA09-53BA8AB3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ECD2B-1D61-4040-9D95-4C97C3F77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D59E2-FA42-464A-8490-37582523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6490F-10FF-40C9-B618-F246329A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E1E01D-AD83-46ED-9779-9E0DD558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F85BC3-DB01-4AC9-87AE-E79E0B59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20964B-E086-42B6-B36E-EDB28406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11CD0C-A7A8-4F6E-8EC8-E27F567E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BE1699-4AEA-4695-AF13-44968C3F6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FD95-AB22-4D7B-9D2A-28490F2B6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661A2-7BE3-4725-BB76-7F34A89E2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0F7C29-FB78-4619-A7C2-0DBB31B58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5A32C1-0128-4148-86DD-0A7D4E78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D71F8B-2FE2-47BC-9FFC-25883B8B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F8042A-8092-4EC0-831C-8A6E1DE62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8B6281-69F0-4A44-8295-FC3E7266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1EFF20-F909-4285-AECF-01E3A562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21EE66-EBBC-4725-BE53-328BDE77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87149-564D-41DB-84AA-DA436409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74201F-DD56-4B76-8CE5-7B20A40C5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23C-41E7-44A6-9F6A-5BF47451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E280D-1359-4C31-B525-5C9A5C26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C9368-6F72-4E97-A46E-9BA71860C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0E2936-F34F-4ACF-AB01-6347256D7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8CC25-368C-45AF-8248-E6A7CCA9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5FD1B7-8FA6-4C3B-BABF-07320B72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DF532-D49B-4931-AF6D-7F20287F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41BFE-5BE5-4A0A-BCCD-8F89F05E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2CD6A-F560-4842-BF03-DAC0E4AE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D68DC-E807-4280-A4D6-89DB056A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F5DD7-FBC7-49E5-B5FA-8CC3D500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32BA-DBA5-44E2-8997-3A70A98B8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EDB696-E4AF-4181-9859-62EAABD0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9AA84A-7F0D-483B-9103-6D31A38F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29DFD-10FF-4BC7-B0AE-C73C0ECF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374C8-B8D9-4F26-A3D6-6DD56DAD9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102882-5E07-4DB4-B302-42B95071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61287-D777-48A6-8B31-B2E7740D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2EA30-7D88-4212-A78C-EC503F64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615A8-D713-4F53-951C-CF76AC478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9E3337-F91A-4FF5-9F92-A7C098D0B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0BA02B-B2EA-41FF-AB99-E1FD07CF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6DB26-59DE-4694-9BF2-C53824086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DCF37-8995-43BD-A5B6-353F1A0C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7B4EA1-9C90-4997-907F-AE6AC9B7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A88B8A-F0BC-4330-BEE7-09A3C4B0F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83F3D-B67B-4983-97BD-675B70907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2F645A-41DA-49D0-9B03-83B22E98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F88BF5-1EFD-4EB5-BE42-949D0D0C0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50F011-9C17-490F-9931-9A170B542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C5A03-D8CE-4ECE-8721-15E9BEA7A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13DB08-BF0A-4D94-B5F5-F55B49DD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809EE8-BFB8-445F-B1E0-DED66AA8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2927D-051E-4C59-95D0-FB8EBB2E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6A5E2B-C22B-469F-8FC8-86519864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EC9084-64C6-4F5E-8B86-259F01DB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D5456A-AC3B-47D8-9B7D-3AE0D4D8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58636B-92D4-40C2-96E8-BC050A2C6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ED79D-15DC-47D6-BB2B-97109C8B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A1307-86B6-4CEC-93A6-76C9BA92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DBA5FD-D516-4426-934B-9D3B6D1A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0943FCF-CDFA-4D94-ADDF-A42A77CBD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4A5618-D94B-445C-A2FB-DEB18C1B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1A3352C-DFE0-4ECB-9BC2-0503BD01C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4F91-8FFE-4657-A0E7-AA8A428F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BB268DE-FD56-4044-8BE9-D00CADFC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83E439C-A1B4-4F29-8135-28634E04A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234E7E6-9393-454C-890E-D8145072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C59CB66-9240-4955-B3DE-EED108F2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7BDD626-9862-48B9-877C-EC32FF533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9D2AA98-0BAB-4D80-BE3A-228E3BB7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9BC03A9-2FBB-454F-B4C5-B61F2003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C2C954-6EE1-48B2-8247-6905F3656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697BCBB-D19F-40E9-B7ED-F9F90875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A8607E7-1A36-4D66-BDE3-3006D04C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DAC40-8680-446A-B7E2-D9023B61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B23ED98-9748-4CAC-8A49-519F15B1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DF51EB9-283B-4FEF-AC17-2AFDCBC9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CE94D7E-95B7-40E1-B5CC-4F515576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D4D224C-7DFD-416E-92BE-D4AA39CDD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5DD1CAC-648B-4CB3-B92D-296106E1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A00872-F75C-4F0C-BAB2-35AC5041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1049778-3A30-4F8B-AA21-56ACC593C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A23B72-B337-4DD5-ABFC-1CDA2484C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85EC4C-9EBD-474A-A323-9788C8B0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1901A45-4B59-4F6D-B013-94BFD5DE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678BC-1F22-43DE-9C92-1F7DBF5A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32AC722-854A-45DB-9BF8-845144A0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B592CD0-B09B-4CD6-B3B0-0E35474C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13F86B7-F17A-4438-A13D-3B74B66E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2CC3E18-74A7-4516-BCA1-CB83DB2E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7DAEF8-9B1A-4EAC-A98B-7B7D7E898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B760C76-3B98-4CDF-BCA0-65064ED5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C1C3D38-BBAA-4B39-9FFD-47E2371A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E2DB514-529D-4075-9B17-87A60AE5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6C49B7-51E5-42BF-856D-4B82D76B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9F04A21-84C4-4BE6-BA99-E9E0C48E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19AD-3AA1-4E31-A8E1-8AD60879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462E80A-0D15-4946-B327-2A2A5A11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0B9DB1D-C1AF-46B0-9D56-910FFE66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DAAF511-3BC0-4A5B-92C3-2394263F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6C8875-345E-4915-B72F-6432D095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9DA9E9-F64D-4276-A238-62A19F9F5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8F8131-9E49-4EDE-906E-E657F2B4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682733-2A12-4851-AB02-63462C0A8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E2DA17-B302-493F-830B-FDDC0B67F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445C2B-AE1C-4979-8126-FF12D999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177752-5D54-4630-B182-5B2E8869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289-8C21-4A44-89AF-A4DD7FCA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0CA8-4E24-44AB-A43D-5DDF8A5D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3C4026-EE08-416D-AFB3-340C223B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8F283B-E8DF-43C6-87A0-C1051E4A4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A56FAB6-D1EC-4912-833F-6EE78723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923CFB-378D-4FBA-A427-90D5BC54C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177679-168A-48F4-80E0-EF7B5D567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1D31EA8-9102-442C-A8FE-A2B4209E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435E707-3A00-41FA-B549-4D4DB2B2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B403B64-CA3F-49FB-BA6D-C46FEEBB0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2B7B832-DA98-4A9D-A9CB-4F90EFE08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9B8D7C4-22A8-41A1-B7DF-01B3D13D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7948-7287-44D4-AA3C-F81371EA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55DA6FF-2435-4936-ABE0-C3A4B968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712BB4D-D87D-4FBA-8A2F-B64E4954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F045780-235D-498C-8839-7303F34D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66D9D3A-CF48-4234-93AA-31C73B2F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730B480-0070-4151-BA98-7B4C12DBA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CD65E24-CEF3-43EC-B6D4-5EF1EBB84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EF79FB7-57DE-4875-BB73-87A0A1D2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EAD115-5A78-4B51-913A-D3A2BBC0B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47949C-E5D8-48DC-97AF-40AED362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980B6F-1D8B-4528-8CAD-B3ED2F8A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6205-8F51-415D-BBFD-677750C1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822318-5932-415B-A1EB-6B48EF86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D5A375-8F3A-452E-9A38-41F6E569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D70A51-0DC0-4460-9A8C-9506E5ED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5DA7B3-10B3-4833-A65C-924A424F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AAA7AF-FB91-4D54-B389-07B6573D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3C3D07-CA0A-40CB-AA93-AEB58AA6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1D9419-ACAC-47CA-B94E-576CD337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B2FF56-7722-4902-905E-9A0AF76C0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25074F-AC65-47E2-A94F-5788DA40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7133D2-0C3C-414F-B2FA-F05B086E0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7950E-EE0C-4FE7-A8F9-66696FC51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9B8A5D-25DF-4525-902A-69461C3B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00EC11-E396-4440-AB0D-BAAAB047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D3758B-DAF7-4219-B09B-9D128AF3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73ECB2-0FCB-4183-B0F1-8787E09A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F602C3-2A01-4448-B8C0-0A213304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C2C74A-EF91-4E7A-8DC6-8BE10911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319206-091B-4E7C-852E-0CC581AB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B16FEC-5F8E-4A82-8DEA-44F1125C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C0A290-3CAA-496D-B1F8-994CF9F2F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8601F1-BA91-4868-A16C-232D7490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CEDA-D743-4841-B6CD-35EF465E3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64D111-82AD-452D-8708-F6885E9BF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68FADE-4ACC-4B8F-A844-51ECEE3A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79104D-161E-4C9D-864C-063D8D0E2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F9C9B8-49C5-4137-A4B0-7C6908E6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7B6D97-0142-483E-8881-2661F98E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FA7823-B5AA-4A70-936D-0B87D9DE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E1B00A-2216-4E97-8AC9-67FC1529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A2FE56-A1F2-4DB9-A5AE-AADD92C2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5B06D8-3791-40EC-BF7E-5A8AC381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BFAB47-77D6-49A4-BA8A-81E17B73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9D7C5-A78A-44D6-AE11-37DD590A0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A74710-2DAA-4458-ACCD-37A8F8C3C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867466-F1CD-4C46-8065-49ADD303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553CE5-AFED-4A2B-A274-D203D9653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5F27EFB-3A7C-4DD4-A494-833BF8F6B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7E9609-89E6-4300-8A39-E4409573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9F0FD6-E5EB-46F1-AB87-AF09ECFB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C6272C-CEE4-41CB-BCD0-CC46B147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ABAF66-045D-44ED-81D8-E24B2EAF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B78A61-CBC5-484F-A6E6-CE133D305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61148A-D6AA-4347-AD1B-A8EEE31E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C27CE-2901-43DD-A03C-827E899B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A84339-ADB0-4CAC-9E0B-1B269C1C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4CB096-7995-4153-830C-2BCEF068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F11FB2-8BB9-41B0-A2EA-C6C0DCCD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2DAD2E-7215-4B9F-9F5D-5C1944D1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39EBAA-4FC8-4C58-822D-221B714B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C3208F-D77C-408D-9927-448FAF7EF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01D2A1-86D9-4FEC-8F97-8991ABE6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447D4A-F30B-40DB-AD19-B660FCFAB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C86EEF-F94A-475B-A344-12E59561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190073-B612-4407-919A-489A3970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0FF35-E52D-45C2-A889-CA492427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2435A0-989A-4227-A6EC-F1907595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937BF2-A885-430F-B666-EC6D9C84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066AC1-94E8-4CC5-A0DB-7904470A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DFC125-D272-43FC-AE53-B0B6CFED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1DE039-A52C-44C1-8863-88693E7C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063CFD-925D-40D5-BB79-5E7100E0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F4E876-FC22-42F2-83BA-5DF408684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D61659-6FA1-4B05-8AE7-181996E0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2073B8-0371-4ED8-A029-8D556F35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125A73-795D-4D31-BE1D-0CF645749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BCF38-BD3E-4D41-9394-50714FF6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F5C354-A315-43D8-89DA-86FE1153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8D16CF-7BC1-4F9F-907D-ABBA0A81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6E255B-91C9-4954-96A8-EA3242221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1D8C95-EF97-4F35-95A6-A3AD58C1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FCC718-3A54-4724-B767-4B10CDEA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B58541-F79F-421E-8588-21A99B0E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E11BE3-09A7-4E3B-A130-DF66D126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1CF61B-0880-4CD3-AF09-45B6B44B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15B153-B52C-4417-9C74-0DB61516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611B7A-C444-478D-ACBD-F5DCD2CA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AFAE-F877-4318-92EA-6F1E753C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546B66B-5845-4F6C-A7A4-48032F52C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A28A4D-1712-4850-94C1-8E309491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55E113-CA15-4016-9C42-6AA6F10D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4C426D-FDA8-47A7-8D7F-EAE997B2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24CAA17-7980-40B3-B42F-95CA15CF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197BA3-9A91-4FCB-9DBA-432F83AD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59491D-B578-4CEF-A2A4-64739806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310BAB-7027-429B-B945-7A0176EE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82DB5C-8404-4828-A14A-8F891CDF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3DD927-8B38-462F-AA1C-5A9F548C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D558-FF91-4BD5-9DE3-05B85540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34364-07E7-4417-A8AC-ABC522D8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4EBC45-2D47-4BB5-8210-5A9F9E2B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24C67-0AC8-4C38-A48C-AF553653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4966F-0540-4994-9B69-A2657191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656BC5-0BDA-474A-B332-E67127FF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62579-9DB5-4C31-9579-E6E150E0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37C57-DEB0-473D-8E58-7D8AD74E9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FB2D9-4171-4C38-864A-4C525BAF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C0B254-12A4-4C76-8E23-0030F449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5DA67-4D2A-4E8A-BF34-4E28E911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49675-F8BC-47D9-A491-3D24AE68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8A38-E595-43F3-8746-B64549C8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F350D-F4C6-446B-975C-EC73B4C0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CFBD7-EBCF-4015-BB45-4F02E04E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C9093-7C27-4C6D-8786-E0324E5E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6B267-4D18-496F-BB93-567ED266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3C970-92EA-40E7-9A81-53F7BAEB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62AAA-3E4F-4DE6-8CBC-02589683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FC43C1-3CF5-42B1-A40F-465B589EF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2215A-06B4-4102-941D-E9E32A2F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B093D-67E2-4482-A0E8-5AA465EE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7E222-4BE3-46ED-B09E-9D562311F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41E-F9C4-4543-9E76-4EE30757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53ADA-838C-4B24-8402-A6606A514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CED32-5AC1-4FBC-B920-F4451C5C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AB964-50D7-4C06-B4CA-9ABD75F3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59993-4206-4133-A788-E2847B17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F6876-750A-4C08-A7CB-34A040B2D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0E452-4E64-4B6F-B1DA-6CA607EA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EA910-1C6F-46C5-8E96-44B8B86A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A94BD-EB04-452A-9082-365B19FC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394F5-4DA3-4C40-A82D-15C7CF91B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715AA-9033-4BD7-B790-4660947D2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137E-D18D-40F8-94F2-A13314CF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94CFF-951E-4837-8994-250D2A48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560C6-3F77-4BFF-BBD4-F912C446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E2EEC-F074-4080-90EE-3A066C30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E9CF9-7070-41BD-A1EA-B8BDF286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13D68-1E7E-405F-9329-E9C77B35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BC99F-B79C-46BE-A6F8-14426020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71B7D-6EB5-4BD9-8A0A-8CFC4B669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E39F7-00D8-46B5-9E8A-3434393D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9E70F-0B4D-4DE8-998E-B245005C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EE8C9-F491-4DEC-A5A6-30E9FC3B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07D-3574-41F3-89AB-6C14F0BD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88BC5-DCAA-4C0C-9E2F-6D772F54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460FD9-59A9-4BBD-8233-49A7E137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EC9AD-C77D-4772-9E6A-95CE9640E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07E6B-12F2-4499-AED2-A907B4E4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7F87D6-9FCB-4F86-9866-3A0C86BF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FC669-E857-48BD-8812-87E4A560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ECE45-F5DE-4929-83C6-02F817C9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129E8-E9DE-4A54-AFA5-638BF5A8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C90975-2EA3-48C8-9210-85706E9E7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7CE17-1FDA-4D34-A74D-83E7896C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DCE6-27F8-45EC-8955-7EA6291C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246ED-1703-4CD5-BA7D-4E8E633D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F6F1F4-4529-4146-AB25-922A495A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4B1DF-BC27-45BC-956C-54F5B364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BC4B89-20C0-4CBA-99E7-B7DC0BC5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73BB29-387C-46AC-99D5-DFB545C4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50AAA-98E1-4981-86E8-177EC56B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98D8F-E140-4FAD-8468-29E23E390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2F5C4-B70A-4CA4-897A-B9A9F6AE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C2342-76E1-45B2-8AFD-80A54A8D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3FC67-CA53-41C4-9864-C61E31B6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6F4-0370-406E-A4CE-3EB0EB72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764AB-38CC-4F34-8EF5-671DD5EC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2F2F7-83B3-4802-9600-E196978A1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664460-B4FE-49FF-BFDD-7BA989CE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248F2-59B0-45C5-9A5B-549B12F2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1428D-8CEB-4583-9AF0-D2D3B356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ED4D2-E755-4F16-A25E-7399D874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FF45D-D162-4D0C-B0AA-DEC22F9A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870A32-28E8-4FA7-BB50-9FA5E602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2B250-BD04-4738-923A-439C707D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7C3AF-915D-4AB3-B58D-9EFAA092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8474-5853-4E02-9548-3BBDBAE41719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7D54-A790-48C4-9BC7-D248D86D65A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3FDB-973A-4975-A2F3-557939F3C596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F2FF-61F6-4086-87FE-8E449B0ED93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9E483-CA27-44C4-A4C2-975C8B0B149B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7F95-D35E-4BDB-81BB-2895C7E50D93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C58F-AB3F-4C0C-A819-403A3CE80D2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1335-78BB-444F-B7FF-1094372C3CF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2A28-CD14-4A1A-B67C-A2BDECA764BE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E949-D16E-4FEC-9F41-D8045FD05DD3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598D-7F5E-409D-BFE4-24B8E670F1C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CF06-B33A-4308-A9AA-F1E6647C4A5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5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5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6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B679-5699-49FE-99F7-AC84B0C3F3C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dt" idx="6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 type="ftr" idx="6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 type="sldNum" idx="6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EEE5-8C86-4D41-9AC6-E87D86841130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6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6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2FD1-F13A-4CA2-BDC5-FA879DE2049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6047-43FE-4AA8-8E4F-E35A0BA62A5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7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7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7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5F23-EC2D-4ACA-A448-487756D7751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1115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8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1119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1123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7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7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7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7348-036B-4906-BAA6-F2CC79A6415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8283-EEB9-4FE1-96FD-5D84A499808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A3CB5-B792-4DC7-828B-1E0140E34AF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97D0-671F-4FAB-B9EF-97A9AF815D7D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8709-3BF7-47E8-987D-65E26AEACFB4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6780-5C66-4D0D-BBC9-4B6893CDF77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CE4D-93CA-43D4-81A9-6E15E18C73BF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6ABF-BE9E-47C9-B5DD-5C51386198D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Title 1" descr=""/>
          <p:cNvPicPr/>
          <p:nvPr/>
        </p:nvPicPr>
        <p:blipFill>
          <a:blip r:embed="rId1"/>
          <a:stretch/>
        </p:blipFill>
        <p:spPr>
          <a:xfrm>
            <a:off x="2206800" y="2225520"/>
            <a:ext cx="4670280" cy="255924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3467160" y="5181120"/>
            <a:ext cx="22096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Kate Bierschwa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9" name="Picture 2" descr="http://www.tsuda.ac.jp/en/img/img_college_top_c.jpg"/>
          <p:cNvPicPr/>
          <p:nvPr/>
        </p:nvPicPr>
        <p:blipFill>
          <a:blip r:embed="rId2"/>
          <a:stretch/>
        </p:blipFill>
        <p:spPr>
          <a:xfrm>
            <a:off x="2743200" y="0"/>
            <a:ext cx="37339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1172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thematics and Technolo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learned how to make formulas in Exce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2" name="Picture 2" descr="http://homepage.cs.uri.edu/tutorials/csc101/pc/excel97/images/excel1.jpg"/>
          <p:cNvPicPr/>
          <p:nvPr/>
        </p:nvPicPr>
        <p:blipFill>
          <a:blip r:embed="rId1"/>
          <a:stretch/>
        </p:blipFill>
        <p:spPr>
          <a:xfrm>
            <a:off x="2514600" y="2895480"/>
            <a:ext cx="380052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ffective Develop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learned more about friendship when I wrote about it, and about my own troub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ecision Mak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y 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hardes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decision was what college to go to, and  wh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hough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about  what job I want and colleges  taught it. It was important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1:20Z</dcterms:created>
  <dc:creator>ITSUser</dc:creator>
  <dc:description/>
  <dc:language>en-US</dc:language>
  <cp:lastModifiedBy>ITSUser</cp:lastModifiedBy>
  <dcterms:modified xsi:type="dcterms:W3CDTF">2010-02-10T20:46:47Z</dcterms:modified>
  <cp:revision>6</cp:revision>
  <dc:subject/>
  <dc:title>My college Planning Reflection</dc:title>
</cp:coreProperties>
</file>