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sldIdLst>
    <p:sldId id="256" r:id="rId27"/>
    <p:sldId id="257" r:id="rId28"/>
    <p:sldId id="258" r:id="rId29"/>
    <p:sldId id="25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1347-BE30-423D-BE80-8A59FC2D9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26D4-BE9C-4F88-855A-6E8FAD0B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401DF-3E8A-4976-9A06-EECE92B17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D6FDF5-66BD-4420-B90F-A09BD9373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6D7BFD-7456-49AE-8249-BA98A3FD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4029E-5494-45EB-8DB1-FF0558DB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A80D05-FDC9-465B-AF69-954DBF32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713CDB-38B6-4764-B3C9-503D7C15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72916-2200-4366-94B8-730A7DBA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2A97AA-1517-434F-BD9C-171A0B7B4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98962C-C65F-4A1C-9553-8D2C9A4C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58092-B771-4D3E-A04E-E04D7494A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876-0F36-4E1E-96CE-8A3093866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079884-521F-4589-953F-579AE242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B25B73-D2B5-4A60-AD25-DABFDA47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199822-FBAE-4DD4-AE9E-37B969F8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36980-9DBF-41CA-9740-6031CA74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490BF-8DB7-46C6-8BAC-57EC5405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F0DE7-EBC1-4BA9-8D99-7C9A58E6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C0C74D-42EB-44E1-86B8-7460FB7B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AAEE6-0A90-4422-86E1-B170B9C9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A274A2-9A9B-40AA-B5A5-3A91B803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529CC-B167-4838-999C-7AC4A5C8D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0A85-876F-49E8-A4DB-811841E3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DA781C-EB06-420B-B26F-4541BC3EF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2CA59-40A6-40C6-9C6F-7383153C9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2AF5FB-CD2A-4352-BCE0-FCC3502E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DD7D58-E573-454C-8029-B39D816E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F7AF9-560D-416D-879D-1E1F3151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A1CB3-820A-471F-9F43-A922EF9E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073FCB-7B8D-4D18-A41E-BA8721FD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C8552F-AF98-410F-9190-E4B09130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CFE60-B569-40A8-89B3-3EE88A76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7ED82-05BD-4695-84A9-4743EE145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7229A-A58B-4B52-8D68-7790DF8C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C739EA-8F04-444D-9717-A9B05BD3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75DA39-35E3-4E58-898C-C5D46C6A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578CC-B195-4168-9A54-2A2336F5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A5452E-7E8A-4CD5-ABBD-4AE6FADA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8C4B4-DCA7-4E7A-BD8E-977DF3504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101AA-BFCF-4F94-AC25-A69E5F4F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5B232-AFFC-4EBB-85F2-38F71A51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5299D-210F-48B7-9334-E6DA9D52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D5BC52-90EA-4311-8C80-30217FD6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22F6A5-6954-42BD-8AA5-B51F00056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9A225-F175-43CF-9395-6B5D02FA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668E52-DF89-4791-9A16-81376061A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384F7-221A-4420-AD43-53BB6EC7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E1172E-3A39-4E1E-A8C9-EF032849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01123-E26F-4F40-9944-9FCA57EA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5B7AC-E25D-4215-8AF5-06FAAFBBE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B7E89-0167-498F-9BF8-1502BA235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72A5F8-ED6D-4642-B940-4BE368E9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627489-6297-472B-8300-9FA945772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58E6C-E665-4D1F-A5FF-327343AF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B5AA20-22E5-4388-B0F7-C5D8EE8F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EC6C-CC59-4882-83E1-6ED3DB21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91A7B-FFD3-478C-AFF7-8C8FAB7C0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0D4AC1-24AD-4C9F-82F6-D9EF0933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A0E87-EB00-40CD-986C-C1B0FF9F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A1FDD-AE40-407E-9C7E-333DFE86E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420CD-6D30-4182-B2CC-943B7EAF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142A9D-2AD8-45DD-9F96-419C7864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736A3-D5E0-40D6-8C38-5A5FB0E72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A258213-7C3F-4A58-AA5A-F665E1CFB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079367C-73DB-4D07-9D5C-D59C4DB0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D1D9FA1-058E-4344-ACC6-50E32DDC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E8A5-7209-4E2D-B174-3EE300FC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45A9EB7-9C81-42CD-A1C7-BE7423AB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67D0D70-7573-469D-B913-E0CE283B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AC8E3CF-11C8-445C-B5AC-51E094CCB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B2C9662-1768-47A5-A8DE-95E2E436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83F743A-180C-42CA-B519-003B452E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6C8754E-4256-4885-8EC2-D122175D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E86794C-292A-48D8-ABD9-4CDCAA354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FAE1AF-E314-4DF5-ACA8-0A94B911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8EF60F4-3776-4827-841D-2956FBF27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90EF45-7E45-4C53-9881-0F880E471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3FA4-5D49-4871-9924-4820BC700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BC04208-F55C-475E-8569-B71C3147A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CD61FC-2871-47C3-BEE2-5768C619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55B079-0484-4E33-BC11-EB4E7388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471C2CC-7798-47FB-B6DD-4F7808E4F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AD5FC2F-064A-451D-AF86-9E8CAD0D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C28262B-8622-45A3-9807-45B88EC7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88700F7-6EEC-4130-835C-6A9A8439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9578AA9-5DA3-4D8F-BBEE-D05653D8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E5AB960-A6D1-4394-8B3D-FF5016843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AFEFE2-8998-4FFD-8148-8FA50120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EB7C7-6E5B-4D29-AD07-BE8294890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DD46D4E-CDCE-4D76-8404-A0FF6168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D3DF0C2-728E-45BC-A920-F41288B4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CF7C3E0-C7A7-495A-B79E-1D63FFD5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85C03EE-5427-49EF-B742-BD7FDAE1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6DD3167-1300-48C4-A3AC-006F3655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5D71F21-D080-4E59-9E45-378C9593A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738CA01-1E88-4F08-93FA-8EED3A914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8811C47-B042-4823-889C-471E880E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1327F24-9CE6-450B-A338-56CB7978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A4F5905-AEE0-4FAF-B551-CCAF4215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9C7B-952B-403A-87B1-74413A17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0816A5F-D98B-43A0-AA85-B4EE8EB1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2B7F57F-0995-4913-9EBA-4D48FE9A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06B1E0F-7C14-4DA4-9CE7-5B86DE86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581DF4-DC53-4997-B828-B624ED98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77D1C9-9E1B-47ED-AA0F-ED6155BA8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551FB1-A2BF-4D9F-8163-262CE677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929A98-D513-4909-B4C1-9EE3D912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E95334-C50F-4170-A673-28DB23BF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209E59-4EE0-4160-BF48-E61E642D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70DA9B-7EE8-4EFE-A78A-6010F391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F7C8-0E18-4350-AE17-EE9DFA486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8688-C25F-4547-948B-1D5509D0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39A582-FCD2-4FE7-ACC5-CE350123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6879D6-B54B-4FF6-98C6-FD7C19DA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3955E6-74EE-4B41-A60B-C029B8F6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995154-BEDD-47F0-BBF3-8EDBFD82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90BBD8-FB8E-4FDE-9BEF-75BE7AAC6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34D9E60-FDA0-4B7B-83BD-A0A65605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542EF33-3DC3-4468-9440-F61BCF41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6193724-817D-4B23-8F15-B5016948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51FAD61-E857-4293-8C47-F439017B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0C53A90-94C6-41E5-B810-DF70358F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37484-AA53-4092-ABFE-F10210AC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F300D6F-C5ED-4A52-98A0-A6EFEA04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DCB97A3E-10AF-410A-A0CD-249AB200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7216214B-90C6-421C-AB97-DB406BF6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4CBD707-455E-49E9-829D-E35FA623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2BA66726-EF3D-4965-81EB-F286A151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7F73C53-0545-4C8A-A889-66E280F5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765B6B3-7420-4108-9ABC-B07D7A0F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AE5864-3BAD-459B-B023-680CD99E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1152F6-D11C-46A3-8F88-93C47B5D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E543D6-A104-4F87-986E-627753F4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538C8-AD1C-4230-963B-18092D2D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4525E0-EF5D-4BAD-8FD8-FB530D2B4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9DC08C-E168-4457-8AA1-7806F8F8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9D109A-1D83-417F-81B1-AC58E865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A7E480-89C0-40DA-A4D1-3F6E00A5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52729F-8F26-4E70-9110-89DA1EB3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9BF8C3-AB56-4864-BF04-A3F43607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2E359F-EC7D-403C-BE5B-6DF0043F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454E6A-76D4-426D-82B7-51D5FBC4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8571D3-E285-4FD9-BEAB-835FAEB7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1F3B49-0470-4B47-B545-854511F8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8E1B-0A83-43E3-8FA9-25A3C485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54D977-C3E7-41E8-8D96-739D8B5B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F30A4B-DA9F-46E0-A8E4-0313E93D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BED3D1-48A6-4318-85B0-23D3D5ACF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26AE15-5E5D-4B86-A2F4-486E49BE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18A9C9-7E30-45E8-816C-A055DADA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4C0446-A3C8-4A7F-8AAA-7BC548AC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C3DD34-A01B-4CDA-9B8C-92BE5F68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BA5599-66B2-4B95-BC01-C2DEC1D0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0D332C-4AFB-404C-9B64-161345DB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E817BB-4387-435E-B3EF-0AA369711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A4448-9848-483C-BB3C-E1C53739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115610-6955-434A-846C-8054113F0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A53A74-B031-48EB-95A9-8FE971F8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282219-45D2-46DF-AA42-45049FE0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B4914E-73C6-40A5-B3FE-70F0B421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256B57-EB54-4993-9714-F594E436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975B82-C0AF-4503-A957-8E4BF2EC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AFA806-530B-4237-A486-1B4BC4DE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1521BD-DAD4-43AF-B179-9C4BB80D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6BD1B4-9537-4F24-A47E-91C1DA7D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82D58A-EFC8-4633-871E-7A43E475F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6B67C-9EAD-40A7-94D7-8B13A78DE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EFE697-11EB-48E3-BA77-E1341387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493EA2-43F2-4A2D-A148-EA460F0A7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97C416-6489-43F1-9BB7-68F9E5DED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5DE0769-25A1-4386-AE8F-E32E214F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658249-3078-4407-9EF3-42B4742D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4E59E6-4F6F-44E5-822F-D728C5CF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30D3B3-6149-4901-B57C-17B91A0A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57797D-3306-466D-874E-1F362F4A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FCC49A-C89D-44F2-846E-08174FF4A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70CC9B-EDC7-4C49-BD8C-087A2A04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EC23D-113F-4B50-B850-ADDF7102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C8A9AB-7BF9-416F-AC27-93C91AD6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A1DE8B-B566-4090-B1B1-AAA68C55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30B1ED-47CA-4EDB-90C4-281CCA681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67E6C7-E050-4917-924C-CD6BA0D8C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6E596E-B10A-4184-A340-19C6DE0A5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90F7FB-2B4B-4915-866C-CEF5E42B9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2679A0-1802-49FE-A490-D8BCB0D8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929FE3-2919-47B9-A8A7-B051367E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B6FB53-BF76-45CE-ACC7-CA28A185F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EBC9B2-CC2C-4270-8417-239DBD0F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105D8-9520-4032-A3EC-AA60880B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5FBC87-03D1-46CE-B1F6-7B05B926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837B10-0A2F-4038-9C75-9B12A67A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F3BBD5-22D5-4008-891C-72049F48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DE2B543-C565-4E24-9F13-3FD6B98E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204BA8-DAE3-4224-887E-99D44CC4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80585B-69B7-4CB7-9EFB-F75397422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3D27E8-5918-417B-89F0-AEB8E57B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D2E476D-E4A6-470F-BD6A-CCEE1065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A840F9-D5BD-4E0E-881D-AB16C6457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45B7869-D427-44D4-B719-D5C200EF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C644B-A7D7-46E4-94B0-6AA5D784D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AB1001-2CCF-493D-9C52-B53CF0D45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7E91F4-558E-46CA-B3C1-3659127A3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6AF02AC-CADD-47AF-B3C7-D8BCFF36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FDA5F3-0B74-4A48-B940-FF9E3FC8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CB99D0-6784-4DE5-9189-FB1A1E1E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CCCF5D3-92B6-4B93-BD75-C2F6FDF2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DA175D-582B-43E0-90B7-008272A0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BFF1A81-40AD-4753-A89F-2EBDC3194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2E5CDA-7C23-4C68-9158-D1B58819A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F9A89E0-5058-46C5-8D78-DC11A210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F0E1E-4F3B-49BB-973D-8872B0F2C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74BECA-98C3-499C-A5A4-750F2E9B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473AC5-629F-4522-84C7-691FC318D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A9B8B4-98CA-4468-8580-E4912EC1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75C7AA-B6D7-4024-BC59-EECB8D68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12A7EE-4D4D-4BB0-9672-0A241783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D27DE41-00EB-4711-B7E0-587816DA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FB23048-257E-4451-9477-8813133E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E41EA7-8BC3-4FCA-BE00-CFC9052D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C07E27-06A9-477B-BF72-B3C120D9C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CD2B25-489A-420C-B47F-3E78B173C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2BDB-40CB-4C57-8C3F-A3CBEECD4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EE2F2-4C93-4289-BA09-93BAB98B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B94D5E5-AC35-4E3B-B31F-F0CB7322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0C10D-A717-4CBD-8FD8-E80DBCB5C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8CF4C-A2F8-46FD-B95F-78DFF616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FBCFB-68EC-4BA7-AA0E-FED24900C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5918A-C045-4152-906E-E9BA8AA0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4BAF4-EEDC-4DA7-902D-B19A41D34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A0461-471F-45F0-9D10-E338A0F5B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69452-F326-47C9-9C54-5382F721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CEC57-2292-4578-9288-7D585779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31985-6DE2-4D59-AC28-A9E4EC9C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6E73-A763-4E52-BFD0-EED3C503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1E6D0-9CCA-4C54-9336-DA7E3B18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93E07-C54A-4878-9442-8B5EB3A4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4A78F-6D71-462D-B0F6-2ECB31BF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2D1B1-9AC3-44B5-8688-5FA4C77A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8535D-C1B9-4AEC-92A0-7F54BA2E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CDD2F-503C-4A9C-811E-71759D34F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DA5CC-D6C7-4D62-8F45-619E6B5E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A4D68-26F9-44E4-A0CC-FB256EA9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E569E-02E8-4D75-8159-7A27FBF89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3F449C-18DE-4EA9-B5B1-03262ACE0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C26E-E375-44EF-B360-07A7CF376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B9F43-30B0-4266-A273-C8F5CD0D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F9D05-6AC8-4EFA-8F51-FF5C1E00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C16D0-146B-43A4-BF05-E3860EF8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082CAC-A02A-48C9-AFF8-C3D5BC88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AB444-BE73-4EB8-A231-14471607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07602-0A80-4706-9D92-D686EBFC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0CACF9-4902-4F67-AB00-DBFED1F3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877244-535C-4F12-838D-4D6553C4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A6570-5FB9-438F-A25D-89D02A6A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433A6-2FEF-442F-8473-50EC3E88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270-36EE-425D-8FF4-9D15CFB9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43A51-B373-4CBA-AB63-F27E2E5E7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ED1F2-7B83-4C1A-9B69-B038B28E0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1E3DA-B0B9-4ED7-BCDF-DFCCEB56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B29F94-8D76-454E-A303-44618702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089EBD-056B-41CA-993A-2A978F2D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D877C-AB93-4B26-BBE9-D2FAB9E8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339CA-95E6-4036-90A4-8DB434C2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098AC-51E7-4DBF-9A9F-8D68204E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66DD37-0B43-401F-B066-8EC67F88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C72F7-5E61-4E1D-8B01-3032FAC3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65F2-A067-419E-8CFA-5C6C8BDF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F473F-8710-4A9D-A960-BBF16E1B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CFDE6-9597-45AE-88DC-161A7A58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AD810-ECB5-46A6-87C9-92A86EC7A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A8EAF6-56A6-4C34-A201-FD45C671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0123D-299B-426A-AC7B-71DEC3E0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1CB6AA-1698-4A5E-A0FB-584A73D2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0D6AA-24DF-493D-B5AC-15EC1DFE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945D3-CEC8-4968-A653-A3C165DF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6D94F-E741-40B8-AB10-7F425C1A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BC7A1A-4101-4B63-897E-AEA8DCD4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DF5-7485-44C0-AE04-24B38245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7FC90-7A53-4679-A6E5-0D14F504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3A382-0F8E-4DEC-95EE-B9920C13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DC414-081F-4395-90E7-2C900FC8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60715-9081-4CDD-8F8F-2A7A65B81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CE636-6F46-4C03-A9A9-7902785B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66F794-05D4-429E-A47C-C21B5A04D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30474-D375-4E95-A40A-358B13D2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87DFA-A958-41CC-9209-DE9C7444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9556F-808C-4B8B-896A-3C69E0E2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0EA8A-FDDA-4C38-A2D2-E086E8CFD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75A8-431A-49E4-B925-9423BCF0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EFFAB-41F3-4F47-9BC1-FAF08E9F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15BB23-2EB4-4B06-B76C-CC739885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F89FA0-ACC7-4A59-9DC4-C7E80859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352C1-42D8-438C-9CBE-91A92E443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49299-E530-42FE-806F-2CFFE1181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D108F-62D5-43C3-BC2F-22B98B4E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3D9A88-80D4-47AD-9A49-8A64D4DE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14B5F-C86E-45AF-B20D-CC90CAAA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B3FCA5-99D8-4673-80D8-41FBC4D2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DBC68-637E-4EED-95A0-2969712E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0DD0-48B1-486E-8297-B9443B3876FA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0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B875-E883-4A12-AACE-AE1680AF665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025F4-FA51-4A88-B046-5C8044053744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ECD2-7160-4D1A-BE4E-0786777AB6C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dt" idx="37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 type="ftr" idx="38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 type="sldNum" idx="39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FBC0-E082-4CB7-8282-FA2F2BA39BB0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sldNum" idx="4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A4661-ABA2-419A-A8C3-065A532ED589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ftr" idx="4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dt" idx="4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sldNum" idx="4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35618-5D92-47E8-9927-F467D1D5EF2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 type="ftr" idx="4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sldNum" idx="4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00CB6-4E96-4DED-95A9-4A3D0C651FF1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ftr" idx="4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4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5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5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2DDFE-7A79-4C45-8079-05E629375F5D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52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sldNum" idx="53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7C88-167F-4D75-B3C3-83D2494B5344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ftr" idx="54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5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6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7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446C-A38F-4DFF-AE2D-11BD9349C94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8F75-2218-465F-95B9-BBD0899DCA9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dt" idx="5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 type="ftr" idx="5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 type="sldNum" idx="6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E927-4DD0-433C-AD04-AADB3A1270F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8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 type="dt" idx="6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 type="ftr" idx="6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 type="sldNum" idx="6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A93D-7D90-4782-A163-7BD026CD214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6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6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BBA3-4B86-479D-A855-8A31EE70E11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CF988-3D05-4521-9297-41D1218CD6F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7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7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7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BA67-BB9A-4E31-95E1-4859BC5559D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4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1115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8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1119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2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1123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 type="dt" idx="73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 type="ftr" idx="74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 type="sldNum" idx="75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C3B9-CA3F-4C78-8C1B-7CDEA338FC8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860D-9092-4D9E-9760-B670735C7A4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C15B-5142-42A4-9382-9E31EB1D267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F2E87-71ED-4EA0-B003-A20681EEAC4E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6CC6-B04D-4EF5-B224-634CE3713E28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6EF1-A510-4D55-9BD5-62E79E81F156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4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27EF-49E4-4848-8D6E-0A8DF9BF6B8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EFCA-E3C4-4E31-886E-7E4443D21C92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7" name="Title 1" descr=""/>
          <p:cNvPicPr/>
          <p:nvPr/>
        </p:nvPicPr>
        <p:blipFill>
          <a:blip r:embed="rId1"/>
          <a:stretch/>
        </p:blipFill>
        <p:spPr>
          <a:xfrm>
            <a:off x="2206800" y="2225520"/>
            <a:ext cx="4670280" cy="2559240"/>
          </a:xfrm>
          <a:prstGeom prst="rect">
            <a:avLst/>
          </a:prstGeom>
          <a:ln w="0">
            <a:noFill/>
          </a:ln>
        </p:spPr>
      </p:pic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3467160" y="5181120"/>
            <a:ext cx="2209680" cy="118116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y Kate Bierschwal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169" name="Picture 2" descr="http://www.tsuda.ac.jp/en/img/img_college_top_c.jpg"/>
          <p:cNvPicPr/>
          <p:nvPr/>
        </p:nvPicPr>
        <p:blipFill>
          <a:blip r:embed="rId2"/>
          <a:stretch/>
        </p:blipFill>
        <p:spPr>
          <a:xfrm>
            <a:off x="2743200" y="0"/>
            <a:ext cx="37339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11728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Mathematics and Technology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I learned how to make formulas in Exce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2" name="Picture 2" descr="http://homepage.cs.uri.edu/tutorials/csc101/pc/excel97/images/excel1.jpg"/>
          <p:cNvPicPr/>
          <p:nvPr/>
        </p:nvPicPr>
        <p:blipFill>
          <a:blip r:embed="rId1"/>
          <a:stretch/>
        </p:blipFill>
        <p:spPr>
          <a:xfrm>
            <a:off x="2514600" y="2895480"/>
            <a:ext cx="380052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ffective Developmen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learned more about friendship when I wrote about it, and about my own trouble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ecision Making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y </a:t>
            </a:r>
            <a:r>
              <a:rPr b="0" lang="en-US" sz="3000" spc="-1" strike="noStrike">
                <a:solidFill>
                  <a:srgbClr val="ff0000"/>
                </a:solidFill>
                <a:latin typeface="Corbel"/>
              </a:rPr>
              <a:t>hardes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decision was what college to go to, and  why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I </a:t>
            </a:r>
            <a:r>
              <a:rPr b="0" lang="en-US" sz="3000" spc="-1" strike="noStrike">
                <a:solidFill>
                  <a:srgbClr val="ffff00"/>
                </a:solidFill>
                <a:latin typeface="Corbel"/>
              </a:rPr>
              <a:t>thought</a:t>
            </a: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 about  what job I want and colleges  taught it. It was important         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1:20Z</dcterms:created>
  <dc:creator>ITSUser</dc:creator>
  <dc:description/>
  <dc:language>en-US</dc:language>
  <cp:lastModifiedBy>ITSUser</cp:lastModifiedBy>
  <dcterms:modified xsi:type="dcterms:W3CDTF">2010-02-10T20:46:47Z</dcterms:modified>
  <cp:revision>6</cp:revision>
  <dc:subject/>
  <dc:title>My college Planning Reflection</dc:title>
</cp:coreProperties>
</file>