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44FA-AAF7-41CC-AB1D-4056E6FE9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ED5B-8FE9-4D3A-95C2-37D86A6B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639-E91B-4C0B-99F1-A38E0458F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2A73-DF75-45F2-8D67-9DA6C3B92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32A3-6C9F-4F9F-B3F6-3495E9CE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10C0-C3CC-4023-AE4C-F4623DC5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9296-10DB-4A26-BB63-40B7F916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4666-812D-431B-ADA1-DB00914B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049-2F0B-43DF-86A5-09C78402D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F4D9-99E7-4986-A396-893CCC65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B503-F94E-4101-B89C-B2976D0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1A2-AE12-41C6-99E0-7BBA21BFB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18D9-AC74-4BC1-BC4E-C28D715641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59200">
            <a:off x="678600" y="2096280"/>
            <a:ext cx="7761240" cy="133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ege Planing Project Refle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 rot="20662800">
            <a:off x="1371600" y="3876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Jesse Motsenbock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No Frames Button Animated Clipart&#10;&#10;"/>
          <p:cNvPicPr/>
          <p:nvPr/>
        </p:nvPicPr>
        <p:blipFill>
          <a:blip r:embed="rId2"/>
          <a:stretch/>
        </p:blipFill>
        <p:spPr>
          <a:xfrm>
            <a:off x="609480" y="8380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thematic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athematics I had to learn how to use Excel and find out what it was. I figured out by stretching my brain and trying to figure it out. I learned that you can program cells. Example C5 * C6= C26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New Button Animated Clipart&#10;&#10;"/>
          <p:cNvPicPr/>
          <p:nvPr/>
        </p:nvPicPr>
        <p:blipFill>
          <a:blip r:embed="rId1"/>
          <a:stretch/>
        </p:blipFill>
        <p:spPr>
          <a:xfrm>
            <a:off x="1143000" y="22860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the Technology I learned what my whole family uses all the, Excel. This was a new thing and it was my first time ever using it. My learning of Excel went through the roof. I learned how to program cells and how to use Excel in genera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5:18Z</dcterms:created>
  <dc:creator>ITSUser</dc:creator>
  <dc:description/>
  <dc:language>en-US</dc:language>
  <cp:lastModifiedBy>ITSUser</cp:lastModifiedBy>
  <dcterms:modified xsi:type="dcterms:W3CDTF">2010-02-10T21:17:29Z</dcterms:modified>
  <cp:revision>8</cp:revision>
  <dc:subject/>
  <dc:title>College Planing Project Reflection</dc:title>
</cp:coreProperties>
</file>