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gif" ContentType="image/gif"/>
  <Override PartName="/ppt/media/image3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C90BC-D81A-4EA3-BF28-EC5C2188E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588F5-4410-4540-808F-63889FAC7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11E3D-EDB9-4C9B-9A04-33C93B18B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083F8-943A-4649-8BCE-87A81AA93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CB650-54A1-4EB0-A9C6-D7FE08152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957DC-4FAA-48BE-983E-FD277BA97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14147-382A-42DA-B63D-CA6383FF8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E5BE4-5348-4FF4-8E9B-5C5F83D84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E08E7-BB98-4ADC-A2C3-63EC6CF55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7DEE7-3C1C-46E6-A708-022012390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35E39-4370-49E3-AEB3-2C8C151B5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7A81A-8BFE-4406-BF9E-362FE2D56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B0DC7-4332-49E1-A30F-AF47DB6CB0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 rot="20359200">
            <a:off x="678600" y="2096280"/>
            <a:ext cx="7761240" cy="1335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ollege Planing Project Reflec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 rot="20662800">
            <a:off x="1371600" y="38768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Jesse Motsenbocke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No Frames Button Animated Clipart&#10;&#10;"/>
          <p:cNvPicPr/>
          <p:nvPr/>
        </p:nvPicPr>
        <p:blipFill>
          <a:blip r:embed="rId2"/>
          <a:stretch/>
        </p:blipFill>
        <p:spPr>
          <a:xfrm>
            <a:off x="609480" y="838080"/>
            <a:ext cx="19051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athematic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Mathematics I had to learn how to use Excel and find out what it was. I figured out by stretching my brain and trying to figure it out. I learned that you can program cells. Example C5 * C6= C26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New Button Animated Clipart&#10;&#10;"/>
          <p:cNvPicPr/>
          <p:nvPr/>
        </p:nvPicPr>
        <p:blipFill>
          <a:blip r:embed="rId1"/>
          <a:stretch/>
        </p:blipFill>
        <p:spPr>
          <a:xfrm>
            <a:off x="1143000" y="228600"/>
            <a:ext cx="152388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chnology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the Technology I learned what my whole family uses all the, Excel. This was a new thing and it was my first time ever using it. My learning of Excel went through the roof. I learned how to program cells and how to use Excel in general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3T20:45:18Z</dcterms:created>
  <dc:creator>ITSUser</dc:creator>
  <dc:description/>
  <dc:language>en-US</dc:language>
  <cp:lastModifiedBy>ITSUser</cp:lastModifiedBy>
  <dcterms:modified xsi:type="dcterms:W3CDTF">2010-02-10T21:17:29Z</dcterms:modified>
  <cp:revision>8</cp:revision>
  <dc:subject/>
  <dc:title>College Planing Project Reflection</dc:title>
</cp:coreProperties>
</file>