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00E-4BFC-476E-8BF5-364AE244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1CA-8249-4030-94AA-8B331B7E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5F9-83BC-410E-AE51-3FBCAF97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F75-94C9-49BB-9627-A3702B8B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5A1-CECF-46C5-BAEC-6FCB0436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65B-0116-459F-B382-50CF5C0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CBC-5A99-468D-A44B-F8646838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348-C686-4BFB-95B9-BE57E72F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DB1-D92B-44DB-9152-589BB158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400-6FDB-4688-B52A-6619C144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DB6-6690-4933-A9E7-86B14FB1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31F-0C9B-4CF3-9E00-73F632D7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546F-E0D7-467E-86BB-DDB183E28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59200">
            <a:off x="678600" y="2096280"/>
            <a:ext cx="776124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ge Planing Project Ref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662800">
            <a:off x="1371600" y="3876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sse Motsenbock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No Frames Button Animated Clipart&#10;&#10;"/>
          <p:cNvPicPr/>
          <p:nvPr/>
        </p:nvPicPr>
        <p:blipFill>
          <a:blip r:embed="rId2"/>
          <a:stretch/>
        </p:blipFill>
        <p:spPr>
          <a:xfrm>
            <a:off x="60948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ema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 I had to learn how to use Excel and find out what it was. I figured out by stretching my brain and trying to figure it out. I learned that you can program cells. Example C5 * C6= C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New Button Animated Clipart&#10;&#10;"/>
          <p:cNvPicPr/>
          <p:nvPr/>
        </p:nvPicPr>
        <p:blipFill>
          <a:blip r:embed="rId1"/>
          <a:stretch/>
        </p:blipFill>
        <p:spPr>
          <a:xfrm>
            <a:off x="1143000" y="228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echnology I learned what my whole family uses all the, Excel. This was a new thing and it was my first time ever using it. My learning of Excel went through the roof. I learned how to program cells and how to use Excel in gener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5:18Z</dcterms:created>
  <dc:creator>ITSUser</dc:creator>
  <dc:description/>
  <dc:language>en-US</dc:language>
  <cp:lastModifiedBy>ITSUser</cp:lastModifiedBy>
  <dcterms:modified xsi:type="dcterms:W3CDTF">2010-02-10T21:17:29Z</dcterms:modified>
  <cp:revision>8</cp:revision>
  <dc:subject/>
  <dc:title>College Planing Project Reflection</dc:title>
</cp:coreProperties>
</file>