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7.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6B817-EA16-4219-9A08-BDF19EAC21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78A58-386A-4ADE-9286-120A3BD62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C9704-7F7E-4B2C-9C0B-95B3B49205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23EB99-EEF2-401B-8283-2BA510AAF4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F462A2-F85D-4118-98B3-2454C2296B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949FE-C2F7-457D-BB99-8264F486A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00A97D-2C65-48C2-8E34-9636D1804F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20EB06-8FF4-4661-B06A-EA1AABAD0E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6E61B-3C24-4751-91AF-C0E5AA5792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5A5378-433D-417E-9C8F-4B5714B0A3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DD92A-4550-4068-B7D5-0EE28D455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A6E57-BA74-476C-8AB8-0D8839FF1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CCD27-2DAF-4419-8DE6-C927D87781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51CFD-C615-4BE2-AF7C-7668C9918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E1D2B-2532-4289-A0DC-7C666B55B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699900-357B-4C29-A116-43D6D6EA47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0FEEB5-BF94-41EC-9EE5-98D1B70340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635F71-BFA1-4338-A0DA-57EA16379CE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783D9C-EDBA-4AEB-871F-6A829978C2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E74A4D-6B53-4C8F-A672-40F8DEE01D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E2E367-2621-4330-9416-CCC7B0FF50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3D7B8F-B303-4120-B53F-FC4C62AD16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0B84C-1B68-4BBD-8153-62B3D52B2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0B955E-3FB2-490E-BB9E-8308B196CC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071FFB-D32E-4EC5-8573-768D6C94B4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6F57DF-A585-435A-95C4-B4C56F45FC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D59504-4F3F-4DC5-B4EF-8678B33348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750197-C49D-4003-A826-F9681E9E52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3546DF-2DB7-4A38-AF59-6042F11360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C9C637-5B17-453E-A56E-4A1D5B9A19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80D0CD-D078-42D0-9AB7-A5579CA495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AA76D3-0E8F-462C-AD4F-7489B5DE93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0627F6-F424-4035-88B8-B189A2FADD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78D0C-8CDF-4757-BF19-12FA3D781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D1404D-1AAF-42CC-8060-A4026F4868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F5EAF4-A18D-43DC-BE56-AF6A785AF6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F2E9D3-07D0-4BF5-BF4C-DDD06D7E39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68E934-6440-41B4-B95B-8A9BECE496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7F3D30-A61E-490F-BF38-5A7B69804D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DC43E1-8B53-4439-B24B-DC43910D4B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D66825-8729-4C6A-BC55-F6820F586C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CD5E4F-6B57-4D63-84B3-841E567931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9F0D70-D7F9-405E-A003-5F4342406AF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ED38DC-1D66-435B-8439-4942D502DE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C616E-ED40-4213-A6C8-A02060E48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C8B2EF-8A29-4F53-9348-8C2C775D5F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C2188E-9445-4F9A-9344-101C7D8F56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D96022-AD12-497B-A23B-058406D4B4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59B0E0-1531-4409-928D-9EF8C9237A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1ED61A-CA4E-4C87-A800-64B63EC8DD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B8D895-015B-4CF8-BD91-6985E1C1C8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671C92-9231-43FA-AFC0-9DFCE902DC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945B63-73D1-4DFD-9FF8-E369B90697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E5CEE0-8992-4C1C-B827-0CE865E0AB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516B84-1D31-4ADD-B40B-6C03204F04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BC710-6761-47D3-8D67-3FFFB4274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0DA148-1769-4EE0-8191-A3A9271BAB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9CACEBD-C118-4E17-9530-ABFFF139374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E0D1C5-4D84-4BAF-98AA-B5B3FD4A5B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5D63FA-C2B0-4BEA-834F-E8B83FB86F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9D4629-5267-4E69-A460-D42536BD08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E09A55-B3FE-43C6-A9D1-4F93596880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ADB6FC-9941-4128-9A3A-1D8862888F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2B863B-E8F1-4945-9838-6176D20612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E2DE9B-DB7D-4800-913E-FC420839ED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068796-080A-4CDF-8969-EAF5411C4F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C49B4-9650-4E43-8A98-099E8F1032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BE638C-EFED-449D-809D-150185F39A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63514B-9442-40D3-A9C5-26295FDBE4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617291-A448-4D16-84D2-EAD8ADA104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7A32C-3A2D-4135-BBD7-266468DD8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4C42A0-174A-450C-A328-E6B9A7C475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01F90-9B8E-4AD0-B17F-ACFBDAA7D821}"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3CCDA-DF31-44B9-923B-84D3334F7DE1}"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6D9C4-0D9C-4F21-AE4B-447546E11439}"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23DFB-D97B-4E04-A688-3EA809D3963F}"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7748-9AD1-4202-8DA8-83F659230D13}"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F2454-18A1-40E5-BE05-2FB81EAD47A2}"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Box 1"/>
          <p:cNvSpPr/>
          <p:nvPr/>
        </p:nvSpPr>
        <p:spPr>
          <a:xfrm>
            <a:off x="1676520" y="990720"/>
            <a:ext cx="579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df56"/>
                </a:solidFill>
                <a:latin typeface="Arial"/>
              </a:rPr>
              <a:t>College Planning Project Reflection</a:t>
            </a:r>
            <a:endParaRPr b="0" lang="en-US" sz="2800" spc="-1" strike="noStrike">
              <a:solidFill>
                <a:srgbClr val="ffffff"/>
              </a:solidFill>
              <a:latin typeface="Arial"/>
            </a:endParaRPr>
          </a:p>
        </p:txBody>
      </p:sp>
      <p:pic>
        <p:nvPicPr>
          <p:cNvPr id="255" name="Picture 2" descr="http://humanities.osu.edu/departments/images/u_hall_autumn.jpg"/>
          <p:cNvPicPr/>
          <p:nvPr/>
        </p:nvPicPr>
        <p:blipFill>
          <a:blip r:embed="rId1"/>
          <a:srcRect l="22798" t="4163" r="25202" b="10413"/>
          <a:stretch/>
        </p:blipFill>
        <p:spPr>
          <a:xfrm>
            <a:off x="3314880" y="2666880"/>
            <a:ext cx="2514600" cy="317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Box 1"/>
          <p:cNvSpPr/>
          <p:nvPr/>
        </p:nvSpPr>
        <p:spPr>
          <a:xfrm>
            <a:off x="5562720" y="838080"/>
            <a:ext cx="2514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f56"/>
                </a:solidFill>
                <a:latin typeface="Arial"/>
              </a:rPr>
              <a:t>Mathematics  </a:t>
            </a:r>
            <a:endParaRPr b="0" lang="en-US" sz="3200" spc="-1" strike="noStrike">
              <a:solidFill>
                <a:srgbClr val="ffffff"/>
              </a:solidFill>
              <a:latin typeface="Arial"/>
            </a:endParaRPr>
          </a:p>
        </p:txBody>
      </p:sp>
      <p:sp>
        <p:nvSpPr>
          <p:cNvPr id="257" name="TextBox 2"/>
          <p:cNvSpPr/>
          <p:nvPr/>
        </p:nvSpPr>
        <p:spPr>
          <a:xfrm>
            <a:off x="6019920" y="1981080"/>
            <a:ext cx="16761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learned in Excel how to add the formulas up with SUM in Excel and make every thing  fit and give the total and see how much I’ve spent and how much to spend for college.</a:t>
            </a:r>
            <a:endParaRPr b="0" lang="en-US" sz="1800" spc="-1" strike="noStrike">
              <a:solidFill>
                <a:srgbClr val="ffffff"/>
              </a:solidFill>
              <a:latin typeface="Arial"/>
            </a:endParaRPr>
          </a:p>
        </p:txBody>
      </p:sp>
      <p:pic>
        <p:nvPicPr>
          <p:cNvPr id="258" name="Picture 2" descr="http://www.nassaulibrary.org/hewlett/math0011.gif"/>
          <p:cNvPicPr/>
          <p:nvPr/>
        </p:nvPicPr>
        <p:blipFill>
          <a:blip r:embed="rId1"/>
          <a:stretch/>
        </p:blipFill>
        <p:spPr>
          <a:xfrm>
            <a:off x="1066680" y="1371600"/>
            <a:ext cx="3505320" cy="294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Box 1"/>
          <p:cNvSpPr/>
          <p:nvPr/>
        </p:nvSpPr>
        <p:spPr>
          <a:xfrm>
            <a:off x="3581280" y="76212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f56"/>
                </a:solidFill>
                <a:latin typeface="Arial"/>
              </a:rPr>
              <a:t>Technolog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60" name="TextBox 2"/>
          <p:cNvSpPr/>
          <p:nvPr/>
        </p:nvSpPr>
        <p:spPr>
          <a:xfrm>
            <a:off x="2209680" y="1600200"/>
            <a:ext cx="4724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ing Excel fit for my college planning so that I could  have a grade. The technology skills that I learned where making words in it and adding up all the formulas to make the total. But when I had troubles I would apply my knowledge and remembered how to make  the formulas fit.</a:t>
            </a:r>
            <a:endParaRPr b="0" lang="en-US" sz="1800" spc="-1" strike="noStrike">
              <a:solidFill>
                <a:srgbClr val="ffffff"/>
              </a:solidFill>
              <a:latin typeface="Arial"/>
            </a:endParaRPr>
          </a:p>
        </p:txBody>
      </p:sp>
      <p:pic>
        <p:nvPicPr>
          <p:cNvPr id="261" name="Picture 2" descr="http://www.gtchs.org/Departments/Departments%20Page/Technology.jpg"/>
          <p:cNvPicPr/>
          <p:nvPr/>
        </p:nvPicPr>
        <p:blipFill>
          <a:blip r:embed="rId1"/>
          <a:srcRect l="0" t="0" r="1887" b="-1027"/>
          <a:stretch/>
        </p:blipFill>
        <p:spPr>
          <a:xfrm>
            <a:off x="3079800" y="3886200"/>
            <a:ext cx="29844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6" descr="C:\Documents and Settings\Twlab\Local Settings\Temporary Internet Files\Content.IE5\PA3E1U01\MPj04423100000[1].jpg"/>
          <p:cNvPicPr/>
          <p:nvPr/>
        </p:nvPicPr>
        <p:blipFill>
          <a:blip r:embed="rId1"/>
          <a:stretch/>
        </p:blipFill>
        <p:spPr>
          <a:xfrm>
            <a:off x="4572000" y="0"/>
            <a:ext cx="4572000" cy="3048120"/>
          </a:xfrm>
          <a:prstGeom prst="rect">
            <a:avLst/>
          </a:prstGeom>
          <a:ln w="0">
            <a:noFill/>
          </a:ln>
        </p:spPr>
      </p:pic>
      <p:pic>
        <p:nvPicPr>
          <p:cNvPr id="263" name="Picture 3" descr=""/>
          <p:cNvPicPr/>
          <p:nvPr/>
        </p:nvPicPr>
        <p:blipFill>
          <a:blip r:embed="rId2"/>
          <a:stretch/>
        </p:blipFill>
        <p:spPr>
          <a:xfrm>
            <a:off x="0" y="0"/>
            <a:ext cx="4572000" cy="3049560"/>
          </a:xfrm>
          <a:prstGeom prst="rect">
            <a:avLst/>
          </a:prstGeom>
          <a:ln w="0">
            <a:noFill/>
          </a:ln>
        </p:spPr>
      </p:pic>
      <p:sp>
        <p:nvSpPr>
          <p:cNvPr id="264" name="TextBox 1"/>
          <p:cNvSpPr/>
          <p:nvPr/>
        </p:nvSpPr>
        <p:spPr>
          <a:xfrm>
            <a:off x="2895480" y="3657600"/>
            <a:ext cx="32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f56"/>
                </a:solidFill>
                <a:latin typeface="Arial"/>
              </a:rPr>
              <a:t>Affective Development  </a:t>
            </a:r>
            <a:endParaRPr b="0" lang="en-US" sz="2400" spc="-1" strike="noStrike">
              <a:solidFill>
                <a:srgbClr val="ffffff"/>
              </a:solidFill>
              <a:latin typeface="Arial"/>
            </a:endParaRPr>
          </a:p>
        </p:txBody>
      </p:sp>
      <p:sp>
        <p:nvSpPr>
          <p:cNvPr id="265" name="TextBox 2"/>
          <p:cNvSpPr/>
          <p:nvPr/>
        </p:nvSpPr>
        <p:spPr>
          <a:xfrm>
            <a:off x="3124080" y="4826160"/>
            <a:ext cx="2971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has made my knowledge  of self go up because I learned that I'm pretty good in choosing stuff that I need even though I only got a laptop that does every thing.</a:t>
            </a:r>
            <a:endParaRPr b="0" lang="en-US" sz="1800" spc="-1" strike="noStrike">
              <a:solidFill>
                <a:srgbClr val="ffffff"/>
              </a:solidFill>
              <a:latin typeface="Arial"/>
            </a:endParaRPr>
          </a:p>
        </p:txBody>
      </p:sp>
      <p:pic>
        <p:nvPicPr>
          <p:cNvPr id="266" name="Picture 4" descr="C:\Documents and Settings\Twlab\Local Settings\Temporary Internet Files\Content.IE5\E3BLC9D4\MPj04392560000[1].jpg"/>
          <p:cNvPicPr/>
          <p:nvPr/>
        </p:nvPicPr>
        <p:blipFill>
          <a:blip r:embed="rId3"/>
          <a:stretch/>
        </p:blipFill>
        <p:spPr>
          <a:xfrm>
            <a:off x="6019920" y="4359240"/>
            <a:ext cx="3124080" cy="2498760"/>
          </a:xfrm>
          <a:prstGeom prst="rect">
            <a:avLst/>
          </a:prstGeom>
          <a:ln w="0">
            <a:noFill/>
          </a:ln>
        </p:spPr>
      </p:pic>
      <p:pic>
        <p:nvPicPr>
          <p:cNvPr id="267" name="Picture 5" descr="C:\Documents and Settings\Twlab\Local Settings\Temporary Internet Files\Content.IE5\E3BLC9D4\MPj04392560000[1].jpg"/>
          <p:cNvPicPr/>
          <p:nvPr/>
        </p:nvPicPr>
        <p:blipFill>
          <a:blip r:embed="rId4"/>
          <a:stretch/>
        </p:blipFill>
        <p:spPr>
          <a:xfrm>
            <a:off x="0" y="4419720"/>
            <a:ext cx="304812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1"/>
          <p:cNvSpPr/>
          <p:nvPr/>
        </p:nvSpPr>
        <p:spPr>
          <a:xfrm>
            <a:off x="3352680" y="137160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f56"/>
                </a:solidFill>
                <a:latin typeface="Arial"/>
              </a:rPr>
              <a:t>Decision-Making</a:t>
            </a:r>
            <a:endParaRPr b="0" lang="en-US" sz="2400" spc="-1" strike="noStrike">
              <a:solidFill>
                <a:srgbClr val="ffffff"/>
              </a:solidFill>
              <a:latin typeface="Arial"/>
            </a:endParaRPr>
          </a:p>
        </p:txBody>
      </p:sp>
      <p:sp>
        <p:nvSpPr>
          <p:cNvPr id="269" name="TextBox 2"/>
          <p:cNvSpPr/>
          <p:nvPr/>
        </p:nvSpPr>
        <p:spPr>
          <a:xfrm>
            <a:off x="3276720" y="2057400"/>
            <a:ext cx="2895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ost important thing for college I think was picking the right college. I made the decision because I was in a hurry for finishing the college pick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20:43:57Z</dcterms:created>
  <dc:creator>ITSUser</dc:creator>
  <dc:description/>
  <dc:language>en-US</dc:language>
  <cp:lastModifiedBy>ITSUser</cp:lastModifiedBy>
  <dcterms:modified xsi:type="dcterms:W3CDTF">2010-02-10T20:58:35Z</dcterms:modified>
  <cp:revision>7</cp:revision>
  <dc:subject/>
  <dc:title>Slide 1</dc:title>
</cp:coreProperties>
</file>