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7.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341D92-B314-4ED8-914F-C8A98604C4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C4AE4-C4E5-4ACF-8A9A-4AD8A0301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92CCD-BD7A-4CB0-9908-9FB14C48C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676129-E6EB-4719-8CD2-643A9DC747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4153CA-3561-4AD7-82BF-303456E79C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633F5D-8595-497D-B028-CB28E5EBC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D674ED-1EAB-414D-BD8A-E4299DA007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E54193-8F73-4720-8143-20D2E1A9EB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A32C8F-08D2-44AF-8C14-66C40EA3E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696B2E-FA10-46AF-BF4D-B2E5617585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BB330-09F5-4F2C-B4AE-4D09BE227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5C693-9353-49DA-9A19-F9D680DAF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F909A-B282-4176-98CE-08715B399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DE6B8-A882-450C-BEC3-59E9220B4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2D4081-9375-45DF-B104-A16E0755DC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933C3A-7B95-43F6-9C7D-E1242FF080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B46227-7D6A-4EB5-8B96-590206DEF4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127AF2-E90B-4998-BE34-BA98F8FDBE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9846E4-D74E-4ECE-B8E5-4434F86206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4FAA8B-E98D-4E08-BFBB-3401710664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673605-DDCA-4291-9235-F6B27D2A96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BF019B-E8E8-45E2-9E05-69DC2CE857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AE16A-612D-4975-8C0C-41D18E753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5AC0B8-2A87-436A-86EC-8BD8F63D29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A11F08-4E64-4887-B943-34A2733B63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075990-C588-49BF-8873-4E24552201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E7D810-B243-48EF-8527-5B274D7FBE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024198-BAEC-4984-B9DB-2503C45604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75B0A7-95D1-4C8B-8872-3392FC617E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7AC4C2-43E4-452F-BE58-9EB8B710D7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564F11-F2ED-4C76-B994-198FE0BB6B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1EC674-5BEA-431D-A2CD-49CA8DCB13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0DC2A0-35CB-4B39-AD87-257D99E21B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124FF-0FD2-4CC7-818A-A4B4D12F1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E91E9F-1262-40D2-9602-140A9B69C6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C76A96-998A-4F44-A3C3-0555C695F0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7BE1F7-ED74-45BB-9DD4-5383D69BD0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3DD7B4-2800-45A5-9F22-544F38480C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D7BCCC-2852-47EB-8021-5ADE9D3F81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F50582-0CF4-4D1D-BD6A-FFC1605ACD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39B307-7552-4798-9A57-C52D5944DA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B267A6-1822-487B-8FD1-4C422588E6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6837F4-49CE-4D9A-8BF0-F5ED965471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1B7CB5-7E37-4914-BC42-A8727ECBC1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10FEA-DE83-4734-9F01-49843F613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01A02D-BC16-45E0-99DA-0CDB5ED279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3A208E-AD88-4168-AEB8-41A61F421D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95E14B-A0F0-4BF6-8787-0730D3467D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F690B3-139F-4514-9104-754B85FA98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EA4DF3-DFDE-4740-A6AD-EEC83D9C89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0B77CD-B60A-470A-95A1-CDE7F3B296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1E76BC-44A8-43A8-BEB0-FEA5EC2780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0969F2-0C48-4A7D-8458-AD2C5D7E40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A81C85-E49C-48CC-B9F7-A9954F78AD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3F830B-A550-44C4-8206-E5FB12E319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40C09-7D43-4CCB-9D70-A2D220B85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033063-D555-4D4D-8317-0B0DAF09C6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60B082-CCA0-49B1-8BB0-7071041E6A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55FFCC-D22F-415D-9C3A-DE26B113CA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4B5CC1-6848-4C6D-85DA-FB40B77A8C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C71A57-C840-4499-BE3F-5C6A49BD75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E4097F-B157-4009-B7D4-1827D551D2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13DFA0-DEC7-4B93-BBBA-4B319D4B91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37EBD8-9078-4917-AF85-260E11AB54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E5A08E-9CCE-4330-BFD1-CC239763F9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8DA1E5-00A4-4A23-969A-9DC11648D9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DA509-DDBC-47DC-A286-26F678285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718B9F-C67F-402A-B400-B217F14633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B7B737-2FBB-47F5-8B99-CE31FEA74E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17E4DD-BD0A-49EF-9B57-8BABC7DA1B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0EC6C-359E-453A-8272-58BF6C749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CE223-00F8-4A2C-95D4-F7718F9C28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C1275-B846-403F-BE9B-CA205FD768F9}"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CABD7-C18E-4556-B29A-65021A147116}"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8673E-5E18-430D-93B5-A7FDC19799F2}"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8527C-8931-494D-96B7-0419E31406FE}"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427CC-32BE-4E83-A34B-A3669CCF4944}"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23B2A-BDB1-4CAF-94FB-93585D636081}"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Box 1"/>
          <p:cNvSpPr/>
          <p:nvPr/>
        </p:nvSpPr>
        <p:spPr>
          <a:xfrm>
            <a:off x="1676520" y="990720"/>
            <a:ext cx="5790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df56"/>
                </a:solidFill>
                <a:latin typeface="Arial"/>
              </a:rPr>
              <a:t>College Planning Project Reflection</a:t>
            </a:r>
            <a:endParaRPr b="0" lang="en-US" sz="2800" spc="-1" strike="noStrike">
              <a:solidFill>
                <a:srgbClr val="ffffff"/>
              </a:solidFill>
              <a:latin typeface="Arial"/>
            </a:endParaRPr>
          </a:p>
        </p:txBody>
      </p:sp>
      <p:pic>
        <p:nvPicPr>
          <p:cNvPr id="255" name="Picture 2" descr="http://humanities.osu.edu/departments/images/u_hall_autumn.jpg"/>
          <p:cNvPicPr/>
          <p:nvPr/>
        </p:nvPicPr>
        <p:blipFill>
          <a:blip r:embed="rId1"/>
          <a:srcRect l="22798" t="4163" r="25202" b="10413"/>
          <a:stretch/>
        </p:blipFill>
        <p:spPr>
          <a:xfrm>
            <a:off x="3314880" y="2666880"/>
            <a:ext cx="2514600" cy="3171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Box 1"/>
          <p:cNvSpPr/>
          <p:nvPr/>
        </p:nvSpPr>
        <p:spPr>
          <a:xfrm>
            <a:off x="5562720" y="838080"/>
            <a:ext cx="2514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f56"/>
                </a:solidFill>
                <a:latin typeface="Arial"/>
              </a:rPr>
              <a:t>Mathematics  </a:t>
            </a:r>
            <a:endParaRPr b="0" lang="en-US" sz="3200" spc="-1" strike="noStrike">
              <a:solidFill>
                <a:srgbClr val="ffffff"/>
              </a:solidFill>
              <a:latin typeface="Arial"/>
            </a:endParaRPr>
          </a:p>
        </p:txBody>
      </p:sp>
      <p:sp>
        <p:nvSpPr>
          <p:cNvPr id="257" name="TextBox 2"/>
          <p:cNvSpPr/>
          <p:nvPr/>
        </p:nvSpPr>
        <p:spPr>
          <a:xfrm>
            <a:off x="6019920" y="1981080"/>
            <a:ext cx="16761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learned in Excel how to add the formulas up with SUM in Excel and make every thing  fit and give the total and see how much I’ve spent and how much to spend for college.</a:t>
            </a:r>
            <a:endParaRPr b="0" lang="en-US" sz="1800" spc="-1" strike="noStrike">
              <a:solidFill>
                <a:srgbClr val="ffffff"/>
              </a:solidFill>
              <a:latin typeface="Arial"/>
            </a:endParaRPr>
          </a:p>
        </p:txBody>
      </p:sp>
      <p:pic>
        <p:nvPicPr>
          <p:cNvPr id="258" name="Picture 2" descr="http://www.nassaulibrary.org/hewlett/math0011.gif"/>
          <p:cNvPicPr/>
          <p:nvPr/>
        </p:nvPicPr>
        <p:blipFill>
          <a:blip r:embed="rId1"/>
          <a:stretch/>
        </p:blipFill>
        <p:spPr>
          <a:xfrm>
            <a:off x="1066680" y="1371600"/>
            <a:ext cx="3505320" cy="294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Box 1"/>
          <p:cNvSpPr/>
          <p:nvPr/>
        </p:nvSpPr>
        <p:spPr>
          <a:xfrm>
            <a:off x="3581280" y="762120"/>
            <a:ext cx="198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f56"/>
                </a:solidFill>
                <a:latin typeface="Arial"/>
              </a:rPr>
              <a:t>Technolog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60" name="TextBox 2"/>
          <p:cNvSpPr/>
          <p:nvPr/>
        </p:nvSpPr>
        <p:spPr>
          <a:xfrm>
            <a:off x="2209680" y="1600200"/>
            <a:ext cx="4724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ing Excel fit for my college planning so that I could  have a grade. The technology skills that I learned where making words in it and adding up all the formulas to make the total. But when I had troubles I would apply my knowledge and remembered how to make  the formulas fit.</a:t>
            </a:r>
            <a:endParaRPr b="0" lang="en-US" sz="1800" spc="-1" strike="noStrike">
              <a:solidFill>
                <a:srgbClr val="ffffff"/>
              </a:solidFill>
              <a:latin typeface="Arial"/>
            </a:endParaRPr>
          </a:p>
        </p:txBody>
      </p:sp>
      <p:pic>
        <p:nvPicPr>
          <p:cNvPr id="261" name="Picture 2" descr="http://www.gtchs.org/Departments/Departments%20Page/Technology.jpg"/>
          <p:cNvPicPr/>
          <p:nvPr/>
        </p:nvPicPr>
        <p:blipFill>
          <a:blip r:embed="rId1"/>
          <a:srcRect l="0" t="0" r="1887" b="-1027"/>
          <a:stretch/>
        </p:blipFill>
        <p:spPr>
          <a:xfrm>
            <a:off x="3079800" y="3886200"/>
            <a:ext cx="2984400" cy="281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6" descr="C:\Documents and Settings\Twlab\Local Settings\Temporary Internet Files\Content.IE5\PA3E1U01\MPj04423100000[1].jpg"/>
          <p:cNvPicPr/>
          <p:nvPr/>
        </p:nvPicPr>
        <p:blipFill>
          <a:blip r:embed="rId1"/>
          <a:stretch/>
        </p:blipFill>
        <p:spPr>
          <a:xfrm>
            <a:off x="4572000" y="0"/>
            <a:ext cx="4572000" cy="3048120"/>
          </a:xfrm>
          <a:prstGeom prst="rect">
            <a:avLst/>
          </a:prstGeom>
          <a:ln w="0">
            <a:noFill/>
          </a:ln>
        </p:spPr>
      </p:pic>
      <p:pic>
        <p:nvPicPr>
          <p:cNvPr id="263" name="Picture 3" descr=""/>
          <p:cNvPicPr/>
          <p:nvPr/>
        </p:nvPicPr>
        <p:blipFill>
          <a:blip r:embed="rId2"/>
          <a:stretch/>
        </p:blipFill>
        <p:spPr>
          <a:xfrm>
            <a:off x="0" y="0"/>
            <a:ext cx="4572000" cy="3049560"/>
          </a:xfrm>
          <a:prstGeom prst="rect">
            <a:avLst/>
          </a:prstGeom>
          <a:ln w="0">
            <a:noFill/>
          </a:ln>
        </p:spPr>
      </p:pic>
      <p:sp>
        <p:nvSpPr>
          <p:cNvPr id="264" name="TextBox 1"/>
          <p:cNvSpPr/>
          <p:nvPr/>
        </p:nvSpPr>
        <p:spPr>
          <a:xfrm>
            <a:off x="2895480" y="3657600"/>
            <a:ext cx="32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f56"/>
                </a:solidFill>
                <a:latin typeface="Arial"/>
              </a:rPr>
              <a:t>Affective Development  </a:t>
            </a:r>
            <a:endParaRPr b="0" lang="en-US" sz="2400" spc="-1" strike="noStrike">
              <a:solidFill>
                <a:srgbClr val="ffffff"/>
              </a:solidFill>
              <a:latin typeface="Arial"/>
            </a:endParaRPr>
          </a:p>
        </p:txBody>
      </p:sp>
      <p:sp>
        <p:nvSpPr>
          <p:cNvPr id="265" name="TextBox 2"/>
          <p:cNvSpPr/>
          <p:nvPr/>
        </p:nvSpPr>
        <p:spPr>
          <a:xfrm>
            <a:off x="3124080" y="4826160"/>
            <a:ext cx="29718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has made my knowledge  of self go up because I learned that I'm pretty good in choosing stuff that I need even though I only got a laptop that does every thing.</a:t>
            </a:r>
            <a:endParaRPr b="0" lang="en-US" sz="1800" spc="-1" strike="noStrike">
              <a:solidFill>
                <a:srgbClr val="ffffff"/>
              </a:solidFill>
              <a:latin typeface="Arial"/>
            </a:endParaRPr>
          </a:p>
        </p:txBody>
      </p:sp>
      <p:pic>
        <p:nvPicPr>
          <p:cNvPr id="266" name="Picture 4" descr="C:\Documents and Settings\Twlab\Local Settings\Temporary Internet Files\Content.IE5\E3BLC9D4\MPj04392560000[1].jpg"/>
          <p:cNvPicPr/>
          <p:nvPr/>
        </p:nvPicPr>
        <p:blipFill>
          <a:blip r:embed="rId3"/>
          <a:stretch/>
        </p:blipFill>
        <p:spPr>
          <a:xfrm>
            <a:off x="6019920" y="4359240"/>
            <a:ext cx="3124080" cy="2498760"/>
          </a:xfrm>
          <a:prstGeom prst="rect">
            <a:avLst/>
          </a:prstGeom>
          <a:ln w="0">
            <a:noFill/>
          </a:ln>
        </p:spPr>
      </p:pic>
      <p:pic>
        <p:nvPicPr>
          <p:cNvPr id="267" name="Picture 5" descr="C:\Documents and Settings\Twlab\Local Settings\Temporary Internet Files\Content.IE5\E3BLC9D4\MPj04392560000[1].jpg"/>
          <p:cNvPicPr/>
          <p:nvPr/>
        </p:nvPicPr>
        <p:blipFill>
          <a:blip r:embed="rId4"/>
          <a:stretch/>
        </p:blipFill>
        <p:spPr>
          <a:xfrm>
            <a:off x="0" y="4419720"/>
            <a:ext cx="3048120" cy="243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1"/>
          <p:cNvSpPr/>
          <p:nvPr/>
        </p:nvSpPr>
        <p:spPr>
          <a:xfrm>
            <a:off x="3352680" y="1371600"/>
            <a:ext cx="25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f56"/>
                </a:solidFill>
                <a:latin typeface="Arial"/>
              </a:rPr>
              <a:t>Decision-Making</a:t>
            </a:r>
            <a:endParaRPr b="0" lang="en-US" sz="2400" spc="-1" strike="noStrike">
              <a:solidFill>
                <a:srgbClr val="ffffff"/>
              </a:solidFill>
              <a:latin typeface="Arial"/>
            </a:endParaRPr>
          </a:p>
        </p:txBody>
      </p:sp>
      <p:sp>
        <p:nvSpPr>
          <p:cNvPr id="269" name="TextBox 2"/>
          <p:cNvSpPr/>
          <p:nvPr/>
        </p:nvSpPr>
        <p:spPr>
          <a:xfrm>
            <a:off x="3276720" y="2057400"/>
            <a:ext cx="28954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ost important thing for college I think was picking the right college. I made the decision because I was in a hurry for finishing the college pick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20:43:57Z</dcterms:created>
  <dc:creator>ITSUser</dc:creator>
  <dc:description/>
  <dc:language>en-US</dc:language>
  <cp:lastModifiedBy>ITSUser</cp:lastModifiedBy>
  <dcterms:modified xsi:type="dcterms:W3CDTF">2010-02-10T20:58:35Z</dcterms:modified>
  <cp:revision>7</cp:revision>
  <dc:subject/>
  <dc:title>Slide 1</dc:title>
</cp:coreProperties>
</file>