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87A23-B327-4CD7-8CA7-B14A40A0F2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BA826-72AC-4B19-9CAD-4B1134E8E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89015B-4043-48C3-BA2D-203C68827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EA5232-159B-46F9-9309-B294342B1D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707B1-CE52-4324-B910-6B9AC55CE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BAFE27-B6F2-401F-B81C-F0676F5FC2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ADD11C-C85F-421E-8DC6-B112884AC2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F06AF7-0F9C-4AAA-949E-A734BB095B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3D2EB-1C12-4B02-88BE-97A959546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15462-98BE-4D02-BFCE-19E5875F11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F049A-816C-4B6F-8585-5A38F0EFC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5B2FA2-E700-43F6-8D6E-6EC3390C74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F9113-5710-406C-AE9B-97CAA4808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4AD5B3-C015-4229-959A-7B80F99AFF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F4DA7-49CA-45B8-AFF9-13DE7713D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833D26-BCAC-4A28-9EFF-F070C43F3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E47D3-07A0-4D06-8564-19AE2C7964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D97769-1016-4C88-8194-C390C0E225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6D461E-1EA0-4A59-B9E1-4EAEA95413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6BAC85-5B8A-4772-8657-A95DD61418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6B885F-35D9-4C05-902C-E7C70EF53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0C039E-C2D0-405F-BD4F-B789A7D6C1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53B29-CC7C-4137-B020-2E7918ADE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249BA8-91AD-48E9-8DB1-50E27B158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8EEC3-F7BB-41F2-A072-83B9D9EABD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803E8-7FFE-439F-B92A-8508BA666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896D83-7C57-450E-BD64-6D9BC1304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BAD70-0C36-4C2D-A54A-4BB4730F8E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586688-973C-44DA-8B80-A4652D3E6A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9DC141-2AAE-44D4-907C-6DE2AFD6E5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64506F-4501-4E32-86AF-7306BC9A21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EAF7B1-A93F-4EC6-B4AB-2B4225C7B9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A804B-20AF-4738-9885-8326C087D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5E2B0-7C19-43C5-94C1-0E4D78C0C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768216-BA64-4C50-A7FB-0EFDBDF421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A97123-059E-46B6-96BF-A955C3BD1E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0BBEC6-38EC-493B-8A06-B1D6FBF053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ACCD5A-DBCF-41B0-9147-1C46948670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92CFA0-4C94-4956-B1BA-417EDC124D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C4059F-EC1A-48F8-B8A9-680A3F100C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C1B2B-0EDD-4F81-A6A6-3EFA695602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2D1276-1D2C-47B1-A3DD-BA491AD0D5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C212BD-3B2E-47DE-BA4B-BD8F44C15B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F62EDE-242B-4D0E-9B52-CCFDD8B9D1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A6C74-333A-49A5-95D1-A06CC3D08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33AB2F-0C38-4B85-96ED-DE3C4C2F0F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11A892-E8A4-47CC-BF68-F83F54892B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06037C-29ED-4C46-9E10-215E601480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EA0948-A91A-487D-942F-D86EF39783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4DBED-B8AF-437E-86F9-A3BDC5C022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735493-5F4E-40A0-A394-71FB388F36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2C7E18-1578-4212-B910-2E0C37BE89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A8EA33-1260-4A81-BA72-35EC49246E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2D1BD6-3CD9-49B9-909C-0DF8913E41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F107D2-D616-4E45-9606-27D961DB6B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616B7-A352-4B27-B740-4B3BAB946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7E12C4C-7EEA-482B-ACD9-6A9EC62DFD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7AB53A-F84F-4AD3-86D0-933DD4FC2C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11FB91-5E68-4A62-807D-B5B6A56A97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DCDF770-1C89-47AD-90FE-E323D408C4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CB600F-399F-465F-AD48-6B3090B83DE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40431-D926-43FB-B016-00C6DC47AD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80403E-92F8-4338-909B-5CB35697E1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E46803-C52F-4ED0-8838-47674D5B5A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4E2A90-458A-476D-98B4-531C006058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22CDD4-6D43-4188-AD11-D80171EC1B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9F428-5B99-4BD6-BDD6-E62A2DD83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89431C-620F-4CF4-B661-A0C7F42C2E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183EE0-41B9-45CE-9E8E-B346E8154D4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DD9440-B8EC-431C-854C-A3E50C6364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CE70A-F982-4954-B692-797CCB72A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9F98E-5B36-4051-996F-781893B08C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0FDDA-A777-408F-A54F-342A37ABAA6F}"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9BC64-F7EE-4FB2-81EF-6FCD645568EC}"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F3167-7917-410D-8ADF-D1D130EE9F94}"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AF31-2B8F-4698-A3E4-81EA2C85EA60}"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E75C-1A94-4225-95AD-4DF6DBA12FBA}"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F1C8-02AF-42B9-BC79-A7731C7AE6A5}"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1676520" y="99072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f56"/>
                </a:solidFill>
                <a:latin typeface="Arial"/>
              </a:rPr>
              <a:t>College Planning Project Reflection</a:t>
            </a:r>
            <a:endParaRPr b="0" lang="en-US" sz="2800" spc="-1" strike="noStrike">
              <a:solidFill>
                <a:srgbClr val="ffffff"/>
              </a:solidFill>
              <a:latin typeface="Arial"/>
            </a:endParaRPr>
          </a:p>
        </p:txBody>
      </p:sp>
      <p:pic>
        <p:nvPicPr>
          <p:cNvPr id="255" name="Picture 2" descr="http://humanities.osu.edu/departments/images/u_hall_autumn.jpg"/>
          <p:cNvPicPr/>
          <p:nvPr/>
        </p:nvPicPr>
        <p:blipFill>
          <a:blip r:embed="rId1"/>
          <a:srcRect l="22798" t="4163" r="25202" b="10413"/>
          <a:stretch/>
        </p:blipFill>
        <p:spPr>
          <a:xfrm>
            <a:off x="3314880" y="2666880"/>
            <a:ext cx="25146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5562720" y="83808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f56"/>
                </a:solidFill>
                <a:latin typeface="Arial"/>
              </a:rPr>
              <a:t>Mathematics  </a:t>
            </a:r>
            <a:endParaRPr b="0" lang="en-US" sz="3200" spc="-1" strike="noStrike">
              <a:solidFill>
                <a:srgbClr val="ffffff"/>
              </a:solidFill>
              <a:latin typeface="Arial"/>
            </a:endParaRPr>
          </a:p>
        </p:txBody>
      </p:sp>
      <p:sp>
        <p:nvSpPr>
          <p:cNvPr id="257" name="TextBox 2"/>
          <p:cNvSpPr/>
          <p:nvPr/>
        </p:nvSpPr>
        <p:spPr>
          <a:xfrm>
            <a:off x="6019920" y="1981080"/>
            <a:ext cx="1676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learned in Excel how to add the formulas up with SUM in Excel and make every thing  fit and give the total and see how much I’ve spent and how much to spend for college.</a:t>
            </a:r>
            <a:endParaRPr b="0" lang="en-US" sz="1800" spc="-1" strike="noStrike">
              <a:solidFill>
                <a:srgbClr val="ffffff"/>
              </a:solidFill>
              <a:latin typeface="Arial"/>
            </a:endParaRPr>
          </a:p>
        </p:txBody>
      </p:sp>
      <p:pic>
        <p:nvPicPr>
          <p:cNvPr id="258" name="Picture 2" descr="http://www.nassaulibrary.org/hewlett/math0011.gif"/>
          <p:cNvPicPr/>
          <p:nvPr/>
        </p:nvPicPr>
        <p:blipFill>
          <a:blip r:embed="rId1"/>
          <a:stretch/>
        </p:blipFill>
        <p:spPr>
          <a:xfrm>
            <a:off x="1066680" y="1371600"/>
            <a:ext cx="3505320" cy="29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3581280" y="7621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Technolo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0" name="TextBox 2"/>
          <p:cNvSpPr/>
          <p:nvPr/>
        </p:nvSpPr>
        <p:spPr>
          <a:xfrm>
            <a:off x="2209680" y="160020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ing Excel fit for my college planning so that I could  have a grade. The technology skills that I learned where making words in it and adding up all the formulas to make the total. But when I had troubles I would apply my knowledge and remembered how to make  the formulas fit.</a:t>
            </a:r>
            <a:endParaRPr b="0" lang="en-US" sz="1800" spc="-1" strike="noStrike">
              <a:solidFill>
                <a:srgbClr val="ffffff"/>
              </a:solidFill>
              <a:latin typeface="Arial"/>
            </a:endParaRPr>
          </a:p>
        </p:txBody>
      </p:sp>
      <p:pic>
        <p:nvPicPr>
          <p:cNvPr id="261" name="Picture 2" descr="http://www.gtchs.org/Departments/Departments%20Page/Technology.jpg"/>
          <p:cNvPicPr/>
          <p:nvPr/>
        </p:nvPicPr>
        <p:blipFill>
          <a:blip r:embed="rId1"/>
          <a:srcRect l="0" t="0" r="1887" b="-1027"/>
          <a:stretch/>
        </p:blipFill>
        <p:spPr>
          <a:xfrm>
            <a:off x="3079800" y="3886200"/>
            <a:ext cx="2984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C:\Documents and Settings\Twlab\Local Settings\Temporary Internet Files\Content.IE5\PA3E1U01\MPj04423100000[1].jpg"/>
          <p:cNvPicPr/>
          <p:nvPr/>
        </p:nvPicPr>
        <p:blipFill>
          <a:blip r:embed="rId1"/>
          <a:stretch/>
        </p:blipFill>
        <p:spPr>
          <a:xfrm>
            <a:off x="4572000" y="0"/>
            <a:ext cx="4572000" cy="3048120"/>
          </a:xfrm>
          <a:prstGeom prst="rect">
            <a:avLst/>
          </a:prstGeom>
          <a:ln w="0">
            <a:noFill/>
          </a:ln>
        </p:spPr>
      </p:pic>
      <p:pic>
        <p:nvPicPr>
          <p:cNvPr id="263" name="Picture 3" descr=""/>
          <p:cNvPicPr/>
          <p:nvPr/>
        </p:nvPicPr>
        <p:blipFill>
          <a:blip r:embed="rId2"/>
          <a:stretch/>
        </p:blipFill>
        <p:spPr>
          <a:xfrm>
            <a:off x="0" y="0"/>
            <a:ext cx="4572000" cy="3049560"/>
          </a:xfrm>
          <a:prstGeom prst="rect">
            <a:avLst/>
          </a:prstGeom>
          <a:ln w="0">
            <a:noFill/>
          </a:ln>
        </p:spPr>
      </p:pic>
      <p:sp>
        <p:nvSpPr>
          <p:cNvPr id="264" name="TextBox 1"/>
          <p:cNvSpPr/>
          <p:nvPr/>
        </p:nvSpPr>
        <p:spPr>
          <a:xfrm>
            <a:off x="2895480" y="365760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Affective Development  </a:t>
            </a:r>
            <a:endParaRPr b="0" lang="en-US" sz="2400" spc="-1" strike="noStrike">
              <a:solidFill>
                <a:srgbClr val="ffffff"/>
              </a:solidFill>
              <a:latin typeface="Arial"/>
            </a:endParaRPr>
          </a:p>
        </p:txBody>
      </p:sp>
      <p:sp>
        <p:nvSpPr>
          <p:cNvPr id="265" name="TextBox 2"/>
          <p:cNvSpPr/>
          <p:nvPr/>
        </p:nvSpPr>
        <p:spPr>
          <a:xfrm>
            <a:off x="3124080" y="482616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made my knowledge  of self go up because I learned that I'm pretty good in choosing stuff that I need even though I only got a laptop that does every thing.</a:t>
            </a:r>
            <a:endParaRPr b="0" lang="en-US" sz="1800" spc="-1" strike="noStrike">
              <a:solidFill>
                <a:srgbClr val="ffffff"/>
              </a:solidFill>
              <a:latin typeface="Arial"/>
            </a:endParaRPr>
          </a:p>
        </p:txBody>
      </p:sp>
      <p:pic>
        <p:nvPicPr>
          <p:cNvPr id="266" name="Picture 4" descr="C:\Documents and Settings\Twlab\Local Settings\Temporary Internet Files\Content.IE5\E3BLC9D4\MPj04392560000[1].jpg"/>
          <p:cNvPicPr/>
          <p:nvPr/>
        </p:nvPicPr>
        <p:blipFill>
          <a:blip r:embed="rId3"/>
          <a:stretch/>
        </p:blipFill>
        <p:spPr>
          <a:xfrm>
            <a:off x="6019920" y="4359240"/>
            <a:ext cx="3124080" cy="2498760"/>
          </a:xfrm>
          <a:prstGeom prst="rect">
            <a:avLst/>
          </a:prstGeom>
          <a:ln w="0">
            <a:noFill/>
          </a:ln>
        </p:spPr>
      </p:pic>
      <p:pic>
        <p:nvPicPr>
          <p:cNvPr id="267" name="Picture 5" descr="C:\Documents and Settings\Twlab\Local Settings\Temporary Internet Files\Content.IE5\E3BLC9D4\MPj04392560000[1].jpg"/>
          <p:cNvPicPr/>
          <p:nvPr/>
        </p:nvPicPr>
        <p:blipFill>
          <a:blip r:embed="rId4"/>
          <a:stretch/>
        </p:blipFill>
        <p:spPr>
          <a:xfrm>
            <a:off x="0" y="4419720"/>
            <a:ext cx="304812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3352680" y="13716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Decision-Making</a:t>
            </a:r>
            <a:endParaRPr b="0" lang="en-US" sz="2400" spc="-1" strike="noStrike">
              <a:solidFill>
                <a:srgbClr val="ffffff"/>
              </a:solidFill>
              <a:latin typeface="Arial"/>
            </a:endParaRPr>
          </a:p>
        </p:txBody>
      </p:sp>
      <p:sp>
        <p:nvSpPr>
          <p:cNvPr id="269" name="TextBox 2"/>
          <p:cNvSpPr/>
          <p:nvPr/>
        </p:nvSpPr>
        <p:spPr>
          <a:xfrm>
            <a:off x="3276720" y="2057400"/>
            <a:ext cx="2895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t important thing for college I think was picking the right college. I made the decision because I was in a hurry for finishing the college pi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3:57Z</dcterms:created>
  <dc:creator>ITSUser</dc:creator>
  <dc:description/>
  <dc:language>en-US</dc:language>
  <cp:lastModifiedBy>ITSUser</cp:lastModifiedBy>
  <dcterms:modified xsi:type="dcterms:W3CDTF">2010-02-10T20:58:35Z</dcterms:modified>
  <cp:revision>7</cp:revision>
  <dc:subject/>
  <dc:title>Slide 1</dc:title>
</cp:coreProperties>
</file>