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6458-5346-43C7-8F55-A6695DCA0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E52CD-FF13-4DFC-B75C-2111B806E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703-C7D4-4500-9713-649A767B4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449F-5885-4258-9B54-B712B245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C6E-03E3-4290-80EB-BAACC76C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B288-BB24-49ED-B7D9-432233158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7D04-8462-40D3-BE7E-A684459D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7F5F-D0CD-497A-95EF-9E0ABD9B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42D9-A3E4-4C13-851D-445E3E3C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FF93-609B-4136-BF28-942AD685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FAC-921A-4BD4-8E1E-BF5DEA84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F316-37DF-463D-A5AA-9122E59D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52AB-61E5-49E8-9AB1-7EE91ECA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A3D8-BFB1-4B78-AB0D-98F8C90C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5B70E-E326-43F7-9720-537BEADA41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dc.uwo.ca/writing/images/001.jpg" TargetMode="External"/><Relationship Id="rId2" Type="http://schemas.openxmlformats.org/officeDocument/2006/relationships/hyperlink" Target="http://guestworkerfraud.com/data.jpg" TargetMode="External"/><Relationship Id="rId3" Type="http://schemas.openxmlformats.org/officeDocument/2006/relationships/hyperlink" Target="http://farm4.static.flickr.com/3254/2941682132_17175294dc.jpg" TargetMode="External"/><Relationship Id="rId4" Type="http://schemas.openxmlformats.org/officeDocument/2006/relationships/hyperlink" Target="http://atlantisbyelectionsward32.contributetochange.org.za/files/2009/10/Cam-pics-4-367.jpg" TargetMode="External"/><Relationship Id="rId5" Type="http://schemas.openxmlformats.org/officeDocument/2006/relationships/hyperlink" Target="http://www.cringel.com/files/images/adia-2007-07-02-DSC-8687-two-ladies-holding-hands-on-a-street-in-malaysia-kuala-lumpur-cringel.com.jpg" TargetMode="External"/><Relationship Id="rId6" Type="http://schemas.openxmlformats.org/officeDocument/2006/relationships/hyperlink" Target="http://www.ssa.gov/international/world%20hands.jpg" TargetMode="External"/><Relationship Id="rId7" Type="http://schemas.openxmlformats.org/officeDocument/2006/relationships/hyperlink" Target="http://www.companionsinhope.com/images_global/seedling2.jpg" TargetMode="External"/><Relationship Id="rId8" Type="http://schemas.openxmlformats.org/officeDocument/2006/relationships/hyperlink" Target="http://www.discovertheworld.org/dtw-images/photos/b-holding_hands.jpg" TargetMode="External"/><Relationship Id="rId9" Type="http://schemas.openxmlformats.org/officeDocument/2006/relationships/hyperlink" Target="http://www.fammed.wisc.edu/files/images/feature_graphics/featured-others08.jpg" TargetMode="External"/><Relationship Id="rId10" Type="http://schemas.openxmlformats.org/officeDocument/2006/relationships/hyperlink" Target="http://www.digitalworldtokyo.com/entryimages/2007/05/070531_Kobe_earthquake.jpg" TargetMode="External"/><Relationship Id="rId11" Type="http://schemas.openxmlformats.org/officeDocument/2006/relationships/hyperlink" Target="http://faithsa.org/images/FatherSon.jpg" TargetMode="External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resentationzen.com/presentationzen/images/2007/08/14/generosity.jpg" TargetMode="External"/><Relationship Id="rId2" Type="http://schemas.openxmlformats.org/officeDocument/2006/relationships/hyperlink" Target="http://www.dailywordofgodgroup.com/images/helping-others.jpg" TargetMode="External"/><Relationship Id="rId3" Type="http://schemas.openxmlformats.org/officeDocument/2006/relationships/hyperlink" Target="http://www.taraburner.com/blog/wp-content/uploads/2009/09/helpinghands.jpg" TargetMode="External"/><Relationship Id="rId4" Type="http://schemas.openxmlformats.org/officeDocument/2006/relationships/hyperlink" Target="http://www.taraburner.com/blog/wp-content/uploads/2009/09/helpinghands.jpg" TargetMode="External"/><Relationship Id="rId5" Type="http://schemas.openxmlformats.org/officeDocument/2006/relationships/hyperlink" Target="http://blogit.realwire.com/media/Help%20key.JPG" TargetMode="External"/><Relationship Id="rId6" Type="http://schemas.openxmlformats.org/officeDocument/2006/relationships/hyperlink" Target="http://www.theway247.com/CIA_files/helping%20others.jpg" TargetMode="External"/><Relationship Id="rId7" Type="http://schemas.openxmlformats.org/officeDocument/2006/relationships/hyperlink" Target="http://www.godsmarketplacega.com/images/helping.jpg" TargetMode="External"/><Relationship Id="rId8" Type="http://schemas.openxmlformats.org/officeDocument/2006/relationships/hyperlink" Target="http://tonyjimenezfoundation.org/assets/images/a_helping_others.gif" TargetMode="External"/><Relationship Id="rId9" Type="http://schemas.openxmlformats.org/officeDocument/2006/relationships/hyperlink" Target="http://www.antiochglobaloutreach.net/AGO_LOGO2.jpg" TargetMode="External"/><Relationship Id="rId10" Type="http://schemas.openxmlformats.org/officeDocument/2006/relationships/hyperlink" Target="http://www.csuci.edu/news/publication/current/2006-fall/images/helping_humanity.gif" TargetMode="External"/><Relationship Id="rId11" Type="http://schemas.openxmlformats.org/officeDocument/2006/relationships/hyperlink" Target="http://www.learningfromlyrics.org/bystander_files/image002.jpg" TargetMode="External"/><Relationship Id="rId12" Type="http://schemas.openxmlformats.org/officeDocument/2006/relationships/hyperlink" Target="http://www.capapgpc.org/images/helping-others.jpg" TargetMode="External"/><Relationship Id="rId13" Type="http://schemas.openxmlformats.org/officeDocument/2006/relationships/hyperlink" Target="http://www.nysut.org/images/content/rfk_children_480_04.jpg" TargetMode="External"/><Relationship Id="rId14" Type="http://schemas.openxmlformats.org/officeDocument/2006/relationships/hyperlink" Target="http://global-gateways.com/vision.jpg" TargetMode="External"/><Relationship Id="rId15" Type="http://schemas.openxmlformats.org/officeDocument/2006/relationships/hyperlink" Target="http://webapps2.ucalgary.ca/~estrat/uofczine/wp-content/uploads/2008/12/localcharities.jpg" TargetMode="External"/><Relationship Id="rId16" Type="http://schemas.openxmlformats.org/officeDocument/2006/relationships/hyperlink" Target="http://www.bethanypcusa.org/images/colorful_hands.gif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Kiley Dinding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blogit.realwire.com/media/Help%20key.JPG"/>
          <p:cNvPicPr/>
          <p:nvPr/>
        </p:nvPicPr>
        <p:blipFill>
          <a:blip r:embed="rId1"/>
          <a:srcRect l="0" t="0" r="0" b="3681"/>
          <a:stretch/>
        </p:blipFill>
        <p:spPr>
          <a:xfrm>
            <a:off x="-380880" y="-304920"/>
            <a:ext cx="9524880" cy="7391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057400" y="19051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munities Help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3048120" y="3429000"/>
            <a:ext cx="3962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3429000" y="327672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y Kiley Dind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http://www.capapgpc.org/images/helping-others.jpg"/>
          <p:cNvPicPr/>
          <p:nvPr/>
        </p:nvPicPr>
        <p:blipFill>
          <a:blip r:embed="rId1"/>
          <a:stretch/>
        </p:blipFill>
        <p:spPr>
          <a:xfrm>
            <a:off x="533520" y="0"/>
            <a:ext cx="815328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soundwaves.usgs.gov/2009/03/Mana1LG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www.nysut.org/images/content/rfk_children_480_04.jpg"/>
          <p:cNvPicPr/>
          <p:nvPr/>
        </p:nvPicPr>
        <p:blipFill>
          <a:blip r:embed="rId1"/>
          <a:stretch/>
        </p:blipFill>
        <p:spPr>
          <a:xfrm>
            <a:off x="0" y="0"/>
            <a:ext cx="9117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http://www.learningfromlyrics.org/bystander_files/image002.jpg"/>
          <p:cNvPicPr/>
          <p:nvPr/>
        </p:nvPicPr>
        <p:blipFill>
          <a:blip r:embed="rId1"/>
          <a:stretch/>
        </p:blipFill>
        <p:spPr>
          <a:xfrm>
            <a:off x="0" y="0"/>
            <a:ext cx="9158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://webapps2.ucalgary.ca/~estrat/uofczine/wp-content/uploads/2008/12/localcharities.jpg"/>
          <p:cNvPicPr/>
          <p:nvPr/>
        </p:nvPicPr>
        <p:blipFill>
          <a:blip r:embed="rId1"/>
          <a:stretch/>
        </p:blipFill>
        <p:spPr>
          <a:xfrm>
            <a:off x="63360" y="-136440"/>
            <a:ext cx="817272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global-gateways.com/vision.jpg"/>
          <p:cNvPicPr/>
          <p:nvPr/>
        </p:nvPicPr>
        <p:blipFill>
          <a:blip r:embed="rId1"/>
          <a:stretch/>
        </p:blipFill>
        <p:spPr>
          <a:xfrm>
            <a:off x="0" y="0"/>
            <a:ext cx="854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http://www.cringel.com/files/images/adia-2007-07-02-DSC-8687-two-ladies-holding-hands-on-a-street-in-malaysia-kuala-lumpur-cringel.com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925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" descr="http://www.ssa.gov/international/world%20hands.jpg"/>
          <p:cNvPicPr/>
          <p:nvPr/>
        </p:nvPicPr>
        <p:blipFill>
          <a:blip r:embed="rId2"/>
          <a:stretch/>
        </p:blipFill>
        <p:spPr>
          <a:xfrm>
            <a:off x="4572000" y="3733920"/>
            <a:ext cx="4048200" cy="2838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ttp://www.companionsinhope.com/images_global/seedling2.jpg"/>
          <p:cNvPicPr/>
          <p:nvPr/>
        </p:nvPicPr>
        <p:blipFill>
          <a:blip r:embed="rId3"/>
          <a:stretch/>
        </p:blipFill>
        <p:spPr>
          <a:xfrm>
            <a:off x="5057640" y="104760"/>
            <a:ext cx="3400560" cy="34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http://static.guim.co.uk/sys-images/Guardian/Pix/contributor/2010/1/14/1263488479383/Haiti-quake-aid-boy-recei-001.jpg"/>
          <p:cNvPicPr/>
          <p:nvPr/>
        </p:nvPicPr>
        <p:blipFill>
          <a:blip r:embed="rId1"/>
          <a:stretch/>
        </p:blipFill>
        <p:spPr>
          <a:xfrm>
            <a:off x="254160" y="762120"/>
            <a:ext cx="88898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http://www.digitalworldtokyo.com/entryimages/2007/05/070531_Kobe_earthquak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f1f1f"/>
            </a:gs>
            <a:gs pos="100000">
              <a:srgbClr val="7f7f7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http://faithsa.org/images/FatherSon.jpg"/>
          <p:cNvPicPr/>
          <p:nvPr/>
        </p:nvPicPr>
        <p:blipFill>
          <a:blip r:embed="rId1"/>
          <a:stretch/>
        </p:blipFill>
        <p:spPr>
          <a:xfrm>
            <a:off x="0" y="0"/>
            <a:ext cx="46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guestworkerfraud.com/data.jpg"/>
          <p:cNvPicPr/>
          <p:nvPr/>
        </p:nvPicPr>
        <p:blipFill>
          <a:blip r:embed="rId1"/>
          <a:srcRect l="6560" t="6557" r="6560" b="14756"/>
          <a:stretch/>
        </p:blipFill>
        <p:spPr>
          <a:xfrm>
            <a:off x="0" y="0"/>
            <a:ext cx="4038480" cy="2743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http://farm4.static.flickr.com/3254/2941682132_17175294dc.jpg"/>
          <p:cNvPicPr/>
          <p:nvPr/>
        </p:nvPicPr>
        <p:blipFill>
          <a:blip r:embed="rId2"/>
          <a:srcRect l="34429" t="32240" r="27870" b="32792"/>
          <a:stretch/>
        </p:blipFill>
        <p:spPr>
          <a:xfrm>
            <a:off x="4876920" y="685800"/>
            <a:ext cx="4267080" cy="2968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http://atlantisbyelectionsward32.contributetochange.org.za/files/2009/10/Cam-pics-4-367.jpg"/>
          <p:cNvPicPr/>
          <p:nvPr/>
        </p:nvPicPr>
        <p:blipFill>
          <a:blip r:embed="rId3"/>
          <a:stretch/>
        </p:blipFill>
        <p:spPr>
          <a:xfrm>
            <a:off x="0" y="3048120"/>
            <a:ext cx="46483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0" y="7621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www.sdc.uwo.ca/writing/images/00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2520" y="1066680"/>
            <a:ext cx="308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uestworkerfraud.com/dat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3429000" y="2286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144792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farm4.static.flickr.com/3254/2941682132_17175294dc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0" y="1828800"/>
            <a:ext cx="784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atlantisbyelectionsward32.contributetochange.org.za/files/2009/10/Cam-pics-4-36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096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www.cringel.com/files/images/adia-2007-07-02-DSC-8687-two-ladies-holding-hands-on-a-street-in-malaysia-kuala-lumpur-cringel.co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281952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www.ssa.gov/international/world%20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3200400"/>
            <a:ext cx="6019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http://www.companionsinhope.com/images_global/seedling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0" y="358128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://www.discovertheworld.org/dtw-images/photos/b-holding_hands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0" y="3962520"/>
            <a:ext cx="655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://www.fammed.wisc.edu/files/images/feature_graphics/featured-others08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0" y="4267080"/>
            <a:ext cx="7238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ttp://www.digitalworldtokyo.com/entryimages/2007/05/070531_Kobe_earthquake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760" y="4572000"/>
            <a:ext cx="28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http://faithsa.org/images/FatherS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"/>
          <p:cNvSpPr/>
          <p:nvPr/>
        </p:nvSpPr>
        <p:spPr>
          <a:xfrm>
            <a:off x="0" y="1371600"/>
            <a:ext cx="579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resentationzen.com/presentationzen/images/2007/08/14/generosit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10666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ailywordofgodgroup.com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0" y="259092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taraburner.com/blog/wp-content/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soundwaves.usgs.gov/2009/03/Mana1LG.jpgloads/2009/09/helpinghand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0" y="457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blogit.realwire.com/media/Help%20ke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19810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http://www.theway247.com/CIA_files/helping%20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762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www.godsmarketplacega.com/images/helping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22860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tonyjimenezfoundation.org/assets/images/a_helping_other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0" y="1676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antiochglobaloutreach.net/AGO_LOGO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9"/>
          <p:cNvSpPr/>
          <p:nvPr/>
        </p:nvSpPr>
        <p:spPr>
          <a:xfrm>
            <a:off x="0" y="327672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csuci.edu/news/publication/current/2006-fall/images/helping_humanity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0" y="35812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learningfromlyrics.org/bystander_files/image00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>
            <a:off x="0" y="388620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capapgpc.org/images/helping-other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2"/>
          <p:cNvSpPr/>
          <p:nvPr/>
        </p:nvSpPr>
        <p:spPr>
          <a:xfrm>
            <a:off x="0" y="4191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nysut.org/images/content/rfk_children_480_04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3"/>
          <p:cNvSpPr/>
          <p:nvPr/>
        </p:nvSpPr>
        <p:spPr>
          <a:xfrm>
            <a:off x="0" y="4419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global-gateways.com/vision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0" y="4724280"/>
            <a:ext cx="640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webapps2.ucalgary.ca/~estrat/uofczine/wp-content/uploads/2008/12/localcharities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0" y="51055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http://www.bethanypcusa.org/images/colorful_hands.gi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0" y="5410080"/>
            <a:ext cx="9753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ophcommunity.oph.gov.au/cfs-filesystemfile.ashx/__key/CommunityServer.Components.ImageFileViewer/CommunityServer.Components.UserFiles.00.00.00.24.18/holding-hands3.jpg_2D00_600x45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7"/>
          <p:cNvSpPr/>
          <p:nvPr/>
        </p:nvSpPr>
        <p:spPr>
          <a:xfrm>
            <a:off x="0" y="22860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us.123rf.com/400wm/400/400/iofoto/iofoto0802/iofoto080200726/2616892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8"/>
          <p:cNvSpPr/>
          <p:nvPr/>
        </p:nvSpPr>
        <p:spPr>
          <a:xfrm>
            <a:off x="0" y="6095880"/>
            <a:ext cx="68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rlv.zcache.com/cute_penguins_holding_hands_photosculpture-p153884523996977878qif5_210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9"/>
          <p:cNvSpPr/>
          <p:nvPr/>
        </p:nvSpPr>
        <p:spPr>
          <a:xfrm>
            <a:off x="0" y="6400800"/>
            <a:ext cx="7162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ronaldhousedurham.org/files/images/helping-a-military-family-in-need/help-military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http://www.sdc.uwo.ca/writing/images/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www.taraburner.com/blog/wp-content/uploads/2009/09/helpinghands.jpg"/>
          <p:cNvPicPr/>
          <p:nvPr/>
        </p:nvPicPr>
        <p:blipFill>
          <a:blip r:embed="rId1"/>
          <a:stretch/>
        </p:blipFill>
        <p:spPr>
          <a:xfrm>
            <a:off x="0" y="-533520"/>
            <a:ext cx="914400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dailywordofgodgroup.com/images/helping-others.jpg"/>
          <p:cNvPicPr/>
          <p:nvPr/>
        </p:nvPicPr>
        <p:blipFill>
          <a:blip r:embed="rId1"/>
          <a:stretch/>
        </p:blipFill>
        <p:spPr>
          <a:xfrm>
            <a:off x="0" y="0"/>
            <a:ext cx="460368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theway247.com/CIA_files/helping%20others.jpg"/>
          <p:cNvPicPr/>
          <p:nvPr/>
        </p:nvPicPr>
        <p:blipFill>
          <a:blip r:embed="rId2"/>
          <a:srcRect l="9141" t="0" r="21144" b="-56594"/>
          <a:stretch/>
        </p:blipFill>
        <p:spPr>
          <a:xfrm>
            <a:off x="4495680" y="1371600"/>
            <a:ext cx="4648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www.presentationzen.com/presentationzen/images/2007/08/14/generosi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godsmarketplacega.com/images/helping.jpg"/>
          <p:cNvPicPr/>
          <p:nvPr/>
        </p:nvPicPr>
        <p:blipFill>
          <a:blip r:embed="rId1"/>
          <a:stretch/>
        </p:blipFill>
        <p:spPr>
          <a:xfrm>
            <a:off x="0" y="0"/>
            <a:ext cx="3571920" cy="538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http://tonyjimenezfoundation.org/assets/images/a_helping_others.gif"/>
          <p:cNvPicPr/>
          <p:nvPr/>
        </p:nvPicPr>
        <p:blipFill>
          <a:blip r:embed="rId2"/>
          <a:stretch/>
        </p:blipFill>
        <p:spPr>
          <a:xfrm>
            <a:off x="3962520" y="1600200"/>
            <a:ext cx="4619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www.csuci.edu/news/publication/current/2006-fall/images/helping_humanity.gif"/>
          <p:cNvPicPr/>
          <p:nvPr/>
        </p:nvPicPr>
        <p:blipFill>
          <a:blip r:embed="rId1"/>
          <a:stretch/>
        </p:blipFill>
        <p:spPr>
          <a:xfrm>
            <a:off x="0" y="0"/>
            <a:ext cx="9148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antiochglobaloutreach.net/AGO_LOGO2.jpg"/>
          <p:cNvPicPr/>
          <p:nvPr/>
        </p:nvPicPr>
        <p:blipFill>
          <a:blip r:embed="rId1"/>
          <a:stretch/>
        </p:blipFill>
        <p:spPr>
          <a:xfrm>
            <a:off x="1447920" y="380880"/>
            <a:ext cx="6838920" cy="55911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1828800" y="1600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2438280" y="4572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209680" y="6858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 rot="3574800">
            <a:off x="2957040" y="336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 rot="3574800">
            <a:off x="1966680" y="117432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 rot="4945800">
            <a:off x="3736800" y="2844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 rot="5997600">
            <a:off x="4736880" y="48960"/>
            <a:ext cx="68580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 rot="1365000">
            <a:off x="5443200" y="90000"/>
            <a:ext cx="68580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 rot="8253000">
            <a:off x="5984280" y="77760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 rot="20920800">
            <a:off x="6727680" y="226692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 rot="20286600">
            <a:off x="6575040" y="1536840"/>
            <a:ext cx="685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20:36:32Z</dcterms:created>
  <dc:creator>ITSUser</dc:creator>
  <dc:description/>
  <dc:language>en-US</dc:language>
  <cp:lastModifiedBy>ITSUser</cp:lastModifiedBy>
  <dcterms:modified xsi:type="dcterms:W3CDTF">2010-01-28T17:53:12Z</dcterms:modified>
  <cp:revision>13</cp:revision>
  <dc:subject/>
  <dc:title>Communities Helping Each Other</dc:title>
</cp:coreProperties>
</file>