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5C3D-BD1A-4B96-BC38-7B0D402D3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C8B83-A815-48EB-BC35-283D65ACB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72E-96FC-458A-989C-5DCC554B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239B-7058-4879-AF54-7A03037E1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21CF-0549-4393-B10E-E12E168BA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3B01-7BE3-4480-B424-10EA2461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768-F94C-497C-898B-2486D2FE9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149B-EA5E-486B-9EC4-8C15867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5787-F503-463B-8BAA-5336515A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80C0-D170-436C-A202-EDCB6242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0724-DAE9-4CF3-87E3-5F747864D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A8F9-224E-4A2E-92F9-8220EBB5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CE97-C903-4E07-816D-D9C86ABA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7870-8EDB-4354-BE3F-03D4CEFF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E25B-76B6-44F1-AA9D-F291DF883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dc.uwo.ca/writing/images/001.jpg" TargetMode="External"/><Relationship Id="rId2" Type="http://schemas.openxmlformats.org/officeDocument/2006/relationships/hyperlink" Target="http://guestworkerfraud.com/data.jpg" TargetMode="External"/><Relationship Id="rId3" Type="http://schemas.openxmlformats.org/officeDocument/2006/relationships/hyperlink" Target="http://farm4.static.flickr.com/3254/2941682132_17175294dc.jpg" TargetMode="External"/><Relationship Id="rId4" Type="http://schemas.openxmlformats.org/officeDocument/2006/relationships/hyperlink" Target="http://atlantisbyelectionsward32.contributetochange.org.za/files/2009/10/Cam-pics-4-367.jpg" TargetMode="External"/><Relationship Id="rId5" Type="http://schemas.openxmlformats.org/officeDocument/2006/relationships/hyperlink" Target="http://www.cringel.com/files/images/adia-2007-07-02-DSC-8687-two-ladies-holding-hands-on-a-street-in-malaysia-kuala-lumpur-cringel.com.jpg" TargetMode="External"/><Relationship Id="rId6" Type="http://schemas.openxmlformats.org/officeDocument/2006/relationships/hyperlink" Target="http://www.ssa.gov/international/world%20hands.jpg" TargetMode="External"/><Relationship Id="rId7" Type="http://schemas.openxmlformats.org/officeDocument/2006/relationships/hyperlink" Target="http://www.companionsinhope.com/images_global/seedling2.jpg" TargetMode="External"/><Relationship Id="rId8" Type="http://schemas.openxmlformats.org/officeDocument/2006/relationships/hyperlink" Target="http://www.discovertheworld.org/dtw-images/photos/b-holding_hands.jpg" TargetMode="External"/><Relationship Id="rId9" Type="http://schemas.openxmlformats.org/officeDocument/2006/relationships/hyperlink" Target="http://www.fammed.wisc.edu/files/images/feature_graphics/featured-others08.jpg" TargetMode="External"/><Relationship Id="rId10" Type="http://schemas.openxmlformats.org/officeDocument/2006/relationships/hyperlink" Target="http://www.digitalworldtokyo.com/entryimages/2007/05/070531_Kobe_earthquake.jpg" TargetMode="External"/><Relationship Id="rId11" Type="http://schemas.openxmlformats.org/officeDocument/2006/relationships/hyperlink" Target="http://faithsa.org/images/FatherSon.jpg" TargetMode="Externa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resentationzen.com/presentationzen/images/2007/08/14/generosity.jpg" TargetMode="External"/><Relationship Id="rId2" Type="http://schemas.openxmlformats.org/officeDocument/2006/relationships/hyperlink" Target="http://www.dailywordofgodgroup.com/images/helping-others.jpg" TargetMode="External"/><Relationship Id="rId3" Type="http://schemas.openxmlformats.org/officeDocument/2006/relationships/hyperlink" Target="http://www.taraburner.com/blog/wp-content/uploads/2009/09/helpinghands.jpg" TargetMode="External"/><Relationship Id="rId4" Type="http://schemas.openxmlformats.org/officeDocument/2006/relationships/hyperlink" Target="http://www.taraburner.com/blog/wp-content/uploads/2009/09/helpinghands.jpg" TargetMode="External"/><Relationship Id="rId5" Type="http://schemas.openxmlformats.org/officeDocument/2006/relationships/hyperlink" Target="http://blogit.realwire.com/media/Help%20key.JPG" TargetMode="External"/><Relationship Id="rId6" Type="http://schemas.openxmlformats.org/officeDocument/2006/relationships/hyperlink" Target="http://www.theway247.com/CIA_files/helping%20others.jpg" TargetMode="External"/><Relationship Id="rId7" Type="http://schemas.openxmlformats.org/officeDocument/2006/relationships/hyperlink" Target="http://www.godsmarketplacega.com/images/helping.jpg" TargetMode="External"/><Relationship Id="rId8" Type="http://schemas.openxmlformats.org/officeDocument/2006/relationships/hyperlink" Target="http://tonyjimenezfoundation.org/assets/images/a_helping_others.gif" TargetMode="External"/><Relationship Id="rId9" Type="http://schemas.openxmlformats.org/officeDocument/2006/relationships/hyperlink" Target="http://www.antiochglobaloutreach.net/AGO_LOGO2.jpg" TargetMode="External"/><Relationship Id="rId10" Type="http://schemas.openxmlformats.org/officeDocument/2006/relationships/hyperlink" Target="http://www.csuci.edu/news/publication/current/2006-fall/images/helping_humanity.gif" TargetMode="External"/><Relationship Id="rId11" Type="http://schemas.openxmlformats.org/officeDocument/2006/relationships/hyperlink" Target="http://www.learningfromlyrics.org/bystander_files/image002.jpg" TargetMode="External"/><Relationship Id="rId12" Type="http://schemas.openxmlformats.org/officeDocument/2006/relationships/hyperlink" Target="http://www.capapgpc.org/images/helping-others.jpg" TargetMode="External"/><Relationship Id="rId13" Type="http://schemas.openxmlformats.org/officeDocument/2006/relationships/hyperlink" Target="http://www.nysut.org/images/content/rfk_children_480_04.jpg" TargetMode="External"/><Relationship Id="rId14" Type="http://schemas.openxmlformats.org/officeDocument/2006/relationships/hyperlink" Target="http://global-gateways.com/vision.jpg" TargetMode="External"/><Relationship Id="rId15" Type="http://schemas.openxmlformats.org/officeDocument/2006/relationships/hyperlink" Target="http://webapps2.ucalgary.ca/~estrat/uofczine/wp-content/uploads/2008/12/localcharities.jpg" TargetMode="External"/><Relationship Id="rId16" Type="http://schemas.openxmlformats.org/officeDocument/2006/relationships/hyperlink" Target="http://www.bethanypcusa.org/images/colorful_hands.gif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iley Dindi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blogit.realwire.com/media/Help%20key.JPG"/>
          <p:cNvPicPr/>
          <p:nvPr/>
        </p:nvPicPr>
        <p:blipFill>
          <a:blip r:embed="rId1"/>
          <a:srcRect l="0" t="0" r="0" b="3681"/>
          <a:stretch/>
        </p:blipFill>
        <p:spPr>
          <a:xfrm>
            <a:off x="-380880" y="-304920"/>
            <a:ext cx="9524880" cy="7391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057400" y="1905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8120" y="3429000"/>
            <a:ext cx="396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429000" y="3276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Kiley Dind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capapgpc.org/images/helping-others.jpg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oundwaves.usgs.gov/2009/03/Mana1LG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nysut.org/images/content/rfk_children_480_04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learningfromlyrics.org/bystander_files/image002.jpg"/>
          <p:cNvPicPr/>
          <p:nvPr/>
        </p:nvPicPr>
        <p:blipFill>
          <a:blip r:embed="rId1"/>
          <a:stretch/>
        </p:blipFill>
        <p:spPr>
          <a:xfrm>
            <a:off x="0" y="0"/>
            <a:ext cx="9158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ebapps2.ucalgary.ca/~estrat/uofczine/wp-content/uploads/2008/12/localcharities.jpg"/>
          <p:cNvPicPr/>
          <p:nvPr/>
        </p:nvPicPr>
        <p:blipFill>
          <a:blip r:embed="rId1"/>
          <a:stretch/>
        </p:blipFill>
        <p:spPr>
          <a:xfrm>
            <a:off x="63360" y="-136440"/>
            <a:ext cx="8172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global-gateways.com/vision.jpg"/>
          <p:cNvPicPr/>
          <p:nvPr/>
        </p:nvPicPr>
        <p:blipFill>
          <a:blip r:embed="rId1"/>
          <a:stretch/>
        </p:blipFill>
        <p:spPr>
          <a:xfrm>
            <a:off x="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ttp://www.cringel.com/files/images/adia-2007-07-02-DSC-8687-two-ladies-holding-hands-on-a-street-in-malaysia-kuala-lumpur-cringel.com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92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sa.gov/international/world%20hands.jpg"/>
          <p:cNvPicPr/>
          <p:nvPr/>
        </p:nvPicPr>
        <p:blipFill>
          <a:blip r:embed="rId2"/>
          <a:stretch/>
        </p:blipFill>
        <p:spPr>
          <a:xfrm>
            <a:off x="4572000" y="3733920"/>
            <a:ext cx="4048200" cy="283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companionsinhope.com/images_global/seedling2.jpg"/>
          <p:cNvPicPr/>
          <p:nvPr/>
        </p:nvPicPr>
        <p:blipFill>
          <a:blip r:embed="rId3"/>
          <a:stretch/>
        </p:blipFill>
        <p:spPr>
          <a:xfrm>
            <a:off x="5057640" y="104760"/>
            <a:ext cx="3400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static.guim.co.uk/sys-images/Guardian/Pix/contributor/2010/1/14/1263488479383/Haiti-quake-aid-boy-recei-001.jpg"/>
          <p:cNvPicPr/>
          <p:nvPr/>
        </p:nvPicPr>
        <p:blipFill>
          <a:blip r:embed="rId1"/>
          <a:stretch/>
        </p:blipFill>
        <p:spPr>
          <a:xfrm>
            <a:off x="254160" y="762120"/>
            <a:ext cx="8889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digitalworldtokyo.com/entryimages/2007/05/070531_Kobe_earthqua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1f1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faithsa.org/images/FatherSon.jpg"/>
          <p:cNvPicPr/>
          <p:nvPr/>
        </p:nvPicPr>
        <p:blipFill>
          <a:blip r:embed="rId1"/>
          <a:stretch/>
        </p:blipFill>
        <p:spPr>
          <a:xfrm>
            <a:off x="0" y="0"/>
            <a:ext cx="46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guestworkerfraud.com/data.jpg"/>
          <p:cNvPicPr/>
          <p:nvPr/>
        </p:nvPicPr>
        <p:blipFill>
          <a:blip r:embed="rId1"/>
          <a:srcRect l="6560" t="6557" r="6560" b="14756"/>
          <a:stretch/>
        </p:blipFill>
        <p:spPr>
          <a:xfrm>
            <a:off x="0" y="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farm4.static.flickr.com/3254/2941682132_17175294dc.jpg"/>
          <p:cNvPicPr/>
          <p:nvPr/>
        </p:nvPicPr>
        <p:blipFill>
          <a:blip r:embed="rId2"/>
          <a:srcRect l="34429" t="32240" r="27870" b="32792"/>
          <a:stretch/>
        </p:blipFill>
        <p:spPr>
          <a:xfrm>
            <a:off x="4876920" y="685800"/>
            <a:ext cx="426708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atlantisbyelectionsward32.contributetochange.org.za/files/2009/10/Cam-pics-4-367.jpg"/>
          <p:cNvPicPr/>
          <p:nvPr/>
        </p:nvPicPr>
        <p:blipFill>
          <a:blip r:embed="rId3"/>
          <a:stretch/>
        </p:blipFill>
        <p:spPr>
          <a:xfrm>
            <a:off x="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762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sdc.uwo.ca/writing/images/0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520" y="1066680"/>
            <a:ext cx="308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uestworkerfraud.com/dat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4290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144792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arm4.static.flickr.com/3254/2941682132_17175294dc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8288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atlantisbyelectionsward32.contributetochange.org.za/files/2009/10/Cam-pics-4-36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209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cringel.com/files/images/adia-2007-07-02-DSC-8687-two-ladies-holding-hands-on-a-street-in-malaysia-kuala-lumpur-cringel.co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2819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ssa.gov/international/world%20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20040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companionsinhope.com/images_global/seedling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0" y="358128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discovertheworld.org/dtw-images/photos/b-holding_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9625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fammed.wisc.edu/files/images/feature_graphics/featured-others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42670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digitalworldtokyo.com/entryimages/2007/05/070531_Kobe_earthquak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760" y="4572000"/>
            <a:ext cx="28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faithsa.org/images/FatherS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137160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esentationzen.com/presentationzen/images/2007/08/14/generosit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10666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ailywordofgodgroup.com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259092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araburner.com/blog/wp-content/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oundwaves.usgs.gov/2009/03/Mana1LG.jpgloads/2009/09/helpinghan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457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blogit.realwire.com/media/Help%20ke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9810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way247.com/CIA_files/helping%20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62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godsmarketplacega.com/images/help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2286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tonyjimenezfoundation.org/assets/images/a_helping_other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1676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antiochglobaloutreach.net/AGO_LOGO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27672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csuci.edu/news/publication/current/2006-fall/images/helping_humanity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3581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learningfromlyrics.org/bystander_files/image0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886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capapgpc.org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4191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nysut.org/images/content/rfk_children_480_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4419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global-gateways.com/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0" y="4724280"/>
            <a:ext cx="640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ebapps2.ucalgary.ca/~estrat/uofczine/wp-content/uploads/2008/12/localchari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0" y="5105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ethanypcusa.org/images/colorful_hand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5410080"/>
            <a:ext cx="9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ophcommunity.oph.gov.au/cfs-filesystemfile.ashx/__key/CommunityServer.Components.ImageFileViewer/CommunityServer.Components.UserFiles.00.00.00.24.18/holding-hands3.jpg_2D00_600x45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22860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us.123rf.com/400wm/400/400/iofoto/iofoto0802/iofoto080200726/261689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0" y="6095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lv.zcache.com/cute_penguins_holding_hands_photosculpture-p153884523996977878qif5_21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0" y="6400800"/>
            <a:ext cx="716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onaldhousedurham.org/files/images/helping-a-military-family-in-need/help-militar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sdc.uwo.ca/writing/images/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taraburner.com/blog/wp-content/uploads/2009/09/helpinghands.jpg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dailywordofgodgroup.com/images/helping-others.jpg"/>
          <p:cNvPicPr/>
          <p:nvPr/>
        </p:nvPicPr>
        <p:blipFill>
          <a:blip r:embed="rId1"/>
          <a:stretch/>
        </p:blipFill>
        <p:spPr>
          <a:xfrm>
            <a:off x="0" y="0"/>
            <a:ext cx="46036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theway247.com/CIA_files/helping%20others.jpg"/>
          <p:cNvPicPr/>
          <p:nvPr/>
        </p:nvPicPr>
        <p:blipFill>
          <a:blip r:embed="rId2"/>
          <a:srcRect l="9141" t="0" r="21144" b="-56594"/>
          <a:stretch/>
        </p:blipFill>
        <p:spPr>
          <a:xfrm>
            <a:off x="4495680" y="1371600"/>
            <a:ext cx="4648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presentationzen.com/presentationzen/images/2007/08/14/generos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godsmarketplacega.com/images/helping.jpg"/>
          <p:cNvPicPr/>
          <p:nvPr/>
        </p:nvPicPr>
        <p:blipFill>
          <a:blip r:embed="rId1"/>
          <a:stretch/>
        </p:blipFill>
        <p:spPr>
          <a:xfrm>
            <a:off x="0" y="0"/>
            <a:ext cx="3571920" cy="538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onyjimenezfoundation.org/assets/images/a_helping_others.gif"/>
          <p:cNvPicPr/>
          <p:nvPr/>
        </p:nvPicPr>
        <p:blipFill>
          <a:blip r:embed="rId2"/>
          <a:stretch/>
        </p:blipFill>
        <p:spPr>
          <a:xfrm>
            <a:off x="3962520" y="1600200"/>
            <a:ext cx="4619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csuci.edu/news/publication/current/2006-fall/images/helping_humanity.gif"/>
          <p:cNvPicPr/>
          <p:nvPr/>
        </p:nvPicPr>
        <p:blipFill>
          <a:blip r:embed="rId1"/>
          <a:stretch/>
        </p:blipFill>
        <p:spPr>
          <a:xfrm>
            <a:off x="0" y="0"/>
            <a:ext cx="914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ntiochglobaloutreach.net/AGO_LOGO2.jpg"/>
          <p:cNvPicPr/>
          <p:nvPr/>
        </p:nvPicPr>
        <p:blipFill>
          <a:blip r:embed="rId1"/>
          <a:stretch/>
        </p:blipFill>
        <p:spPr>
          <a:xfrm>
            <a:off x="1447920" y="380880"/>
            <a:ext cx="6838920" cy="5591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828800" y="1600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438280" y="457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09680" y="6858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3574800">
            <a:off x="2957040" y="336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 rot="3574800">
            <a:off x="1966680" y="117432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 rot="4945800">
            <a:off x="3736800" y="2844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 rot="5997600">
            <a:off x="4736880" y="4896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 rot="1365000">
            <a:off x="5443200" y="90000"/>
            <a:ext cx="68580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 rot="8253000">
            <a:off x="5984280" y="777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 rot="20920800">
            <a:off x="6727680" y="226692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 rot="20286600">
            <a:off x="6575040" y="153684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0:36:32Z</dcterms:created>
  <dc:creator>ITSUser</dc:creator>
  <dc:description/>
  <dc:language>en-US</dc:language>
  <cp:lastModifiedBy>ITSUser</cp:lastModifiedBy>
  <dcterms:modified xsi:type="dcterms:W3CDTF">2010-01-28T17:53:12Z</dcterms:modified>
  <cp:revision>13</cp:revision>
  <dc:subject/>
  <dc:title>Communities Helping Each Other</dc:title>
</cp:coreProperties>
</file>