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0A0-DF48-4C82-83DF-AFC69507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217-4F6F-4435-AB34-46078D42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B4C-840A-44BE-AFC1-EC693D22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BBB-35CB-4409-A222-2805215E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5A56-F8B0-46BD-B6C0-C276FE89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E52D-0C07-4A03-8328-336B916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D1B0-9121-4F86-AF0E-42998A3B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ED82-6F9B-43F4-808C-B1081DF2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391C-59F4-4A1E-B7B0-9F14E4D7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ADEA-2472-4A70-A5D5-788DA8CE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85F9-F986-41D0-A3FC-D1371FF8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37E-9819-479B-8F9B-63CF58EB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EFD0-401E-4FAE-8569-793C4889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1625-92D6-4C99-90FC-C4A10E7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52E5-2E76-4793-815F-70F87FEA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5E91-C075-429D-9303-1C4E7B68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25B1-C917-415B-89E6-E1B1D545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6DB-435A-44A9-800A-5F10426B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F09-2E7F-4F49-AF80-2A100D64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50B-A2E0-460C-9ECD-FE74D887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AC1-23E5-4AEC-9B9E-D86332C8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64F-F92A-43D5-A6D2-9668B40B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56F-76DE-4D64-B6D8-6AF84CFF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244-EBE6-427E-836B-9B4BEFD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7D44-EC23-4240-A5BB-8DBE552CB05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DD36-D322-4BBF-A3F5-27043C29A61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imationfactory.com/en/search/close-up.html?&amp;oid=4970430&amp;s=1&amp;sc=1&amp;st=488&amp;category_id=E17&amp;spage=1&amp;hoid=db10533a1a83052a6ec8854f1edd4217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8883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 rot="16200000">
            <a:off x="7067520" y="390528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Book Antiqua"/>
              </a:rPr>
              <a:t>By:  Kyle Burke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Green Pencil Drawing Animated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3 0.17222 L 0.62916 0.58334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Book Antiqua"/>
              </a:rPr>
              <a:t>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514600" y="914400"/>
            <a:ext cx="66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thematical skills and concepts I learned and applied through my project were writing formulas to find the total of my grocery shopping or college planning expenses. But before all the that I knew is that I had to use all I knew about this so all I could do was my best and I would soon figure out how to d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Flashing Add Symbol Animated Clipart"/>
          <p:cNvPicPr/>
          <p:nvPr/>
        </p:nvPicPr>
        <p:blipFill>
          <a:blip r:embed="rId1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23 0.06274 C -0.31076 0.04815 -0.53159 0.0338 -0.5427 -0.02592 C -0.55416 -0.08611 -0.15538 -0.19583 -0.15711 -0.29791 C -0.1592 -0.39976 -0.46562 -0.69444 -0.55486 -0.63703 C -0.64392 -0.57916 -0.70052 0.01436 -0.69218 0.04815 C -0.6842 0.08334 -0.56701 -0.38194 -0.5059 -0.43078 C -0.44479 -0.48009 -0.29062 -0.31527 -0.32534 -0.24629 C -0.35989 -0.17731 -0.53628 -0.09722 -0.7125 -0.01689 E">
                                      <p:cBhvr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Book Antiqua"/>
              </a:rPr>
              <a:t>Technolog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48320" y="83808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new technology things I learned was how to make a formula in excel and how to use excel which at the beginning I had no idea how to 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File Server On Network Animated Clipart"/>
          <p:cNvPicPr/>
          <p:nvPr/>
        </p:nvPicPr>
        <p:blipFill>
          <a:blip r:embed="rId1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Affectiv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95280" y="8380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 learned about my self is that I like doing buying stuff that I might actually buy in life and it is so much fun and I like learning about things in the real world that I will have to deal with and know I’m going to do better in life with buying stuff for colleg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8380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 made all my decision’s was what I thought I would need and what I wouldn’t need and what I just wanted because I had unlimited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33Z</dcterms:created>
  <dc:creator>ITSUser</dc:creator>
  <dc:description/>
  <dc:language>en-US</dc:language>
  <cp:lastModifiedBy>ITSUser</cp:lastModifiedBy>
  <dcterms:modified xsi:type="dcterms:W3CDTF">2010-02-17T21:24:06Z</dcterms:modified>
  <cp:revision>7</cp:revision>
  <dc:subject/>
  <dc:title>College Planning Project Reflection</dc:title>
</cp:coreProperties>
</file>