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7A48-0DC4-42A0-8932-462E29E3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E771-9CF2-464A-9F84-F10C687C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F66F-070F-4A1F-8743-BE6F51755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33B0-A8F1-4101-BA37-201F8CEFB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8C8D2-F761-4089-948C-EF45D7A1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6560-A1A2-4654-9515-AC80F88F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0063-54AB-4F84-8AB4-13DBEDF4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CA9A-561D-42BD-B974-8EE248E4D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DEF90-9D9A-47AA-9643-DDD6F226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7C75-5877-4ECE-A021-2AA00B62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94E1-38E4-433A-9494-0B2EE1B5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0529-D272-4632-B18F-F55CBA50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CC30-047D-479D-BA03-8C08F289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C1C7-4CB5-4E95-8A8E-D6ABFC3B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D514-8EF4-4C12-B84F-F84DFA887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7D7F-7E55-4E57-A7DD-7E08CBDA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0EE1-603C-4581-946D-52548B57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F2BF-833F-44E0-826B-2D73DEE0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7DD-D0AA-49A5-B835-5D5064EA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8CEE-4FC4-4606-B17D-12EC650A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B636-D060-494E-8278-B7CBBF1F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D023-5354-46F3-BA47-945CE815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7AE9-02FC-4CCF-B7A1-F693EF20F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93B-46D2-471D-879A-C2985389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20A6-6EE2-4AD3-9294-2B307C2F901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72DB-4A88-42F3-82AD-3FDF26F1A61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animationfactory.com/en/search/close-up.html?&amp;oid=4970430&amp;s=1&amp;sc=1&amp;st=488&amp;category_id=E17&amp;spage=1&amp;hoid=db10533a1a83052a6ec8854f1edd4217" TargetMode="External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603360" y="-6480"/>
            <a:ext cx="7888320" cy="5943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 rot="16200000">
            <a:off x="7067520" y="3905280"/>
            <a:ext cx="411480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Book Antiqua"/>
              </a:rPr>
              <a:t>By:  Kyle Burkey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4" descr="Green Pencil Drawing Animated Clipar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083 0.17222 L 0.62916 0.58334 E">
                                      <p:cBhvr>
                                        <p:cTn id="6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2d050"/>
                </a:solidFill>
                <a:latin typeface="Book Antiqua"/>
              </a:rPr>
              <a:t>Mathematic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2514600" y="914400"/>
            <a:ext cx="6629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The mathematical skills and concepts I learned and applied through my project were writing formulas to find the total of my grocery shopping or college planning expenses. But before all the that I knew is that I had to use all I knew about this so all I could do was my best and I would soon figure out how to do 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Picture 4" descr="Flashing Add Symbol Animated Clipart"/>
          <p:cNvPicPr/>
          <p:nvPr/>
        </p:nvPicPr>
        <p:blipFill>
          <a:blip r:embed="rId1"/>
          <a:stretch/>
        </p:blipFill>
        <p:spPr>
          <a:xfrm>
            <a:off x="6324480" y="4038480"/>
            <a:ext cx="2819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923 0.06274 C -0.31076 0.04815 -0.53159 0.0338 -0.5427 -0.02592 C -0.55416 -0.08611 -0.15538 -0.19583 -0.15711 -0.29791 C -0.1592 -0.39976 -0.46562 -0.69444 -0.55486 -0.63703 C -0.64392 -0.57916 -0.70052 0.01436 -0.69218 0.04815 C -0.6842 0.08334 -0.56701 -0.38194 -0.5059 -0.43078 C -0.44479 -0.48009 -0.29062 -0.31527 -0.32534 -0.24629 C -0.35989 -0.17731 -0.53628 -0.09722 -0.7125 -0.01689 E">
                                      <p:cBhvr>
                                        <p:cTn id="12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2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2d050"/>
                </a:solidFill>
                <a:latin typeface="Book Antiqua"/>
              </a:rPr>
              <a:t>Technolog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4648320" y="838080"/>
            <a:ext cx="4495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he new technology things I learned was how to make a formula in excel and how to use excel which at the beginning I had no idea how to u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4" descr="File Server On Network Animated Clipart"/>
          <p:cNvPicPr/>
          <p:nvPr/>
        </p:nvPicPr>
        <p:blipFill>
          <a:blip r:embed="rId1"/>
          <a:stretch/>
        </p:blipFill>
        <p:spPr>
          <a:xfrm>
            <a:off x="0" y="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Affective Develop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1295280" y="838080"/>
            <a:ext cx="784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 learned about my self is that I like doing buying stuff that I might actually buy in life and it is so much fun and I like learning about things in the real world that I will have to deal with and know I’m going to do better in life with buying stuff for college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92d050"/>
                </a:solidFill>
                <a:latin typeface="Arial"/>
              </a:rPr>
              <a:t>Decision Ma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2"/>
          <p:cNvSpPr/>
          <p:nvPr/>
        </p:nvSpPr>
        <p:spPr>
          <a:xfrm>
            <a:off x="0" y="838080"/>
            <a:ext cx="9144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w I made all my decision’s was what I thought I would need and what I wouldn’t need and what I just wanted because I had unlimited mone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8:33Z</dcterms:created>
  <dc:creator>ITSUser</dc:creator>
  <dc:description/>
  <dc:language>en-US</dc:language>
  <cp:lastModifiedBy>ITSUser</cp:lastModifiedBy>
  <dcterms:modified xsi:type="dcterms:W3CDTF">2010-02-17T21:24:06Z</dcterms:modified>
  <cp:revision>7</cp:revision>
  <dc:subject/>
  <dc:title>College Planning Project Reflection</dc:title>
</cp:coreProperties>
</file>