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376-1547-4D2A-9900-0286B0786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C0E-A2C4-4522-A5E7-75D8F014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0160-7664-4972-A5DD-17014E6A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2EF9-FDAB-4F84-90C9-EFA6484D9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6C52-6391-4FF5-A749-F879D7BA5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28128-996F-4606-951F-6F5D41D2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3E64F-4E3F-4640-8857-6E9DD4EE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9D8B-E3D6-4072-8496-B60CC1BF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41E4-39EF-4BE2-B9DD-A1FBA86F7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3CD2-C363-4F43-AD83-3C0B305C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B7580-D01A-45DF-BCBF-4C171BC8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91DA-9BDC-49D5-B477-C100B3E6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11EB9-31D4-42BA-9BCC-2F31C95E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392A-AAB0-4A5E-B666-6A8F2F27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6356-A2E2-4127-B338-10818C6B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9E5EB-9630-4B2C-B286-60A78F467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DE2C-1D03-457E-B6BF-49F86B96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3CC9-7262-4808-8D4E-8E84D142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AD9-6994-443B-A8DA-A1E76A26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E91-8480-4750-8BC3-9D19212B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F908-76A8-4D25-97F0-93198D01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6515-825D-4101-9FB8-0C146017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0AC0-991D-4566-A810-A4A045AC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6B0-F9AE-431C-AA29-C330315E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F401-0972-4602-8E05-B96483AE4BC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1A10-A7E4-4440-B8FE-BEC03054171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nimationfactory.com/en/search/close-up.html?&amp;oid=4970430&amp;s=1&amp;sc=1&amp;st=488&amp;category_id=E17&amp;spage=1&amp;hoid=db10533a1a83052a6ec8854f1edd4217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788832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 rot="16200000">
            <a:off x="7067520" y="3905280"/>
            <a:ext cx="411480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Book Antiqua"/>
              </a:rPr>
              <a:t>By:  Kyle Burkey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4" descr="Green Pencil Drawing Animated Clipar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83 0.17222 L 0.62916 0.58334 E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2d050"/>
                </a:solidFill>
                <a:latin typeface="Book Antiqua"/>
              </a:rPr>
              <a:t>Mathema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514600" y="914400"/>
            <a:ext cx="6629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athematical skills and concepts I learned and applied through my project were writing formulas to find the total of my grocery shopping or college planning expenses. But before all the that I knew is that I had to use all I knew about this so all I could do was my best and I would soon figure out how to do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Flashing Add Symbol Animated Clipart"/>
          <p:cNvPicPr/>
          <p:nvPr/>
        </p:nvPicPr>
        <p:blipFill>
          <a:blip r:embed="rId1"/>
          <a:stretch/>
        </p:blipFill>
        <p:spPr>
          <a:xfrm>
            <a:off x="6324480" y="4038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23 0.06274 C -0.31076 0.04815 -0.53159 0.0338 -0.5427 -0.02592 C -0.55416 -0.08611 -0.15538 -0.19583 -0.15711 -0.29791 C -0.1592 -0.39976 -0.46562 -0.69444 -0.55486 -0.63703 C -0.64392 -0.57916 -0.70052 0.01436 -0.69218 0.04815 C -0.6842 0.08334 -0.56701 -0.38194 -0.5059 -0.43078 C -0.44479 -0.48009 -0.29062 -0.31527 -0.32534 -0.24629 C -0.35989 -0.17731 -0.53628 -0.09722 -0.7125 -0.01689 E">
                                      <p:cBhvr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2d050"/>
                </a:solidFill>
                <a:latin typeface="Book Antiqua"/>
              </a:rPr>
              <a:t>Technolog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48320" y="838080"/>
            <a:ext cx="449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new technology things I learned was how to make a formula in excel and how to use excel which at the beginning I had no idea how to u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File Server On Network Animated Clipart"/>
          <p:cNvPicPr/>
          <p:nvPr/>
        </p:nvPicPr>
        <p:blipFill>
          <a:blip r:embed="rId1"/>
          <a:stretch/>
        </p:blipFill>
        <p:spPr>
          <a:xfrm>
            <a:off x="0" y="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Affective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95280" y="83808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 learned about my self is that I like doing buying stuff that I might actually buy in life and it is so much fun and I like learning about things in the real world that I will have to deal with and know I’m going to do better in life with buying stuff for colleg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Decision Ma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0" y="8380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 made all my decision’s was what I thought I would need and what I wouldn’t need and what I just wanted because I had unlimited mone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8:33Z</dcterms:created>
  <dc:creator>ITSUser</dc:creator>
  <dc:description/>
  <dc:language>en-US</dc:language>
  <cp:lastModifiedBy>ITSUser</cp:lastModifiedBy>
  <dcterms:modified xsi:type="dcterms:W3CDTF">2010-02-17T21:24:06Z</dcterms:modified>
  <cp:revision>7</cp:revision>
  <dc:subject/>
  <dc:title>College Planning Project Reflection</dc:title>
</cp:coreProperties>
</file>