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6FF-743A-44FF-85FC-771D7476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BDD-5134-40A3-A0FE-E7C6DC47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392-BEB5-4216-9D10-95C175DA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682-9CCA-4269-9893-63A446CB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ABC4-EDC8-434F-A289-B30C9593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6064-642A-47EC-9F27-478C468C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0E9E-4113-4D5D-AD5F-C2652D47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6F84-5F4A-4634-A7F8-C22FA1A3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D2D1-A3D6-482B-8B0B-4194D74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61F0-0FBF-4468-9991-42A84DB8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5659-451F-4FCA-9AE8-05FCD390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852-79D2-4C49-A654-F86FD36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FFD7-618C-4230-87E6-4B0B658C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98C0-1B47-4DC9-B0D9-AA74E0FB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80CE-AC9E-48AE-AF28-B042883D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7100-BDC6-4D86-97E1-492934AD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0459-5F67-4FBA-BA28-82626C9B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8AF-D4F8-4371-ACF9-FBEA49F1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9F8-9E01-4EB4-B56A-58F01EDA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659-8806-4E26-AEEB-DADD83E2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BCA-59B7-4F6E-B5E6-8B094D86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E4F-CFCA-45B1-86A3-13E692C4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5CC-5E60-4E33-929E-0E42BF96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C26-01B7-4026-A40F-3B9C9FC9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7A04-DD58-4E43-90AE-79173B8880C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479C-22A6-431A-A17D-E74834BC40A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nimationfactory.com/en/search/close-up.html?&amp;oid=4970430&amp;s=1&amp;sc=1&amp;st=488&amp;category_id=E17&amp;spage=1&amp;hoid=db10533a1a83052a6ec8854f1edd4217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88832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 rot="16200000">
            <a:off x="7067520" y="3905280"/>
            <a:ext cx="411480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Book Antiqua"/>
              </a:rPr>
              <a:t>By:  Kyle Burke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4" descr="Green Pencil Drawing Animated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83 0.17222 L 0.62916 0.58334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Book Antiqua"/>
              </a:rPr>
              <a:t>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514600" y="914400"/>
            <a:ext cx="66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athematical skills and concepts I learned and applied through my project were writing formulas to find the total of my grocery shopping or college planning expenses. But before all the that I knew is that I had to use all I knew about this so all I could do was my best and I would soon figure out how to do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Flashing Add Symbol Animated Clipart"/>
          <p:cNvPicPr/>
          <p:nvPr/>
        </p:nvPicPr>
        <p:blipFill>
          <a:blip r:embed="rId1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23 0.06274 C -0.31076 0.04815 -0.53159 0.0338 -0.5427 -0.02592 C -0.55416 -0.08611 -0.15538 -0.19583 -0.15711 -0.29791 C -0.1592 -0.39976 -0.46562 -0.69444 -0.55486 -0.63703 C -0.64392 -0.57916 -0.70052 0.01436 -0.69218 0.04815 C -0.6842 0.08334 -0.56701 -0.38194 -0.5059 -0.43078 C -0.44479 -0.48009 -0.29062 -0.31527 -0.32534 -0.24629 C -0.35989 -0.17731 -0.53628 -0.09722 -0.7125 -0.01689 E">
                                      <p:cBhvr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Book Antiqua"/>
              </a:rPr>
              <a:t>Technolog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48320" y="83808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new technology things I learned was how to make a formula in excel and how to use excel which at the beginning I had no idea how to 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File Server On Network Animated Clipart"/>
          <p:cNvPicPr/>
          <p:nvPr/>
        </p:nvPicPr>
        <p:blipFill>
          <a:blip r:embed="rId1"/>
          <a:stretch/>
        </p:blipFill>
        <p:spPr>
          <a:xfrm>
            <a:off x="0" y="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Affectiv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95280" y="8380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 learned about my self is that I like doing buying stuff that I might actually buy in life and it is so much fun and I like learning about things in the real world that I will have to deal with and know I’m going to do better in life with buying stuff for colleg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8380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 made all my decision’s was what I thought I would need and what I wouldn’t need and what I just wanted because I had unlimited mone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33Z</dcterms:created>
  <dc:creator>ITSUser</dc:creator>
  <dc:description/>
  <dc:language>en-US</dc:language>
  <cp:lastModifiedBy>ITSUser</cp:lastModifiedBy>
  <dcterms:modified xsi:type="dcterms:W3CDTF">2010-02-17T21:24:06Z</dcterms:modified>
  <cp:revision>7</cp:revision>
  <dc:subject/>
  <dc:title>College Planning Project Reflection</dc:title>
</cp:coreProperties>
</file>