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gif" ContentType="image/gif"/>
  <Override PartName="/ppt/media/image4.gif" ContentType="image/gif"/>
  <Override PartName="/ppt/media/image5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584AB-9A84-4A56-8861-6D8C01C10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0C367-1DC8-42F6-970A-1AD684B64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C993D-EF22-412A-915C-A7005F8DE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7E356-CB1D-4CC2-83A5-6AD1F1FED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6CF7A-9112-4E10-BA12-66D8362ED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59E09-3D7E-4B25-AE2F-8E7EAD7FA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880D9-2A47-4B6D-A9F0-6C1D6DB55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656F2-186A-479E-BD52-503E34816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ABACE-638C-43F8-ABF4-DEB934F2F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8DADD-1775-45F1-BD6D-6C3F38FF2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45C6E-9CF5-42E3-89BC-F895EE922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3D52A-0E13-4FD5-A36D-1A54BC87F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BD9FF-5F00-4C52-AC75-6E98D8117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207F2-CBEF-4BFC-B2DC-9B46F5B28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F05B6-D858-4054-8068-AFA527234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5976D-A6C7-4D9B-9EF1-FC66DC9CE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4F15C-A6B7-430C-8FF3-294536B40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74324-9954-4CBF-A665-A8C1B4BF1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ACF64-5399-460D-B551-7C23B27BB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9C685-8AC9-476F-910F-F92ED59C6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2C586-922B-417D-AEC2-5EAA36FCC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03B35-13D0-4E5E-AD09-2799EC605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B686F-9CAF-483C-BFD8-88A0B51EC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A4669-ED45-40F0-AE08-FDE09CDC8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7A63D-24B7-4353-8DB3-0158B460B8D5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A552A-1A69-4F6C-9FC6-93A94FC6B83D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animationfactory.com/en/search/close-up.html?&amp;oid=4970430&amp;s=1&amp;sc=1&amp;st=488&amp;category_id=E17&amp;spage=1&amp;hoid=db10533a1a83052a6ec8854f1edd4217" TargetMode="External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Title 1" descr=""/>
          <p:cNvPicPr/>
          <p:nvPr/>
        </p:nvPicPr>
        <p:blipFill>
          <a:blip r:embed="rId1"/>
          <a:stretch/>
        </p:blipFill>
        <p:spPr>
          <a:xfrm>
            <a:off x="603360" y="-6480"/>
            <a:ext cx="7888320" cy="59436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 rot="16200000">
            <a:off x="7067520" y="3905280"/>
            <a:ext cx="4114800" cy="179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2d050"/>
                </a:solidFill>
                <a:latin typeface="Book Antiqua"/>
              </a:rPr>
              <a:t>By:  Kyle Burkey</a:t>
            </a: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84" name="Picture 4" descr="Green Pencil Drawing Animated Clipart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236232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2083 0.17222 L 0.62916 0.58334 E">
                                      <p:cBhvr>
                                        <p:cTn id="6" dur="2000" fill="hold"/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Box 1"/>
          <p:cNvSpPr/>
          <p:nvPr/>
        </p:nvSpPr>
        <p:spPr>
          <a:xfrm>
            <a:off x="0" y="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2d050"/>
                </a:solidFill>
                <a:latin typeface="Book Antiqua"/>
              </a:rPr>
              <a:t>Mathematic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Box 3"/>
          <p:cNvSpPr/>
          <p:nvPr/>
        </p:nvSpPr>
        <p:spPr>
          <a:xfrm>
            <a:off x="2514600" y="914400"/>
            <a:ext cx="6629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The mathematical skills and concepts I learned and applied through my project were writing formulas to find the total of my grocery shopping or college planning expenses. But before all the that I knew is that I had to use all I knew about this so all I could do was my best and I would soon figure out how to do it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7" name="Picture 4" descr="Flashing Add Symbol Animated Clipart"/>
          <p:cNvPicPr/>
          <p:nvPr/>
        </p:nvPicPr>
        <p:blipFill>
          <a:blip r:embed="rId1"/>
          <a:stretch/>
        </p:blipFill>
        <p:spPr>
          <a:xfrm>
            <a:off x="6324480" y="4038480"/>
            <a:ext cx="281952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8923 0.06274 C -0.31076 0.04815 -0.53159 0.0338 -0.5427 -0.02592 C -0.55416 -0.08611 -0.15538 -0.19583 -0.15711 -0.29791 C -0.1592 -0.39976 -0.46562 -0.69444 -0.55486 -0.63703 C -0.64392 -0.57916 -0.70052 0.01436 -0.69218 0.04815 C -0.6842 0.08334 -0.56701 -0.38194 -0.5059 -0.43078 C -0.44479 -0.48009 -0.29062 -0.31527 -0.32534 -0.24629 C -0.35989 -0.17731 -0.53628 -0.09722 -0.7125 -0.01689 E">
                                      <p:cBhvr>
                                        <p:cTn id="12" dur="2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Box 2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92d050"/>
                </a:solidFill>
                <a:latin typeface="Book Antiqua"/>
              </a:rPr>
              <a:t>Technology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Box 4"/>
          <p:cNvSpPr/>
          <p:nvPr/>
        </p:nvSpPr>
        <p:spPr>
          <a:xfrm>
            <a:off x="4648320" y="838080"/>
            <a:ext cx="44956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ok Antiqua"/>
              </a:rPr>
              <a:t>The new technology things I learned was how to make a formula in excel and how to use excel which at the beginning I had no idea how to us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" name="Picture 4" descr="File Server On Network Animated Clipart"/>
          <p:cNvPicPr/>
          <p:nvPr/>
        </p:nvPicPr>
        <p:blipFill>
          <a:blip r:embed="rId1"/>
          <a:stretch/>
        </p:blipFill>
        <p:spPr>
          <a:xfrm>
            <a:off x="0" y="0"/>
            <a:ext cx="449568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33 E">
                                      <p:cBhvr>
                                        <p:cTn id="18" dur="2000" fill="hold"/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Box 1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2d05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92d05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92d050"/>
                </a:solidFill>
                <a:latin typeface="Arial"/>
              </a:rPr>
              <a:t>Affective Develop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Box 2"/>
          <p:cNvSpPr/>
          <p:nvPr/>
        </p:nvSpPr>
        <p:spPr>
          <a:xfrm>
            <a:off x="1295280" y="838080"/>
            <a:ext cx="7848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I learned about my self is that I like doing buying stuff that I might actually buy in life and it is so much fun and I like learning about things in the real world that I will have to deal with and know I’m going to do better in life with buying stuff for college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Box 1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2d05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92d05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92d05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92d050"/>
                </a:solidFill>
                <a:latin typeface="Arial"/>
              </a:rPr>
              <a:t>Decision Mak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Box 2"/>
          <p:cNvSpPr/>
          <p:nvPr/>
        </p:nvSpPr>
        <p:spPr>
          <a:xfrm>
            <a:off x="0" y="838080"/>
            <a:ext cx="91440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w I made all my decision’s was what I thought I would need and what I wouldn’t need and what I just wanted because I had unlimited money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3T20:48:33Z</dcterms:created>
  <dc:creator>ITSUser</dc:creator>
  <dc:description/>
  <dc:language>en-US</dc:language>
  <cp:lastModifiedBy>ITSUser</cp:lastModifiedBy>
  <dcterms:modified xsi:type="dcterms:W3CDTF">2010-02-17T21:24:06Z</dcterms:modified>
  <cp:revision>7</cp:revision>
  <dc:subject/>
  <dc:title>College Planning Project Reflection</dc:title>
</cp:coreProperties>
</file>